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329-7DEA-4F36-9135-675D580E1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9 + 12 = 21   2.  6 x 4 = 24   3. 5 x 3 = 15    4. 12 + 10 =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x 256 + 20 + 1,536 + 20 = 1,7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81 – 9 = 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5 / 7 = 9     4. 5 + 512/64= 5+8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1AF-4682-4AC8-AC7C-17429C70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F03-C991-4943-AECD-6D141F7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964-8934-40CD-BF12-D8FF5DFD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F5D-72A4-41BA-9BCA-72AEBF17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D8B-1662-4ABB-B229-140ABE85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C24-2087-4C7C-8373-E1A6DE76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4AB-8A7A-4A27-BB4D-EA517C1F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AD7-581B-4DDD-816B-D97436F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A2F7-693A-4CA7-A35E-566E870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5542-5F86-4B95-8882-94174840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4BB6-BF82-4B47-9DBE-0779A72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EF7-C111-4675-9EA5-EBE514D1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EBD-32E1-40B0-9A47-6B9A28D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FCD-C6E7-4B87-A3AF-3FF8C5C2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51B-39F6-4545-A0B9-4C7D311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ECA-CFD6-4781-AE6F-40E69A0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2C7-81A5-45A3-A53A-1E8AA5B1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36D-55CD-47BF-849C-F7C6118C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FFB-CB85-4AF3-951C-CC24018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A3-102C-4D0A-9876-47F707AA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30B-515B-410B-A80E-78A6C02F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152-6D40-48D8-B7CE-05CDBC0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4BD-6568-496B-A5D8-DC6FF9F7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FFB-75F9-46A8-A11B-AE307DE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5721-C39D-4D03-B7A9-74316EE78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316A-18A2-4034-9700-1693B2E0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ainpop.com/math/numbersandoperations/orderofoperations/" TargetMode="External"/><Relationship Id="rId2" Type="http://schemas.openxmlformats.org/officeDocument/2006/relationships/hyperlink" Target="http://www.brainpop.com/math/numbersandoperations/orderofoperation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- U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7x7 or 49, then the square root of 49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752480" y="18288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593640" y="2932200"/>
            <a:ext cx="66452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66680" y="5181480"/>
                <a:ext cx="838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839960" y="3741840"/>
            <a:ext cx="1687320" cy="1044360"/>
          </a:xfrm>
          <a:custGeom>
            <a:avLst/>
            <a:gdLst/>
            <a:ahLst/>
            <a:rect l="l" t="t" r="r" b="b"/>
            <a:pathLst>
              <a:path w="4689" h="2903">
                <a:moveTo>
                  <a:pt x="5854" y="10542"/>
                </a:moveTo>
                <a:cubicBezTo>
                  <a:pt x="5800" y="10534"/>
                  <a:pt x="5605" y="10474"/>
                  <a:pt x="5556" y="10517"/>
                </a:cubicBezTo>
                <a:cubicBezTo>
                  <a:pt x="5482" y="10582"/>
                  <a:pt x="5458" y="10750"/>
                  <a:pt x="5432" y="10840"/>
                </a:cubicBezTo>
                <a:cubicBezTo>
                  <a:pt x="5507" y="10840"/>
                  <a:pt x="5699" y="10810"/>
                  <a:pt x="5755" y="10864"/>
                </a:cubicBezTo>
                <a:cubicBezTo>
                  <a:pt x="5900" y="11004"/>
                  <a:pt x="5743" y="11295"/>
                  <a:pt x="5556" y="11286"/>
                </a:cubicBezTo>
                <a:cubicBezTo>
                  <a:pt x="5459" y="11238"/>
                  <a:pt x="5427" y="11224"/>
                  <a:pt x="5432" y="11137"/>
                </a:cubicBezTo>
              </a:path>
              <a:path w="4689" h="2903">
                <a:moveTo>
                  <a:pt x="6251" y="10716"/>
                </a:moveTo>
                <a:cubicBezTo>
                  <a:pt x="6281" y="10751"/>
                  <a:pt x="6471" y="11046"/>
                  <a:pt x="6499" y="11038"/>
                </a:cubicBezTo>
                <a:cubicBezTo>
                  <a:pt x="6507" y="11021"/>
                  <a:pt x="6516" y="11005"/>
                  <a:pt x="6524" y="10988"/>
                </a:cubicBezTo>
              </a:path>
              <a:path w="4689" h="2903">
                <a:moveTo>
                  <a:pt x="6548" y="10592"/>
                </a:moveTo>
                <a:cubicBezTo>
                  <a:pt x="6514" y="10646"/>
                  <a:pt x="6267" y="10964"/>
                  <a:pt x="6300" y="11013"/>
                </a:cubicBezTo>
                <a:cubicBezTo>
                  <a:pt x="6308" y="11005"/>
                  <a:pt x="6317" y="10996"/>
                  <a:pt x="6325" y="10988"/>
                </a:cubicBezTo>
              </a:path>
              <a:path w="4689" h="2903">
                <a:moveTo>
                  <a:pt x="7193" y="10443"/>
                </a:moveTo>
                <a:cubicBezTo>
                  <a:pt x="7136" y="10466"/>
                  <a:pt x="6954" y="10486"/>
                  <a:pt x="6921" y="10542"/>
                </a:cubicBezTo>
                <a:cubicBezTo>
                  <a:pt x="6890" y="10595"/>
                  <a:pt x="6871" y="10700"/>
                  <a:pt x="6871" y="10765"/>
                </a:cubicBezTo>
                <a:cubicBezTo>
                  <a:pt x="6944" y="10758"/>
                  <a:pt x="7122" y="10688"/>
                  <a:pt x="7169" y="10790"/>
                </a:cubicBezTo>
                <a:cubicBezTo>
                  <a:pt x="7261" y="10989"/>
                  <a:pt x="7019" y="11100"/>
                  <a:pt x="6871" y="11063"/>
                </a:cubicBezTo>
                <a:cubicBezTo>
                  <a:pt x="6782" y="11018"/>
                  <a:pt x="6752" y="11012"/>
                  <a:pt x="6747" y="10939"/>
                </a:cubicBezTo>
              </a:path>
              <a:path w="4689" h="2903">
                <a:moveTo>
                  <a:pt x="7789" y="10716"/>
                </a:moveTo>
                <a:cubicBezTo>
                  <a:pt x="7896" y="10716"/>
                  <a:pt x="8004" y="10716"/>
                  <a:pt x="8111" y="10716"/>
                </a:cubicBezTo>
              </a:path>
              <a:path w="4689" h="2903">
                <a:moveTo>
                  <a:pt x="8880" y="10418"/>
                </a:moveTo>
                <a:cubicBezTo>
                  <a:pt x="9083" y="10437"/>
                  <a:pt x="9222" y="10552"/>
                  <a:pt x="9153" y="10790"/>
                </a:cubicBezTo>
                <a:cubicBezTo>
                  <a:pt x="9079" y="11046"/>
                  <a:pt x="8820" y="10967"/>
                  <a:pt x="8731" y="10840"/>
                </a:cubicBezTo>
                <a:cubicBezTo>
                  <a:pt x="8896" y="10724"/>
                  <a:pt x="8882" y="10802"/>
                  <a:pt x="9029" y="10889"/>
                </a:cubicBezTo>
                <a:cubicBezTo>
                  <a:pt x="9054" y="10897"/>
                  <a:pt x="9078" y="10906"/>
                  <a:pt x="9103" y="10914"/>
                </a:cubicBezTo>
              </a:path>
              <a:path w="4689" h="2903">
                <a:moveTo>
                  <a:pt x="9748" y="10393"/>
                </a:moveTo>
                <a:cubicBezTo>
                  <a:pt x="9668" y="10393"/>
                  <a:pt x="9602" y="10412"/>
                  <a:pt x="9525" y="10418"/>
                </a:cubicBezTo>
                <a:cubicBezTo>
                  <a:pt x="9482" y="10421"/>
                  <a:pt x="9435" y="10524"/>
                  <a:pt x="9401" y="10567"/>
                </a:cubicBezTo>
                <a:cubicBezTo>
                  <a:pt x="9466" y="10616"/>
                  <a:pt x="9543" y="10581"/>
                  <a:pt x="9624" y="10592"/>
                </a:cubicBezTo>
                <a:cubicBezTo>
                  <a:pt x="9746" y="10609"/>
                  <a:pt x="9915" y="10817"/>
                  <a:pt x="9748" y="10914"/>
                </a:cubicBezTo>
                <a:cubicBezTo>
                  <a:pt x="9561" y="11023"/>
                  <a:pt x="9431" y="10884"/>
                  <a:pt x="9302" y="10790"/>
                </a:cubicBezTo>
              </a:path>
              <a:path w="4689" h="2903">
                <a:moveTo>
                  <a:pt x="5531" y="12799"/>
                </a:moveTo>
                <a:cubicBezTo>
                  <a:pt x="5531" y="12705"/>
                  <a:pt x="5529" y="12646"/>
                  <a:pt x="5432" y="12601"/>
                </a:cubicBezTo>
                <a:cubicBezTo>
                  <a:pt x="5212" y="12498"/>
                  <a:pt x="5143" y="12755"/>
                  <a:pt x="5135" y="12898"/>
                </a:cubicBezTo>
                <a:cubicBezTo>
                  <a:pt x="5315" y="12898"/>
                  <a:pt x="5333" y="12849"/>
                  <a:pt x="5482" y="12774"/>
                </a:cubicBezTo>
                <a:cubicBezTo>
                  <a:pt x="5482" y="12883"/>
                  <a:pt x="5410" y="13347"/>
                  <a:pt x="5531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37080" y="359892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2601" y="10443"/>
                </a:moveTo>
                <a:cubicBezTo>
                  <a:pt x="12674" y="10567"/>
                  <a:pt x="12740" y="10684"/>
                  <a:pt x="12799" y="10815"/>
                </a:cubicBezTo>
                <a:cubicBezTo>
                  <a:pt x="12811" y="10619"/>
                  <a:pt x="12815" y="10413"/>
                  <a:pt x="12849" y="10220"/>
                </a:cubicBezTo>
                <a:cubicBezTo>
                  <a:pt x="12886" y="10088"/>
                  <a:pt x="12903" y="10074"/>
                  <a:pt x="12898" y="9996"/>
                </a:cubicBezTo>
                <a:cubicBezTo>
                  <a:pt x="13056" y="10028"/>
                  <a:pt x="13229" y="10032"/>
                  <a:pt x="13395" y="10046"/>
                </a:cubicBezTo>
                <a:cubicBezTo>
                  <a:pt x="13610" y="10065"/>
                  <a:pt x="13859" y="10047"/>
                  <a:pt x="14064" y="10071"/>
                </a:cubicBezTo>
                <a:cubicBezTo>
                  <a:pt x="14064" y="10079"/>
                  <a:pt x="14064" y="10088"/>
                  <a:pt x="14064" y="10096"/>
                </a:cubicBezTo>
              </a:path>
              <a:path w="1464" h="869">
                <a:moveTo>
                  <a:pt x="13122" y="10294"/>
                </a:moveTo>
                <a:cubicBezTo>
                  <a:pt x="13241" y="10173"/>
                  <a:pt x="13369" y="10325"/>
                  <a:pt x="13345" y="10492"/>
                </a:cubicBezTo>
                <a:cubicBezTo>
                  <a:pt x="13309" y="10735"/>
                  <a:pt x="13125" y="10767"/>
                  <a:pt x="12948" y="10716"/>
                </a:cubicBezTo>
                <a:cubicBezTo>
                  <a:pt x="12880" y="10579"/>
                  <a:pt x="13184" y="10666"/>
                  <a:pt x="13246" y="10691"/>
                </a:cubicBezTo>
                <a:cubicBezTo>
                  <a:pt x="13370" y="10741"/>
                  <a:pt x="13291" y="10788"/>
                  <a:pt x="13395" y="10716"/>
                </a:cubicBezTo>
              </a:path>
              <a:path w="1464" h="869">
                <a:moveTo>
                  <a:pt x="13841" y="10344"/>
                </a:moveTo>
                <a:cubicBezTo>
                  <a:pt x="13774" y="10333"/>
                  <a:pt x="13660" y="10285"/>
                  <a:pt x="13593" y="10319"/>
                </a:cubicBezTo>
                <a:cubicBezTo>
                  <a:pt x="13592" y="10319"/>
                  <a:pt x="13542" y="10505"/>
                  <a:pt x="13543" y="10517"/>
                </a:cubicBezTo>
                <a:cubicBezTo>
                  <a:pt x="13551" y="10525"/>
                  <a:pt x="13560" y="10534"/>
                  <a:pt x="13568" y="10542"/>
                </a:cubicBezTo>
                <a:cubicBezTo>
                  <a:pt x="13673" y="10530"/>
                  <a:pt x="13999" y="10518"/>
                  <a:pt x="13891" y="10740"/>
                </a:cubicBezTo>
                <a:cubicBezTo>
                  <a:pt x="13791" y="10946"/>
                  <a:pt x="13586" y="10864"/>
                  <a:pt x="13543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3652920"/>
            <a:ext cx="446040" cy="214200"/>
          </a:xfrm>
          <a:custGeom>
            <a:avLst/>
            <a:gdLst/>
            <a:ahLst/>
            <a:rect l="l" t="t" r="r" b="b"/>
            <a:pathLst>
              <a:path w="1241" h="596">
                <a:moveTo>
                  <a:pt x="14908" y="10368"/>
                </a:moveTo>
                <a:cubicBezTo>
                  <a:pt x="15002" y="10368"/>
                  <a:pt x="15206" y="10343"/>
                  <a:pt x="15205" y="10393"/>
                </a:cubicBezTo>
              </a:path>
              <a:path w="1241" h="596">
                <a:moveTo>
                  <a:pt x="16098" y="10195"/>
                </a:moveTo>
                <a:cubicBezTo>
                  <a:pt x="16049" y="10178"/>
                  <a:pt x="15925" y="10139"/>
                  <a:pt x="15875" y="10145"/>
                </a:cubicBezTo>
                <a:cubicBezTo>
                  <a:pt x="15859" y="10147"/>
                  <a:pt x="15701" y="10268"/>
                  <a:pt x="15701" y="10269"/>
                </a:cubicBezTo>
                <a:cubicBezTo>
                  <a:pt x="15701" y="10286"/>
                  <a:pt x="15701" y="10302"/>
                  <a:pt x="15701" y="10319"/>
                </a:cubicBezTo>
                <a:cubicBezTo>
                  <a:pt x="15771" y="10336"/>
                  <a:pt x="15845" y="10350"/>
                  <a:pt x="15925" y="10368"/>
                </a:cubicBezTo>
                <a:cubicBezTo>
                  <a:pt x="16071" y="10401"/>
                  <a:pt x="16250" y="10512"/>
                  <a:pt x="16073" y="10666"/>
                </a:cubicBezTo>
                <a:cubicBezTo>
                  <a:pt x="15939" y="10782"/>
                  <a:pt x="15736" y="10775"/>
                  <a:pt x="15627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98800" y="3919680"/>
            <a:ext cx="5054400" cy="1590480"/>
          </a:xfrm>
          <a:custGeom>
            <a:avLst/>
            <a:gdLst/>
            <a:ahLst/>
            <a:rect l="l" t="t" r="r" b="b"/>
            <a:pathLst>
              <a:path w="14041" h="4416">
                <a:moveTo>
                  <a:pt x="7739" y="10939"/>
                </a:moveTo>
                <a:cubicBezTo>
                  <a:pt x="7873" y="10939"/>
                  <a:pt x="7941" y="10930"/>
                  <a:pt x="8037" y="10889"/>
                </a:cubicBezTo>
              </a:path>
              <a:path w="14041" h="4416">
                <a:moveTo>
                  <a:pt x="8037" y="10889"/>
                </a:moveTo>
                <a:lnTo>
                  <a:pt x="8037" y="10889"/>
                </a:lnTo>
              </a:path>
              <a:path w="14041" h="4416">
                <a:moveTo>
                  <a:pt x="5829" y="12799"/>
                </a:moveTo>
                <a:cubicBezTo>
                  <a:pt x="5894" y="12929"/>
                  <a:pt x="5937" y="13064"/>
                  <a:pt x="6003" y="13196"/>
                </a:cubicBezTo>
              </a:path>
              <a:path w="14041" h="4416">
                <a:moveTo>
                  <a:pt x="6102" y="12750"/>
                </a:moveTo>
                <a:cubicBezTo>
                  <a:pt x="6040" y="12846"/>
                  <a:pt x="5713" y="13241"/>
                  <a:pt x="5978" y="13097"/>
                </a:cubicBezTo>
              </a:path>
              <a:path w="14041" h="4416">
                <a:moveTo>
                  <a:pt x="7268" y="12824"/>
                </a:moveTo>
                <a:cubicBezTo>
                  <a:pt x="7418" y="12790"/>
                  <a:pt x="7542" y="12758"/>
                  <a:pt x="7689" y="12799"/>
                </a:cubicBezTo>
              </a:path>
              <a:path w="14041" h="4416">
                <a:moveTo>
                  <a:pt x="7392" y="12948"/>
                </a:moveTo>
                <a:cubicBezTo>
                  <a:pt x="7577" y="12936"/>
                  <a:pt x="7754" y="12904"/>
                  <a:pt x="7938" y="12874"/>
                </a:cubicBezTo>
              </a:path>
              <a:path w="14041" h="4416">
                <a:moveTo>
                  <a:pt x="14114" y="12427"/>
                </a:moveTo>
                <a:cubicBezTo>
                  <a:pt x="14264" y="12444"/>
                  <a:pt x="14381" y="12425"/>
                  <a:pt x="14536" y="12402"/>
                </a:cubicBezTo>
              </a:path>
              <a:path w="14041" h="4416">
                <a:moveTo>
                  <a:pt x="14511" y="14412"/>
                </a:moveTo>
                <a:cubicBezTo>
                  <a:pt x="14646" y="14383"/>
                  <a:pt x="14771" y="14368"/>
                  <a:pt x="14908" y="14362"/>
                </a:cubicBezTo>
              </a:path>
              <a:path w="14041" h="4416">
                <a:moveTo>
                  <a:pt x="14486" y="14684"/>
                </a:moveTo>
                <a:cubicBezTo>
                  <a:pt x="14643" y="14654"/>
                  <a:pt x="14718" y="14638"/>
                  <a:pt x="14833" y="14610"/>
                </a:cubicBezTo>
              </a:path>
              <a:path w="14041" h="4416">
                <a:moveTo>
                  <a:pt x="19645" y="15056"/>
                </a:moveTo>
                <a:cubicBezTo>
                  <a:pt x="19760" y="15034"/>
                  <a:pt x="19793" y="15026"/>
                  <a:pt x="19869" y="15032"/>
                </a:cubicBezTo>
              </a:path>
              <a:path w="14041" h="4416">
                <a:moveTo>
                  <a:pt x="19521" y="15304"/>
                </a:moveTo>
                <a:cubicBezTo>
                  <a:pt x="19678" y="15279"/>
                  <a:pt x="19736" y="15270"/>
                  <a:pt x="19844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4510080"/>
            <a:ext cx="142920" cy="25884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6871" y="12750"/>
                </a:moveTo>
                <a:cubicBezTo>
                  <a:pt x="6891" y="12632"/>
                  <a:pt x="6888" y="12677"/>
                  <a:pt x="6846" y="12551"/>
                </a:cubicBezTo>
                <a:cubicBezTo>
                  <a:pt x="6729" y="12559"/>
                  <a:pt x="6402" y="12720"/>
                  <a:pt x="6499" y="12923"/>
                </a:cubicBezTo>
                <a:cubicBezTo>
                  <a:pt x="6578" y="13087"/>
                  <a:pt x="6831" y="12765"/>
                  <a:pt x="6871" y="12725"/>
                </a:cubicBezTo>
                <a:cubicBezTo>
                  <a:pt x="6879" y="12717"/>
                  <a:pt x="6888" y="12708"/>
                  <a:pt x="6896" y="12700"/>
                </a:cubicBezTo>
                <a:cubicBezTo>
                  <a:pt x="6873" y="12858"/>
                  <a:pt x="6816" y="13011"/>
                  <a:pt x="6796" y="13171"/>
                </a:cubicBezTo>
                <a:cubicBezTo>
                  <a:pt x="6796" y="13229"/>
                  <a:pt x="6779" y="13254"/>
                  <a:pt x="6821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9080" y="5045040"/>
            <a:ext cx="492120" cy="384120"/>
          </a:xfrm>
          <a:custGeom>
            <a:avLst/>
            <a:gdLst/>
            <a:ahLst/>
            <a:rect l="l" t="t" r="r" b="b"/>
            <a:pathLst>
              <a:path w="1365" h="1067">
                <a:moveTo>
                  <a:pt x="12303" y="14759"/>
                </a:moveTo>
                <a:cubicBezTo>
                  <a:pt x="12354" y="14856"/>
                  <a:pt x="12401" y="14965"/>
                  <a:pt x="12452" y="15056"/>
                </a:cubicBezTo>
                <a:cubicBezTo>
                  <a:pt x="12466" y="14770"/>
                  <a:pt x="12464" y="14500"/>
                  <a:pt x="12452" y="14213"/>
                </a:cubicBezTo>
                <a:cubicBezTo>
                  <a:pt x="12452" y="14163"/>
                  <a:pt x="12452" y="14114"/>
                  <a:pt x="12452" y="14064"/>
                </a:cubicBezTo>
                <a:cubicBezTo>
                  <a:pt x="12654" y="14051"/>
                  <a:pt x="12840" y="14041"/>
                  <a:pt x="13047" y="14039"/>
                </a:cubicBezTo>
                <a:cubicBezTo>
                  <a:pt x="13192" y="14038"/>
                  <a:pt x="13447" y="14016"/>
                  <a:pt x="13543" y="14064"/>
                </a:cubicBezTo>
              </a:path>
              <a:path w="1365" h="1067">
                <a:moveTo>
                  <a:pt x="12824" y="14436"/>
                </a:moveTo>
                <a:cubicBezTo>
                  <a:pt x="12805" y="14625"/>
                  <a:pt x="12712" y="14795"/>
                  <a:pt x="12675" y="14982"/>
                </a:cubicBezTo>
                <a:cubicBezTo>
                  <a:pt x="12675" y="15007"/>
                  <a:pt x="12675" y="15031"/>
                  <a:pt x="12675" y="15056"/>
                </a:cubicBezTo>
                <a:cubicBezTo>
                  <a:pt x="12841" y="15056"/>
                  <a:pt x="13128" y="14994"/>
                  <a:pt x="13047" y="14734"/>
                </a:cubicBezTo>
                <a:cubicBezTo>
                  <a:pt x="13031" y="14734"/>
                  <a:pt x="13014" y="14734"/>
                  <a:pt x="12998" y="14734"/>
                </a:cubicBezTo>
                <a:cubicBezTo>
                  <a:pt x="12872" y="14878"/>
                  <a:pt x="12787" y="15024"/>
                  <a:pt x="12998" y="15056"/>
                </a:cubicBezTo>
              </a:path>
              <a:path w="1365" h="1067">
                <a:moveTo>
                  <a:pt x="13271" y="14536"/>
                </a:moveTo>
                <a:cubicBezTo>
                  <a:pt x="13263" y="14641"/>
                  <a:pt x="13264" y="14615"/>
                  <a:pt x="13246" y="14684"/>
                </a:cubicBezTo>
                <a:cubicBezTo>
                  <a:pt x="13400" y="14684"/>
                  <a:pt x="13529" y="14694"/>
                  <a:pt x="13667" y="14635"/>
                </a:cubicBezTo>
              </a:path>
              <a:path w="1365" h="1067">
                <a:moveTo>
                  <a:pt x="13543" y="14263"/>
                </a:moveTo>
                <a:cubicBezTo>
                  <a:pt x="13525" y="14436"/>
                  <a:pt x="13399" y="14850"/>
                  <a:pt x="13469" y="15007"/>
                </a:cubicBezTo>
                <a:cubicBezTo>
                  <a:pt x="13477" y="14999"/>
                  <a:pt x="13486" y="14990"/>
                  <a:pt x="13494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3160" y="5081760"/>
            <a:ext cx="142920" cy="2854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15478" y="14114"/>
                </a:moveTo>
                <a:cubicBezTo>
                  <a:pt x="15327" y="14136"/>
                  <a:pt x="15286" y="14127"/>
                  <a:pt x="15230" y="14213"/>
                </a:cubicBezTo>
                <a:cubicBezTo>
                  <a:pt x="15274" y="14408"/>
                  <a:pt x="15543" y="14650"/>
                  <a:pt x="15503" y="14858"/>
                </a:cubicBezTo>
                <a:cubicBezTo>
                  <a:pt x="15478" y="14875"/>
                  <a:pt x="15454" y="14891"/>
                  <a:pt x="15429" y="14908"/>
                </a:cubicBezTo>
                <a:cubicBezTo>
                  <a:pt x="15239" y="14661"/>
                  <a:pt x="15423" y="14484"/>
                  <a:pt x="15577" y="14238"/>
                </a:cubicBezTo>
                <a:cubicBezTo>
                  <a:pt x="15617" y="14178"/>
                  <a:pt x="15647" y="14166"/>
                  <a:pt x="15602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09960" y="4527720"/>
            <a:ext cx="276120" cy="19656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8830" y="12626"/>
                </a:moveTo>
                <a:cubicBezTo>
                  <a:pt x="8731" y="12586"/>
                  <a:pt x="8396" y="12509"/>
                  <a:pt x="8359" y="12700"/>
                </a:cubicBezTo>
                <a:cubicBezTo>
                  <a:pt x="8337" y="12815"/>
                  <a:pt x="8615" y="12966"/>
                  <a:pt x="8657" y="13072"/>
                </a:cubicBezTo>
                <a:cubicBezTo>
                  <a:pt x="8550" y="13115"/>
                  <a:pt x="8526" y="13138"/>
                  <a:pt x="8458" y="13097"/>
                </a:cubicBezTo>
                <a:cubicBezTo>
                  <a:pt x="8503" y="12898"/>
                  <a:pt x="8592" y="12805"/>
                  <a:pt x="8756" y="12675"/>
                </a:cubicBezTo>
              </a:path>
              <a:path w="770" h="547">
                <a:moveTo>
                  <a:pt x="9128" y="12576"/>
                </a:moveTo>
                <a:cubicBezTo>
                  <a:pt x="9107" y="12701"/>
                  <a:pt x="9087" y="12822"/>
                  <a:pt x="9079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0160" y="4241880"/>
            <a:ext cx="1251000" cy="339480"/>
          </a:xfrm>
          <a:custGeom>
            <a:avLst/>
            <a:gdLst/>
            <a:ahLst/>
            <a:rect l="l" t="t" r="r" b="b"/>
            <a:pathLst>
              <a:path w="3474" h="944">
                <a:moveTo>
                  <a:pt x="12055" y="12427"/>
                </a:moveTo>
                <a:cubicBezTo>
                  <a:pt x="12110" y="12518"/>
                  <a:pt x="12175" y="12626"/>
                  <a:pt x="12229" y="12725"/>
                </a:cubicBezTo>
                <a:cubicBezTo>
                  <a:pt x="12272" y="12575"/>
                  <a:pt x="12297" y="12396"/>
                  <a:pt x="12278" y="12229"/>
                </a:cubicBezTo>
                <a:cubicBezTo>
                  <a:pt x="12268" y="12144"/>
                  <a:pt x="12227" y="12021"/>
                  <a:pt x="12204" y="11931"/>
                </a:cubicBezTo>
                <a:cubicBezTo>
                  <a:pt x="12468" y="11901"/>
                  <a:pt x="12734" y="11860"/>
                  <a:pt x="12998" y="11832"/>
                </a:cubicBezTo>
                <a:cubicBezTo>
                  <a:pt x="13185" y="11813"/>
                  <a:pt x="13380" y="11796"/>
                  <a:pt x="13568" y="11782"/>
                </a:cubicBezTo>
              </a:path>
              <a:path w="3474" h="944">
                <a:moveTo>
                  <a:pt x="12923" y="12129"/>
                </a:moveTo>
                <a:cubicBezTo>
                  <a:pt x="12985" y="12040"/>
                  <a:pt x="12774" y="12135"/>
                  <a:pt x="12675" y="12179"/>
                </a:cubicBezTo>
                <a:cubicBezTo>
                  <a:pt x="12659" y="12187"/>
                  <a:pt x="12642" y="12196"/>
                  <a:pt x="12626" y="12204"/>
                </a:cubicBezTo>
                <a:cubicBezTo>
                  <a:pt x="12722" y="12258"/>
                  <a:pt x="13095" y="12361"/>
                  <a:pt x="12973" y="12526"/>
                </a:cubicBezTo>
                <a:cubicBezTo>
                  <a:pt x="12861" y="12594"/>
                  <a:pt x="12834" y="12622"/>
                  <a:pt x="12750" y="12576"/>
                </a:cubicBezTo>
                <a:cubicBezTo>
                  <a:pt x="12740" y="12419"/>
                  <a:pt x="12742" y="12258"/>
                  <a:pt x="12898" y="12154"/>
                </a:cubicBezTo>
                <a:cubicBezTo>
                  <a:pt x="12906" y="12154"/>
                  <a:pt x="12915" y="12154"/>
                  <a:pt x="12923" y="12154"/>
                </a:cubicBezTo>
              </a:path>
              <a:path w="3474" h="944">
                <a:moveTo>
                  <a:pt x="13221" y="12105"/>
                </a:moveTo>
                <a:cubicBezTo>
                  <a:pt x="13235" y="12280"/>
                  <a:pt x="13246" y="12450"/>
                  <a:pt x="13246" y="12626"/>
                </a:cubicBezTo>
              </a:path>
              <a:path w="3474" h="944">
                <a:moveTo>
                  <a:pt x="14089" y="12278"/>
                </a:moveTo>
                <a:cubicBezTo>
                  <a:pt x="14236" y="12216"/>
                  <a:pt x="14350" y="12225"/>
                  <a:pt x="14511" y="12254"/>
                </a:cubicBezTo>
              </a:path>
              <a:path w="3474" h="944">
                <a:moveTo>
                  <a:pt x="15503" y="12055"/>
                </a:moveTo>
                <a:cubicBezTo>
                  <a:pt x="15474" y="11911"/>
                  <a:pt x="15300" y="11878"/>
                  <a:pt x="15180" y="12005"/>
                </a:cubicBezTo>
                <a:cubicBezTo>
                  <a:pt x="15116" y="12134"/>
                  <a:pt x="15091" y="12162"/>
                  <a:pt x="15106" y="12254"/>
                </a:cubicBezTo>
                <a:cubicBezTo>
                  <a:pt x="15342" y="12265"/>
                  <a:pt x="15398" y="12206"/>
                  <a:pt x="15528" y="12005"/>
                </a:cubicBezTo>
                <a:cubicBezTo>
                  <a:pt x="15528" y="12171"/>
                  <a:pt x="15506" y="12335"/>
                  <a:pt x="15503" y="12502"/>
                </a:cubicBezTo>
                <a:cubicBezTo>
                  <a:pt x="15500" y="12652"/>
                  <a:pt x="15528" y="12593"/>
                  <a:pt x="15478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0" y="2741760"/>
            <a:ext cx="4795560" cy="3857400"/>
          </a:xfrm>
          <a:custGeom>
            <a:avLst/>
            <a:gdLst/>
            <a:ahLst/>
            <a:rect l="l" t="t" r="r" b="b"/>
            <a:pathLst>
              <a:path w="13321" h="10717">
                <a:moveTo>
                  <a:pt x="9178" y="14511"/>
                </a:moveTo>
                <a:cubicBezTo>
                  <a:pt x="9178" y="14682"/>
                  <a:pt x="9100" y="14838"/>
                  <a:pt x="9079" y="15007"/>
                </a:cubicBezTo>
                <a:cubicBezTo>
                  <a:pt x="9049" y="15254"/>
                  <a:pt x="9264" y="15313"/>
                  <a:pt x="9426" y="15131"/>
                </a:cubicBezTo>
                <a:cubicBezTo>
                  <a:pt x="9471" y="15017"/>
                  <a:pt x="9490" y="14986"/>
                  <a:pt x="9451" y="14908"/>
                </a:cubicBezTo>
                <a:cubicBezTo>
                  <a:pt x="9336" y="14974"/>
                  <a:pt x="9325" y="15004"/>
                  <a:pt x="9277" y="15131"/>
                </a:cubicBezTo>
                <a:cubicBezTo>
                  <a:pt x="9350" y="15202"/>
                  <a:pt x="9395" y="15204"/>
                  <a:pt x="9475" y="15106"/>
                </a:cubicBezTo>
              </a:path>
              <a:path w="13321" h="10717">
                <a:moveTo>
                  <a:pt x="9773" y="14660"/>
                </a:moveTo>
                <a:cubicBezTo>
                  <a:pt x="9732" y="14741"/>
                  <a:pt x="9716" y="14753"/>
                  <a:pt x="9723" y="14808"/>
                </a:cubicBezTo>
                <a:cubicBezTo>
                  <a:pt x="9846" y="14788"/>
                  <a:pt x="9972" y="14801"/>
                  <a:pt x="10096" y="14784"/>
                </a:cubicBezTo>
                <a:cubicBezTo>
                  <a:pt x="10121" y="14776"/>
                  <a:pt x="10145" y="14767"/>
                  <a:pt x="10170" y="14759"/>
                </a:cubicBezTo>
              </a:path>
              <a:path w="13321" h="10717">
                <a:moveTo>
                  <a:pt x="19298" y="8062"/>
                </a:moveTo>
                <a:cubicBezTo>
                  <a:pt x="19298" y="8037"/>
                  <a:pt x="19298" y="8029"/>
                  <a:pt x="19298" y="8012"/>
                </a:cubicBezTo>
              </a:path>
              <a:path w="13321" h="10717">
                <a:moveTo>
                  <a:pt x="19323" y="8062"/>
                </a:moveTo>
                <a:cubicBezTo>
                  <a:pt x="19316" y="8158"/>
                  <a:pt x="19226" y="8585"/>
                  <a:pt x="19298" y="8657"/>
                </a:cubicBezTo>
                <a:cubicBezTo>
                  <a:pt x="19306" y="8657"/>
                  <a:pt x="19315" y="8657"/>
                  <a:pt x="19323" y="8657"/>
                </a:cubicBezTo>
              </a:path>
              <a:path w="13321" h="10717">
                <a:moveTo>
                  <a:pt x="19869" y="8285"/>
                </a:moveTo>
                <a:cubicBezTo>
                  <a:pt x="19989" y="8228"/>
                  <a:pt x="20080" y="8210"/>
                  <a:pt x="20216" y="8210"/>
                </a:cubicBezTo>
              </a:path>
              <a:path w="13321" h="10717">
                <a:moveTo>
                  <a:pt x="19844" y="8434"/>
                </a:moveTo>
                <a:cubicBezTo>
                  <a:pt x="19929" y="8410"/>
                  <a:pt x="20074" y="8355"/>
                  <a:pt x="20117" y="8384"/>
                </a:cubicBezTo>
              </a:path>
              <a:path w="13321" h="10717">
                <a:moveTo>
                  <a:pt x="20687" y="8359"/>
                </a:moveTo>
                <a:cubicBezTo>
                  <a:pt x="20739" y="8398"/>
                  <a:pt x="20802" y="8464"/>
                  <a:pt x="20861" y="8508"/>
                </a:cubicBezTo>
                <a:cubicBezTo>
                  <a:pt x="20869" y="8508"/>
                  <a:pt x="20878" y="8508"/>
                  <a:pt x="20886" y="8508"/>
                </a:cubicBezTo>
                <a:cubicBezTo>
                  <a:pt x="20902" y="8322"/>
                  <a:pt x="20929" y="8151"/>
                  <a:pt x="20935" y="7962"/>
                </a:cubicBezTo>
                <a:cubicBezTo>
                  <a:pt x="20937" y="7880"/>
                  <a:pt x="20935" y="7796"/>
                  <a:pt x="20935" y="7714"/>
                </a:cubicBezTo>
                <a:cubicBezTo>
                  <a:pt x="21148" y="7701"/>
                  <a:pt x="21368" y="7686"/>
                  <a:pt x="21580" y="7665"/>
                </a:cubicBezTo>
                <a:cubicBezTo>
                  <a:pt x="21864" y="7636"/>
                  <a:pt x="22116" y="7615"/>
                  <a:pt x="22399" y="7615"/>
                </a:cubicBezTo>
              </a:path>
              <a:path w="13321" h="10717">
                <a:moveTo>
                  <a:pt x="21630" y="7938"/>
                </a:moveTo>
                <a:cubicBezTo>
                  <a:pt x="21608" y="8068"/>
                  <a:pt x="21572" y="8201"/>
                  <a:pt x="21555" y="8334"/>
                </a:cubicBezTo>
                <a:cubicBezTo>
                  <a:pt x="21555" y="8351"/>
                  <a:pt x="21555" y="8367"/>
                  <a:pt x="21555" y="8384"/>
                </a:cubicBezTo>
              </a:path>
              <a:path w="13321" h="10717">
                <a:moveTo>
                  <a:pt x="19149" y="9426"/>
                </a:moveTo>
                <a:cubicBezTo>
                  <a:pt x="19244" y="9350"/>
                  <a:pt x="19438" y="9217"/>
                  <a:pt x="19472" y="9451"/>
                </a:cubicBezTo>
                <a:cubicBezTo>
                  <a:pt x="19504" y="9670"/>
                  <a:pt x="19220" y="10013"/>
                  <a:pt x="18976" y="9947"/>
                </a:cubicBezTo>
                <a:cubicBezTo>
                  <a:pt x="18968" y="9922"/>
                  <a:pt x="18959" y="9897"/>
                  <a:pt x="18951" y="9872"/>
                </a:cubicBezTo>
                <a:cubicBezTo>
                  <a:pt x="19065" y="9746"/>
                  <a:pt x="19179" y="9681"/>
                  <a:pt x="19348" y="9773"/>
                </a:cubicBezTo>
                <a:cubicBezTo>
                  <a:pt x="19364" y="9790"/>
                  <a:pt x="19381" y="9806"/>
                  <a:pt x="19397" y="9823"/>
                </a:cubicBezTo>
              </a:path>
              <a:path w="13321" h="10717">
                <a:moveTo>
                  <a:pt x="19869" y="9500"/>
                </a:moveTo>
                <a:cubicBezTo>
                  <a:pt x="19952" y="9500"/>
                  <a:pt x="20034" y="9500"/>
                  <a:pt x="20117" y="9500"/>
                </a:cubicBezTo>
              </a:path>
              <a:path w="13321" h="10717">
                <a:moveTo>
                  <a:pt x="19819" y="9723"/>
                </a:moveTo>
                <a:cubicBezTo>
                  <a:pt x="19961" y="9723"/>
                  <a:pt x="20049" y="9706"/>
                  <a:pt x="20191" y="9674"/>
                </a:cubicBezTo>
              </a:path>
              <a:path w="13321" h="10717">
                <a:moveTo>
                  <a:pt x="20662" y="9624"/>
                </a:moveTo>
                <a:cubicBezTo>
                  <a:pt x="20704" y="9683"/>
                  <a:pt x="20743" y="9742"/>
                  <a:pt x="20786" y="9798"/>
                </a:cubicBezTo>
                <a:cubicBezTo>
                  <a:pt x="20805" y="9672"/>
                  <a:pt x="20841" y="9484"/>
                  <a:pt x="20861" y="9327"/>
                </a:cubicBezTo>
                <a:cubicBezTo>
                  <a:pt x="20876" y="9207"/>
                  <a:pt x="20886" y="9098"/>
                  <a:pt x="20886" y="8979"/>
                </a:cubicBezTo>
                <a:cubicBezTo>
                  <a:pt x="21125" y="8949"/>
                  <a:pt x="21365" y="8928"/>
                  <a:pt x="21605" y="8905"/>
                </a:cubicBezTo>
                <a:cubicBezTo>
                  <a:pt x="21752" y="8891"/>
                  <a:pt x="21861" y="8885"/>
                  <a:pt x="22002" y="8880"/>
                </a:cubicBezTo>
              </a:path>
              <a:path w="13321" h="10717">
                <a:moveTo>
                  <a:pt x="21258" y="9227"/>
                </a:moveTo>
                <a:cubicBezTo>
                  <a:pt x="21219" y="9258"/>
                  <a:pt x="21187" y="9319"/>
                  <a:pt x="21158" y="9376"/>
                </a:cubicBezTo>
                <a:cubicBezTo>
                  <a:pt x="21292" y="9393"/>
                  <a:pt x="21418" y="9401"/>
                  <a:pt x="21555" y="9401"/>
                </a:cubicBezTo>
                <a:cubicBezTo>
                  <a:pt x="21580" y="9401"/>
                  <a:pt x="21588" y="9401"/>
                  <a:pt x="21605" y="9401"/>
                </a:cubicBezTo>
              </a:path>
              <a:path w="13321" h="10717">
                <a:moveTo>
                  <a:pt x="21580" y="9103"/>
                </a:moveTo>
                <a:cubicBezTo>
                  <a:pt x="21489" y="9286"/>
                  <a:pt x="21467" y="9459"/>
                  <a:pt x="21406" y="9649"/>
                </a:cubicBezTo>
                <a:cubicBezTo>
                  <a:pt x="21390" y="9699"/>
                  <a:pt x="21385" y="9693"/>
                  <a:pt x="21357" y="9674"/>
                </a:cubicBezTo>
              </a:path>
              <a:path w="13321" h="10717">
                <a:moveTo>
                  <a:pt x="19273" y="10666"/>
                </a:moveTo>
                <a:cubicBezTo>
                  <a:pt x="19373" y="10616"/>
                  <a:pt x="19412" y="10597"/>
                  <a:pt x="19521" y="10616"/>
                </a:cubicBezTo>
                <a:cubicBezTo>
                  <a:pt x="19443" y="10742"/>
                  <a:pt x="19397" y="10822"/>
                  <a:pt x="19248" y="10864"/>
                </a:cubicBezTo>
                <a:cubicBezTo>
                  <a:pt x="19395" y="10844"/>
                  <a:pt x="19641" y="10934"/>
                  <a:pt x="19422" y="11112"/>
                </a:cubicBezTo>
                <a:cubicBezTo>
                  <a:pt x="19350" y="11171"/>
                  <a:pt x="18990" y="11126"/>
                  <a:pt x="19100" y="11038"/>
                </a:cubicBezTo>
                <a:cubicBezTo>
                  <a:pt x="19149" y="11013"/>
                  <a:pt x="19199" y="10989"/>
                  <a:pt x="19248" y="10964"/>
                </a:cubicBezTo>
              </a:path>
              <a:path w="13321" h="10717">
                <a:moveTo>
                  <a:pt x="19794" y="10939"/>
                </a:moveTo>
                <a:cubicBezTo>
                  <a:pt x="19910" y="10939"/>
                  <a:pt x="19959" y="10939"/>
                  <a:pt x="20042" y="10939"/>
                </a:cubicBezTo>
              </a:path>
              <a:path w="13321" h="10717">
                <a:moveTo>
                  <a:pt x="20513" y="10864"/>
                </a:moveTo>
                <a:cubicBezTo>
                  <a:pt x="20553" y="10964"/>
                  <a:pt x="20558" y="10982"/>
                  <a:pt x="20588" y="11038"/>
                </a:cubicBezTo>
                <a:cubicBezTo>
                  <a:pt x="20643" y="10852"/>
                  <a:pt x="20711" y="10639"/>
                  <a:pt x="20762" y="10443"/>
                </a:cubicBezTo>
                <a:cubicBezTo>
                  <a:pt x="20780" y="10352"/>
                  <a:pt x="20788" y="10345"/>
                  <a:pt x="20786" y="10294"/>
                </a:cubicBezTo>
                <a:cubicBezTo>
                  <a:pt x="21169" y="10294"/>
                  <a:pt x="21545" y="10261"/>
                  <a:pt x="21927" y="10244"/>
                </a:cubicBezTo>
                <a:cubicBezTo>
                  <a:pt x="22051" y="10244"/>
                  <a:pt x="22060" y="10244"/>
                  <a:pt x="22126" y="10244"/>
                </a:cubicBezTo>
              </a:path>
              <a:path w="13321" h="10717">
                <a:moveTo>
                  <a:pt x="21431" y="10592"/>
                </a:moveTo>
                <a:cubicBezTo>
                  <a:pt x="21463" y="10495"/>
                  <a:pt x="21389" y="10400"/>
                  <a:pt x="21258" y="10418"/>
                </a:cubicBezTo>
                <a:cubicBezTo>
                  <a:pt x="21151" y="10433"/>
                  <a:pt x="21110" y="10513"/>
                  <a:pt x="21084" y="10592"/>
                </a:cubicBezTo>
                <a:cubicBezTo>
                  <a:pt x="21252" y="10625"/>
                  <a:pt x="21314" y="10623"/>
                  <a:pt x="21456" y="10517"/>
                </a:cubicBezTo>
                <a:cubicBezTo>
                  <a:pt x="21456" y="10632"/>
                  <a:pt x="21375" y="10806"/>
                  <a:pt x="21332" y="10914"/>
                </a:cubicBezTo>
                <a:cubicBezTo>
                  <a:pt x="21315" y="10947"/>
                  <a:pt x="21299" y="10980"/>
                  <a:pt x="21282" y="11013"/>
                </a:cubicBezTo>
              </a:path>
              <a:path w="13321" h="10717">
                <a:moveTo>
                  <a:pt x="19174" y="11857"/>
                </a:moveTo>
                <a:cubicBezTo>
                  <a:pt x="19129" y="11946"/>
                  <a:pt x="19077" y="12036"/>
                  <a:pt x="19050" y="12129"/>
                </a:cubicBezTo>
                <a:cubicBezTo>
                  <a:pt x="19146" y="12122"/>
                  <a:pt x="19230" y="12106"/>
                  <a:pt x="19323" y="12080"/>
                </a:cubicBezTo>
              </a:path>
              <a:path w="13321" h="10717">
                <a:moveTo>
                  <a:pt x="19323" y="11757"/>
                </a:moveTo>
                <a:cubicBezTo>
                  <a:pt x="19299" y="11930"/>
                  <a:pt x="19299" y="12150"/>
                  <a:pt x="19248" y="12303"/>
                </a:cubicBezTo>
              </a:path>
              <a:path w="13321" h="10717">
                <a:moveTo>
                  <a:pt x="20241" y="12105"/>
                </a:moveTo>
                <a:cubicBezTo>
                  <a:pt x="20275" y="12174"/>
                  <a:pt x="20308" y="12214"/>
                  <a:pt x="20340" y="12254"/>
                </a:cubicBezTo>
                <a:cubicBezTo>
                  <a:pt x="20407" y="12127"/>
                  <a:pt x="20434" y="12007"/>
                  <a:pt x="20439" y="11832"/>
                </a:cubicBezTo>
                <a:cubicBezTo>
                  <a:pt x="20439" y="11682"/>
                  <a:pt x="20445" y="11647"/>
                  <a:pt x="20414" y="11559"/>
                </a:cubicBezTo>
                <a:cubicBezTo>
                  <a:pt x="20583" y="11527"/>
                  <a:pt x="20756" y="11534"/>
                  <a:pt x="20935" y="11534"/>
                </a:cubicBezTo>
                <a:cubicBezTo>
                  <a:pt x="21193" y="11534"/>
                  <a:pt x="21447" y="11509"/>
                  <a:pt x="21704" y="11509"/>
                </a:cubicBezTo>
              </a:path>
              <a:path w="13321" h="10717">
                <a:moveTo>
                  <a:pt x="20737" y="11733"/>
                </a:moveTo>
                <a:cubicBezTo>
                  <a:pt x="20724" y="11879"/>
                  <a:pt x="20698" y="12070"/>
                  <a:pt x="20638" y="12204"/>
                </a:cubicBezTo>
                <a:cubicBezTo>
                  <a:pt x="20603" y="12204"/>
                  <a:pt x="20599" y="12195"/>
                  <a:pt x="20638" y="12154"/>
                </a:cubicBezTo>
              </a:path>
              <a:path w="13321" h="10717">
                <a:moveTo>
                  <a:pt x="20985" y="11782"/>
                </a:moveTo>
                <a:cubicBezTo>
                  <a:pt x="20985" y="11882"/>
                  <a:pt x="20963" y="11978"/>
                  <a:pt x="20960" y="12080"/>
                </a:cubicBezTo>
                <a:cubicBezTo>
                  <a:pt x="20956" y="12218"/>
                  <a:pt x="21043" y="12259"/>
                  <a:pt x="21183" y="12229"/>
                </a:cubicBezTo>
                <a:cubicBezTo>
                  <a:pt x="21280" y="12209"/>
                  <a:pt x="21430" y="12093"/>
                  <a:pt x="21332" y="11981"/>
                </a:cubicBezTo>
                <a:cubicBezTo>
                  <a:pt x="21315" y="11973"/>
                  <a:pt x="21299" y="11964"/>
                  <a:pt x="21282" y="11956"/>
                </a:cubicBezTo>
                <a:cubicBezTo>
                  <a:pt x="21202" y="11976"/>
                  <a:pt x="21113" y="12036"/>
                  <a:pt x="21084" y="12129"/>
                </a:cubicBezTo>
                <a:cubicBezTo>
                  <a:pt x="21084" y="12171"/>
                  <a:pt x="21084" y="12179"/>
                  <a:pt x="21084" y="12204"/>
                </a:cubicBezTo>
              </a:path>
              <a:path w="13321" h="10717">
                <a:moveTo>
                  <a:pt x="19273" y="12650"/>
                </a:moveTo>
                <a:cubicBezTo>
                  <a:pt x="19214" y="12670"/>
                  <a:pt x="19105" y="12697"/>
                  <a:pt x="19050" y="12725"/>
                </a:cubicBezTo>
                <a:cubicBezTo>
                  <a:pt x="18999" y="12750"/>
                  <a:pt x="19017" y="12907"/>
                  <a:pt x="18976" y="12948"/>
                </a:cubicBezTo>
                <a:cubicBezTo>
                  <a:pt x="19031" y="12948"/>
                  <a:pt x="19191" y="12958"/>
                  <a:pt x="19224" y="12998"/>
                </a:cubicBezTo>
                <a:cubicBezTo>
                  <a:pt x="19346" y="13144"/>
                  <a:pt x="19153" y="13356"/>
                  <a:pt x="19000" y="13345"/>
                </a:cubicBezTo>
                <a:cubicBezTo>
                  <a:pt x="18814" y="13332"/>
                  <a:pt x="18837" y="13269"/>
                  <a:pt x="18901" y="13196"/>
                </a:cubicBezTo>
              </a:path>
              <a:path w="13321" h="10717">
                <a:moveTo>
                  <a:pt x="19596" y="13022"/>
                </a:moveTo>
                <a:cubicBezTo>
                  <a:pt x="19691" y="13006"/>
                  <a:pt x="19772" y="12998"/>
                  <a:pt x="19869" y="12998"/>
                </a:cubicBezTo>
              </a:path>
              <a:path w="13321" h="10717">
                <a:moveTo>
                  <a:pt x="20216" y="13221"/>
                </a:moveTo>
                <a:cubicBezTo>
                  <a:pt x="20255" y="13319"/>
                  <a:pt x="20271" y="13333"/>
                  <a:pt x="20265" y="13395"/>
                </a:cubicBezTo>
                <a:cubicBezTo>
                  <a:pt x="20324" y="13265"/>
                  <a:pt x="20361" y="13095"/>
                  <a:pt x="20389" y="12948"/>
                </a:cubicBezTo>
                <a:cubicBezTo>
                  <a:pt x="20422" y="12772"/>
                  <a:pt x="20403" y="12806"/>
                  <a:pt x="20389" y="12675"/>
                </a:cubicBezTo>
                <a:cubicBezTo>
                  <a:pt x="20604" y="12643"/>
                  <a:pt x="20821" y="12652"/>
                  <a:pt x="21034" y="12626"/>
                </a:cubicBezTo>
                <a:cubicBezTo>
                  <a:pt x="21200" y="12606"/>
                  <a:pt x="21499" y="12576"/>
                  <a:pt x="21332" y="12576"/>
                </a:cubicBezTo>
              </a:path>
              <a:path w="13321" h="10717">
                <a:moveTo>
                  <a:pt x="20613" y="12948"/>
                </a:moveTo>
                <a:cubicBezTo>
                  <a:pt x="20690" y="12904"/>
                  <a:pt x="20897" y="12858"/>
                  <a:pt x="20886" y="13022"/>
                </a:cubicBezTo>
                <a:cubicBezTo>
                  <a:pt x="20873" y="13222"/>
                  <a:pt x="20642" y="13211"/>
                  <a:pt x="20513" y="13196"/>
                </a:cubicBezTo>
                <a:cubicBezTo>
                  <a:pt x="20489" y="13085"/>
                  <a:pt x="20594" y="13058"/>
                  <a:pt x="20712" y="13122"/>
                </a:cubicBezTo>
                <a:cubicBezTo>
                  <a:pt x="20789" y="13164"/>
                  <a:pt x="20790" y="13256"/>
                  <a:pt x="20861" y="13221"/>
                </a:cubicBezTo>
              </a:path>
              <a:path w="13321" h="10717">
                <a:moveTo>
                  <a:pt x="21059" y="12948"/>
                </a:moveTo>
                <a:cubicBezTo>
                  <a:pt x="21111" y="13018"/>
                  <a:pt x="21249" y="13070"/>
                  <a:pt x="21282" y="13146"/>
                </a:cubicBezTo>
                <a:cubicBezTo>
                  <a:pt x="21361" y="13329"/>
                  <a:pt x="21062" y="13210"/>
                  <a:pt x="21034" y="13196"/>
                </a:cubicBezTo>
              </a:path>
              <a:path w="13321" h="10717">
                <a:moveTo>
                  <a:pt x="21134" y="12874"/>
                </a:moveTo>
                <a:cubicBezTo>
                  <a:pt x="21214" y="12860"/>
                  <a:pt x="21258" y="12849"/>
                  <a:pt x="21332" y="12849"/>
                </a:cubicBezTo>
              </a:path>
              <a:path w="13321" h="10717">
                <a:moveTo>
                  <a:pt x="18926" y="13940"/>
                </a:moveTo>
                <a:cubicBezTo>
                  <a:pt x="18836" y="14008"/>
                  <a:pt x="18768" y="14147"/>
                  <a:pt x="18728" y="14263"/>
                </a:cubicBezTo>
                <a:cubicBezTo>
                  <a:pt x="18662" y="14455"/>
                  <a:pt x="18818" y="14507"/>
                  <a:pt x="18951" y="14387"/>
                </a:cubicBezTo>
                <a:cubicBezTo>
                  <a:pt x="18976" y="14354"/>
                  <a:pt x="19000" y="14321"/>
                  <a:pt x="19025" y="14288"/>
                </a:cubicBezTo>
                <a:cubicBezTo>
                  <a:pt x="19025" y="14255"/>
                  <a:pt x="19025" y="14221"/>
                  <a:pt x="19025" y="14188"/>
                </a:cubicBezTo>
                <a:cubicBezTo>
                  <a:pt x="18897" y="14209"/>
                  <a:pt x="18832" y="14272"/>
                  <a:pt x="18827" y="14412"/>
                </a:cubicBezTo>
                <a:cubicBezTo>
                  <a:pt x="18864" y="14484"/>
                  <a:pt x="18896" y="14491"/>
                  <a:pt x="18976" y="14412"/>
                </a:cubicBezTo>
              </a:path>
              <a:path w="13321" h="10717">
                <a:moveTo>
                  <a:pt x="19298" y="14114"/>
                </a:moveTo>
                <a:cubicBezTo>
                  <a:pt x="19352" y="14109"/>
                  <a:pt x="19636" y="14036"/>
                  <a:pt x="19645" y="14114"/>
                </a:cubicBezTo>
                <a:cubicBezTo>
                  <a:pt x="19629" y="14139"/>
                  <a:pt x="19612" y="14163"/>
                  <a:pt x="19596" y="14188"/>
                </a:cubicBezTo>
              </a:path>
              <a:path w="13321" h="10717">
                <a:moveTo>
                  <a:pt x="20067" y="14263"/>
                </a:moveTo>
                <a:cubicBezTo>
                  <a:pt x="20094" y="14328"/>
                  <a:pt x="20119" y="14397"/>
                  <a:pt x="20141" y="14461"/>
                </a:cubicBezTo>
                <a:cubicBezTo>
                  <a:pt x="20164" y="14287"/>
                  <a:pt x="20152" y="14140"/>
                  <a:pt x="20141" y="13965"/>
                </a:cubicBezTo>
                <a:cubicBezTo>
                  <a:pt x="20136" y="13888"/>
                  <a:pt x="20132" y="13858"/>
                  <a:pt x="20117" y="13791"/>
                </a:cubicBezTo>
                <a:cubicBezTo>
                  <a:pt x="20332" y="13783"/>
                  <a:pt x="20548" y="13780"/>
                  <a:pt x="20762" y="13767"/>
                </a:cubicBezTo>
                <a:cubicBezTo>
                  <a:pt x="21037" y="13751"/>
                  <a:pt x="21306" y="13707"/>
                  <a:pt x="21580" y="13692"/>
                </a:cubicBezTo>
              </a:path>
              <a:path w="13321" h="10717">
                <a:moveTo>
                  <a:pt x="20315" y="14064"/>
                </a:moveTo>
                <a:cubicBezTo>
                  <a:pt x="20317" y="14063"/>
                  <a:pt x="20668" y="13945"/>
                  <a:pt x="20588" y="14064"/>
                </a:cubicBezTo>
                <a:cubicBezTo>
                  <a:pt x="20530" y="14150"/>
                  <a:pt x="20482" y="14150"/>
                  <a:pt x="20389" y="14163"/>
                </a:cubicBezTo>
                <a:cubicBezTo>
                  <a:pt x="20516" y="14192"/>
                  <a:pt x="20524" y="14194"/>
                  <a:pt x="20563" y="14312"/>
                </a:cubicBezTo>
                <a:cubicBezTo>
                  <a:pt x="20432" y="14415"/>
                  <a:pt x="20393" y="14420"/>
                  <a:pt x="20315" y="14288"/>
                </a:cubicBezTo>
              </a:path>
              <a:path w="13321" h="10717">
                <a:moveTo>
                  <a:pt x="20886" y="13965"/>
                </a:moveTo>
                <a:cubicBezTo>
                  <a:pt x="20865" y="14124"/>
                  <a:pt x="20782" y="14351"/>
                  <a:pt x="21010" y="14362"/>
                </a:cubicBezTo>
                <a:cubicBezTo>
                  <a:pt x="21140" y="14336"/>
                  <a:pt x="21184" y="14322"/>
                  <a:pt x="21208" y="14213"/>
                </a:cubicBezTo>
                <a:cubicBezTo>
                  <a:pt x="21077" y="14046"/>
                  <a:pt x="21014" y="14213"/>
                  <a:pt x="20935" y="14362"/>
                </a:cubicBezTo>
              </a:path>
              <a:path w="13321" h="10717">
                <a:moveTo>
                  <a:pt x="18926" y="14957"/>
                </a:moveTo>
                <a:cubicBezTo>
                  <a:pt x="19037" y="14957"/>
                  <a:pt x="19137" y="14918"/>
                  <a:pt x="19248" y="14908"/>
                </a:cubicBezTo>
                <a:cubicBezTo>
                  <a:pt x="19256" y="14908"/>
                  <a:pt x="19265" y="14908"/>
                  <a:pt x="19273" y="14908"/>
                </a:cubicBezTo>
                <a:cubicBezTo>
                  <a:pt x="19252" y="15134"/>
                  <a:pt x="19176" y="15296"/>
                  <a:pt x="19100" y="15503"/>
                </a:cubicBezTo>
              </a:path>
              <a:path w="13321" h="10717">
                <a:moveTo>
                  <a:pt x="20290" y="15255"/>
                </a:moveTo>
                <a:cubicBezTo>
                  <a:pt x="20321" y="15316"/>
                  <a:pt x="20342" y="15371"/>
                  <a:pt x="20365" y="15429"/>
                </a:cubicBezTo>
                <a:cubicBezTo>
                  <a:pt x="20455" y="15290"/>
                  <a:pt x="20480" y="15092"/>
                  <a:pt x="20513" y="14932"/>
                </a:cubicBezTo>
                <a:cubicBezTo>
                  <a:pt x="20533" y="14832"/>
                  <a:pt x="20532" y="14810"/>
                  <a:pt x="20538" y="14734"/>
                </a:cubicBezTo>
                <a:cubicBezTo>
                  <a:pt x="20692" y="14747"/>
                  <a:pt x="20799" y="14746"/>
                  <a:pt x="20960" y="14734"/>
                </a:cubicBezTo>
                <a:cubicBezTo>
                  <a:pt x="21184" y="14717"/>
                  <a:pt x="21406" y="14693"/>
                  <a:pt x="21630" y="14684"/>
                </a:cubicBezTo>
              </a:path>
              <a:path w="13321" h="10717">
                <a:moveTo>
                  <a:pt x="20786" y="14982"/>
                </a:moveTo>
                <a:cubicBezTo>
                  <a:pt x="20764" y="15071"/>
                  <a:pt x="20727" y="15146"/>
                  <a:pt x="20687" y="15230"/>
                </a:cubicBezTo>
                <a:cubicBezTo>
                  <a:pt x="20875" y="15243"/>
                  <a:pt x="20897" y="15196"/>
                  <a:pt x="21059" y="15081"/>
                </a:cubicBezTo>
              </a:path>
              <a:path w="13321" h="10717">
                <a:moveTo>
                  <a:pt x="21010" y="14883"/>
                </a:moveTo>
                <a:cubicBezTo>
                  <a:pt x="20975" y="15065"/>
                  <a:pt x="20925" y="15244"/>
                  <a:pt x="20910" y="15429"/>
                </a:cubicBezTo>
              </a:path>
              <a:path w="13321" h="10717">
                <a:moveTo>
                  <a:pt x="21406" y="14932"/>
                </a:moveTo>
                <a:cubicBezTo>
                  <a:pt x="21248" y="14901"/>
                  <a:pt x="21207" y="14970"/>
                  <a:pt x="21134" y="15106"/>
                </a:cubicBezTo>
                <a:cubicBezTo>
                  <a:pt x="21273" y="15176"/>
                  <a:pt x="21300" y="15119"/>
                  <a:pt x="21382" y="14982"/>
                </a:cubicBezTo>
                <a:cubicBezTo>
                  <a:pt x="21354" y="15133"/>
                  <a:pt x="21285" y="15277"/>
                  <a:pt x="21258" y="15429"/>
                </a:cubicBezTo>
              </a:path>
              <a:path w="13321" h="10717">
                <a:moveTo>
                  <a:pt x="19224" y="15949"/>
                </a:moveTo>
                <a:cubicBezTo>
                  <a:pt x="19172" y="15974"/>
                  <a:pt x="18869" y="16094"/>
                  <a:pt x="18901" y="16197"/>
                </a:cubicBezTo>
                <a:cubicBezTo>
                  <a:pt x="18937" y="16313"/>
                  <a:pt x="19069" y="16365"/>
                  <a:pt x="19124" y="16470"/>
                </a:cubicBezTo>
                <a:cubicBezTo>
                  <a:pt x="19041" y="16529"/>
                  <a:pt x="19025" y="16540"/>
                  <a:pt x="18926" y="16520"/>
                </a:cubicBezTo>
                <a:cubicBezTo>
                  <a:pt x="18958" y="16324"/>
                  <a:pt x="19056" y="16220"/>
                  <a:pt x="19149" y="16049"/>
                </a:cubicBezTo>
                <a:cubicBezTo>
                  <a:pt x="19184" y="15986"/>
                  <a:pt x="19149" y="15996"/>
                  <a:pt x="19224" y="15974"/>
                </a:cubicBezTo>
              </a:path>
              <a:path w="13321" h="10717">
                <a:moveTo>
                  <a:pt x="20141" y="16421"/>
                </a:moveTo>
                <a:cubicBezTo>
                  <a:pt x="20183" y="16537"/>
                  <a:pt x="20164" y="16496"/>
                  <a:pt x="20216" y="16570"/>
                </a:cubicBezTo>
                <a:cubicBezTo>
                  <a:pt x="20257" y="16438"/>
                  <a:pt x="20315" y="16275"/>
                  <a:pt x="20315" y="16123"/>
                </a:cubicBezTo>
                <a:cubicBezTo>
                  <a:pt x="20296" y="16008"/>
                  <a:pt x="20287" y="15992"/>
                  <a:pt x="20290" y="15925"/>
                </a:cubicBezTo>
                <a:cubicBezTo>
                  <a:pt x="20565" y="15902"/>
                  <a:pt x="20834" y="15884"/>
                  <a:pt x="21109" y="15850"/>
                </a:cubicBezTo>
                <a:cubicBezTo>
                  <a:pt x="21335" y="15822"/>
                  <a:pt x="21553" y="15790"/>
                  <a:pt x="21779" y="15776"/>
                </a:cubicBezTo>
              </a:path>
              <a:path w="13321" h="10717">
                <a:moveTo>
                  <a:pt x="19075" y="17239"/>
                </a:moveTo>
                <a:cubicBezTo>
                  <a:pt x="19135" y="17219"/>
                  <a:pt x="19120" y="17104"/>
                  <a:pt x="19124" y="17041"/>
                </a:cubicBezTo>
                <a:cubicBezTo>
                  <a:pt x="18947" y="17041"/>
                  <a:pt x="18850" y="17116"/>
                  <a:pt x="18827" y="17314"/>
                </a:cubicBezTo>
                <a:cubicBezTo>
                  <a:pt x="18798" y="17569"/>
                  <a:pt x="19045" y="17290"/>
                  <a:pt x="19075" y="17239"/>
                </a:cubicBezTo>
                <a:cubicBezTo>
                  <a:pt x="19083" y="17223"/>
                  <a:pt x="19092" y="17206"/>
                  <a:pt x="19100" y="17190"/>
                </a:cubicBezTo>
                <a:cubicBezTo>
                  <a:pt x="19100" y="17165"/>
                  <a:pt x="19100" y="17157"/>
                  <a:pt x="19100" y="17140"/>
                </a:cubicBezTo>
                <a:cubicBezTo>
                  <a:pt x="19082" y="17286"/>
                  <a:pt x="19065" y="17445"/>
                  <a:pt x="19025" y="17587"/>
                </a:cubicBezTo>
                <a:cubicBezTo>
                  <a:pt x="18998" y="17682"/>
                  <a:pt x="19022" y="17632"/>
                  <a:pt x="19124" y="17562"/>
                </a:cubicBezTo>
              </a:path>
              <a:path w="13321" h="10717">
                <a:moveTo>
                  <a:pt x="19422" y="17338"/>
                </a:moveTo>
                <a:cubicBezTo>
                  <a:pt x="19518" y="17325"/>
                  <a:pt x="19617" y="17283"/>
                  <a:pt x="19720" y="17264"/>
                </a:cubicBezTo>
                <a:cubicBezTo>
                  <a:pt x="19728" y="17264"/>
                  <a:pt x="19737" y="17264"/>
                  <a:pt x="19745" y="17264"/>
                </a:cubicBezTo>
              </a:path>
              <a:path w="13321" h="10717">
                <a:moveTo>
                  <a:pt x="20191" y="17462"/>
                </a:moveTo>
                <a:cubicBezTo>
                  <a:pt x="20221" y="17561"/>
                  <a:pt x="20207" y="17553"/>
                  <a:pt x="20265" y="17611"/>
                </a:cubicBezTo>
                <a:cubicBezTo>
                  <a:pt x="20288" y="17475"/>
                  <a:pt x="20307" y="17331"/>
                  <a:pt x="20315" y="17190"/>
                </a:cubicBezTo>
                <a:cubicBezTo>
                  <a:pt x="20319" y="17117"/>
                  <a:pt x="20315" y="17040"/>
                  <a:pt x="20315" y="16966"/>
                </a:cubicBezTo>
                <a:cubicBezTo>
                  <a:pt x="20462" y="16966"/>
                  <a:pt x="20564" y="16945"/>
                  <a:pt x="20712" y="16917"/>
                </a:cubicBezTo>
                <a:cubicBezTo>
                  <a:pt x="20955" y="16871"/>
                  <a:pt x="21188" y="16875"/>
                  <a:pt x="21431" y="16842"/>
                </a:cubicBezTo>
                <a:cubicBezTo>
                  <a:pt x="21415" y="16842"/>
                  <a:pt x="21398" y="16842"/>
                  <a:pt x="21382" y="16842"/>
                </a:cubicBezTo>
              </a:path>
              <a:path w="13321" h="10717">
                <a:moveTo>
                  <a:pt x="20861" y="17140"/>
                </a:moveTo>
                <a:cubicBezTo>
                  <a:pt x="20801" y="17080"/>
                  <a:pt x="20682" y="17145"/>
                  <a:pt x="20588" y="17165"/>
                </a:cubicBezTo>
                <a:cubicBezTo>
                  <a:pt x="20580" y="17165"/>
                  <a:pt x="20571" y="17165"/>
                  <a:pt x="20563" y="17165"/>
                </a:cubicBezTo>
                <a:cubicBezTo>
                  <a:pt x="20641" y="17269"/>
                  <a:pt x="20734" y="17363"/>
                  <a:pt x="20762" y="17487"/>
                </a:cubicBezTo>
                <a:cubicBezTo>
                  <a:pt x="20650" y="17524"/>
                  <a:pt x="20449" y="17556"/>
                  <a:pt x="20563" y="17363"/>
                </a:cubicBezTo>
                <a:cubicBezTo>
                  <a:pt x="20620" y="17266"/>
                  <a:pt x="20715" y="17181"/>
                  <a:pt x="20811" y="17140"/>
                </a:cubicBezTo>
                <a:cubicBezTo>
                  <a:pt x="20828" y="17132"/>
                  <a:pt x="20844" y="17123"/>
                  <a:pt x="20861" y="17115"/>
                </a:cubicBezTo>
              </a:path>
              <a:path w="13321" h="10717">
                <a:moveTo>
                  <a:pt x="20712" y="16073"/>
                </a:moveTo>
                <a:cubicBezTo>
                  <a:pt x="20696" y="16042"/>
                  <a:pt x="20619" y="16175"/>
                  <a:pt x="20588" y="16222"/>
                </a:cubicBezTo>
                <a:cubicBezTo>
                  <a:pt x="20531" y="16308"/>
                  <a:pt x="20485" y="16376"/>
                  <a:pt x="20464" y="16470"/>
                </a:cubicBezTo>
                <a:cubicBezTo>
                  <a:pt x="20587" y="16482"/>
                  <a:pt x="20702" y="16514"/>
                  <a:pt x="20811" y="16421"/>
                </a:cubicBezTo>
                <a:cubicBezTo>
                  <a:pt x="20855" y="16383"/>
                  <a:pt x="20884" y="16299"/>
                  <a:pt x="20910" y="16247"/>
                </a:cubicBezTo>
                <a:cubicBezTo>
                  <a:pt x="20811" y="16225"/>
                  <a:pt x="20724" y="16252"/>
                  <a:pt x="20687" y="16371"/>
                </a:cubicBezTo>
                <a:cubicBezTo>
                  <a:pt x="20687" y="16429"/>
                  <a:pt x="20695" y="16446"/>
                  <a:pt x="20762" y="16421"/>
                </a:cubicBezTo>
              </a:path>
              <a:path w="13321" h="10717">
                <a:moveTo>
                  <a:pt x="21233" y="15999"/>
                </a:moveTo>
                <a:cubicBezTo>
                  <a:pt x="21221" y="16020"/>
                  <a:pt x="21109" y="16180"/>
                  <a:pt x="21158" y="16173"/>
                </a:cubicBezTo>
                <a:cubicBezTo>
                  <a:pt x="21166" y="16165"/>
                  <a:pt x="21175" y="16156"/>
                  <a:pt x="21183" y="16148"/>
                </a:cubicBezTo>
                <a:cubicBezTo>
                  <a:pt x="21191" y="16148"/>
                  <a:pt x="21200" y="16148"/>
                  <a:pt x="21208" y="16148"/>
                </a:cubicBezTo>
                <a:cubicBezTo>
                  <a:pt x="21208" y="16199"/>
                  <a:pt x="21202" y="16235"/>
                  <a:pt x="21258" y="16247"/>
                </a:cubicBezTo>
                <a:cubicBezTo>
                  <a:pt x="21301" y="16256"/>
                  <a:pt x="21361" y="16247"/>
                  <a:pt x="21406" y="16247"/>
                </a:cubicBezTo>
              </a:path>
              <a:path w="13321" h="10717">
                <a:moveTo>
                  <a:pt x="21506" y="15949"/>
                </a:moveTo>
                <a:cubicBezTo>
                  <a:pt x="21474" y="16075"/>
                  <a:pt x="21373" y="16209"/>
                  <a:pt x="21332" y="16346"/>
                </a:cubicBezTo>
                <a:cubicBezTo>
                  <a:pt x="21310" y="16420"/>
                  <a:pt x="21307" y="16456"/>
                  <a:pt x="21307" y="16520"/>
                </a:cubicBezTo>
              </a:path>
              <a:path w="13321" h="10717">
                <a:moveTo>
                  <a:pt x="19968" y="18182"/>
                </a:moveTo>
                <a:cubicBezTo>
                  <a:pt x="20054" y="18162"/>
                  <a:pt x="20127" y="18157"/>
                  <a:pt x="20216" y="18157"/>
                </a:cubicBezTo>
                <a:cubicBezTo>
                  <a:pt x="20216" y="18080"/>
                  <a:pt x="20238" y="17955"/>
                  <a:pt x="20117" y="17959"/>
                </a:cubicBezTo>
                <a:cubicBezTo>
                  <a:pt x="20012" y="17962"/>
                  <a:pt x="19841" y="18143"/>
                  <a:pt x="19918" y="18256"/>
                </a:cubicBezTo>
                <a:cubicBezTo>
                  <a:pt x="20016" y="18401"/>
                  <a:pt x="20166" y="18314"/>
                  <a:pt x="20290" y="18281"/>
                </a:cubicBezTo>
              </a:path>
              <a:path w="13321" h="10717">
                <a:moveTo>
                  <a:pt x="20563" y="17760"/>
                </a:moveTo>
                <a:cubicBezTo>
                  <a:pt x="20543" y="17900"/>
                  <a:pt x="20482" y="18023"/>
                  <a:pt x="20439" y="18157"/>
                </a:cubicBezTo>
                <a:cubicBezTo>
                  <a:pt x="20418" y="18239"/>
                  <a:pt x="20410" y="18255"/>
                  <a:pt x="20414" y="18306"/>
                </a:cubicBezTo>
                <a:cubicBezTo>
                  <a:pt x="20518" y="18330"/>
                  <a:pt x="20733" y="18367"/>
                  <a:pt x="20811" y="18256"/>
                </a:cubicBezTo>
                <a:cubicBezTo>
                  <a:pt x="20803" y="18240"/>
                  <a:pt x="20794" y="18223"/>
                  <a:pt x="20786" y="18207"/>
                </a:cubicBezTo>
              </a:path>
              <a:path w="13321" h="10717">
                <a:moveTo>
                  <a:pt x="20439" y="18033"/>
                </a:moveTo>
                <a:cubicBezTo>
                  <a:pt x="20599" y="18012"/>
                  <a:pt x="20751" y="17983"/>
                  <a:pt x="20910" y="17959"/>
                </a:cubicBezTo>
                <a:cubicBezTo>
                  <a:pt x="20927" y="17959"/>
                  <a:pt x="20943" y="17959"/>
                  <a:pt x="20960" y="17959"/>
                </a:cubicBezTo>
              </a:path>
              <a:path w="13321" h="10717">
                <a:moveTo>
                  <a:pt x="21183" y="18008"/>
                </a:moveTo>
                <a:cubicBezTo>
                  <a:pt x="21227" y="17993"/>
                  <a:pt x="21208" y="17937"/>
                  <a:pt x="21208" y="17884"/>
                </a:cubicBezTo>
                <a:cubicBezTo>
                  <a:pt x="21110" y="17906"/>
                  <a:pt x="20935" y="18005"/>
                  <a:pt x="20935" y="18132"/>
                </a:cubicBezTo>
                <a:cubicBezTo>
                  <a:pt x="20935" y="18281"/>
                  <a:pt x="21177" y="18271"/>
                  <a:pt x="21258" y="18231"/>
                </a:cubicBezTo>
                <a:cubicBezTo>
                  <a:pt x="21274" y="18215"/>
                  <a:pt x="21291" y="18198"/>
                  <a:pt x="21307" y="18182"/>
                </a:cubicBezTo>
              </a:path>
              <a:path w="13321" h="10717">
                <a:moveTo>
                  <a:pt x="20340" y="18083"/>
                </a:moveTo>
                <a:cubicBezTo>
                  <a:pt x="20417" y="18083"/>
                  <a:pt x="20488" y="18066"/>
                  <a:pt x="20563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1884240"/>
            <a:ext cx="1019160" cy="374760"/>
          </a:xfrm>
          <a:custGeom>
            <a:avLst/>
            <a:gdLst/>
            <a:ahLst/>
            <a:rect l="l" t="t" r="r" b="b"/>
            <a:pathLst>
              <a:path w="2829" h="1043">
                <a:moveTo>
                  <a:pt x="19075" y="5581"/>
                </a:moveTo>
                <a:cubicBezTo>
                  <a:pt x="19102" y="5769"/>
                  <a:pt x="19121" y="5973"/>
                  <a:pt x="19124" y="6176"/>
                </a:cubicBezTo>
                <a:cubicBezTo>
                  <a:pt x="19124" y="6209"/>
                  <a:pt x="19124" y="6243"/>
                  <a:pt x="19124" y="6276"/>
                </a:cubicBezTo>
                <a:cubicBezTo>
                  <a:pt x="19068" y="6042"/>
                  <a:pt x="19030" y="5870"/>
                  <a:pt x="19050" y="5606"/>
                </a:cubicBezTo>
                <a:cubicBezTo>
                  <a:pt x="19092" y="5400"/>
                  <a:pt x="19074" y="5343"/>
                  <a:pt x="19199" y="5283"/>
                </a:cubicBezTo>
                <a:cubicBezTo>
                  <a:pt x="19323" y="5401"/>
                  <a:pt x="19550" y="5653"/>
                  <a:pt x="19273" y="5779"/>
                </a:cubicBezTo>
                <a:cubicBezTo>
                  <a:pt x="19153" y="5833"/>
                  <a:pt x="19125" y="5743"/>
                  <a:pt x="19124" y="5680"/>
                </a:cubicBezTo>
              </a:path>
              <a:path w="2829" h="1043">
                <a:moveTo>
                  <a:pt x="19472" y="5804"/>
                </a:moveTo>
                <a:cubicBezTo>
                  <a:pt x="19556" y="5800"/>
                  <a:pt x="19679" y="5785"/>
                  <a:pt x="19745" y="5804"/>
                </a:cubicBezTo>
                <a:cubicBezTo>
                  <a:pt x="19740" y="5775"/>
                  <a:pt x="19686" y="5567"/>
                  <a:pt x="19621" y="5606"/>
                </a:cubicBezTo>
                <a:cubicBezTo>
                  <a:pt x="19428" y="5723"/>
                  <a:pt x="19461" y="5961"/>
                  <a:pt x="19546" y="6102"/>
                </a:cubicBezTo>
                <a:cubicBezTo>
                  <a:pt x="19739" y="6074"/>
                  <a:pt x="19813" y="6056"/>
                  <a:pt x="19918" y="5953"/>
                </a:cubicBezTo>
              </a:path>
              <a:path w="2829" h="1043">
                <a:moveTo>
                  <a:pt x="19968" y="5730"/>
                </a:moveTo>
                <a:cubicBezTo>
                  <a:pt x="19968" y="5837"/>
                  <a:pt x="19968" y="5879"/>
                  <a:pt x="19968" y="5953"/>
                </a:cubicBezTo>
                <a:cubicBezTo>
                  <a:pt x="19968" y="6028"/>
                  <a:pt x="19971" y="5851"/>
                  <a:pt x="19993" y="5779"/>
                </a:cubicBezTo>
                <a:cubicBezTo>
                  <a:pt x="20034" y="5675"/>
                  <a:pt x="20036" y="5648"/>
                  <a:pt x="20092" y="5606"/>
                </a:cubicBezTo>
              </a:path>
              <a:path w="2829" h="1043">
                <a:moveTo>
                  <a:pt x="20712" y="5457"/>
                </a:moveTo>
                <a:cubicBezTo>
                  <a:pt x="20700" y="5371"/>
                  <a:pt x="20679" y="5234"/>
                  <a:pt x="20538" y="5259"/>
                </a:cubicBezTo>
                <a:cubicBezTo>
                  <a:pt x="20282" y="5305"/>
                  <a:pt x="20417" y="5721"/>
                  <a:pt x="20439" y="5879"/>
                </a:cubicBezTo>
                <a:cubicBezTo>
                  <a:pt x="20457" y="5986"/>
                  <a:pt x="20465" y="5994"/>
                  <a:pt x="20464" y="6052"/>
                </a:cubicBezTo>
              </a:path>
              <a:path w="2829" h="1043">
                <a:moveTo>
                  <a:pt x="20265" y="5829"/>
                </a:moveTo>
                <a:cubicBezTo>
                  <a:pt x="20464" y="5793"/>
                  <a:pt x="20661" y="5776"/>
                  <a:pt x="20861" y="5755"/>
                </a:cubicBezTo>
                <a:cubicBezTo>
                  <a:pt x="20914" y="5749"/>
                  <a:pt x="20915" y="5679"/>
                  <a:pt x="20886" y="5631"/>
                </a:cubicBezTo>
                <a:cubicBezTo>
                  <a:pt x="20878" y="5631"/>
                  <a:pt x="20869" y="5631"/>
                  <a:pt x="20861" y="5631"/>
                </a:cubicBezTo>
                <a:cubicBezTo>
                  <a:pt x="20812" y="5717"/>
                  <a:pt x="20657" y="5943"/>
                  <a:pt x="20836" y="6003"/>
                </a:cubicBezTo>
                <a:cubicBezTo>
                  <a:pt x="21011" y="6003"/>
                  <a:pt x="21081" y="5986"/>
                  <a:pt x="21158" y="5854"/>
                </a:cubicBezTo>
              </a:path>
              <a:path w="2829" h="1043">
                <a:moveTo>
                  <a:pt x="21258" y="5680"/>
                </a:moveTo>
                <a:cubicBezTo>
                  <a:pt x="21289" y="5637"/>
                  <a:pt x="21289" y="5649"/>
                  <a:pt x="21258" y="5606"/>
                </a:cubicBezTo>
                <a:cubicBezTo>
                  <a:pt x="21155" y="5640"/>
                  <a:pt x="21031" y="5778"/>
                  <a:pt x="21134" y="5904"/>
                </a:cubicBezTo>
                <a:cubicBezTo>
                  <a:pt x="21245" y="5959"/>
                  <a:pt x="21291" y="5973"/>
                  <a:pt x="21382" y="5928"/>
                </a:cubicBezTo>
              </a:path>
              <a:path w="2829" h="1043">
                <a:moveTo>
                  <a:pt x="21605" y="5234"/>
                </a:moveTo>
                <a:cubicBezTo>
                  <a:pt x="21619" y="5426"/>
                  <a:pt x="21646" y="5615"/>
                  <a:pt x="21679" y="5804"/>
                </a:cubicBezTo>
              </a:path>
              <a:path w="2829" h="1043">
                <a:moveTo>
                  <a:pt x="21481" y="5581"/>
                </a:moveTo>
                <a:cubicBezTo>
                  <a:pt x="21601" y="5560"/>
                  <a:pt x="21773" y="5502"/>
                  <a:pt x="21878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66000" y="3857760"/>
            <a:ext cx="642960" cy="2428920"/>
          </a:xfrm>
          <a:custGeom>
            <a:avLst/>
            <a:gdLst/>
            <a:ahLst/>
            <a:rect l="l" t="t" r="r" b="b"/>
            <a:pathLst>
              <a:path w="1787" h="6747">
                <a:moveTo>
                  <a:pt x="19844" y="10740"/>
                </a:moveTo>
                <a:cubicBezTo>
                  <a:pt x="19935" y="10718"/>
                  <a:pt x="19961" y="10707"/>
                  <a:pt x="20017" y="10740"/>
                </a:cubicBezTo>
              </a:path>
              <a:path w="1787" h="6747">
                <a:moveTo>
                  <a:pt x="19645" y="12030"/>
                </a:moveTo>
                <a:cubicBezTo>
                  <a:pt x="19769" y="12001"/>
                  <a:pt x="19844" y="11991"/>
                  <a:pt x="19968" y="12005"/>
                </a:cubicBezTo>
              </a:path>
              <a:path w="1787" h="6747">
                <a:moveTo>
                  <a:pt x="19645" y="12229"/>
                </a:moveTo>
                <a:cubicBezTo>
                  <a:pt x="19777" y="12210"/>
                  <a:pt x="19908" y="12197"/>
                  <a:pt x="20042" y="12179"/>
                </a:cubicBezTo>
              </a:path>
              <a:path w="1787" h="6747">
                <a:moveTo>
                  <a:pt x="19596" y="13196"/>
                </a:moveTo>
                <a:cubicBezTo>
                  <a:pt x="19719" y="13185"/>
                  <a:pt x="19845" y="13163"/>
                  <a:pt x="19968" y="13146"/>
                </a:cubicBezTo>
              </a:path>
              <a:path w="1787" h="6747">
                <a:moveTo>
                  <a:pt x="19968" y="13146"/>
                </a:moveTo>
                <a:lnTo>
                  <a:pt x="19968" y="13146"/>
                </a:lnTo>
              </a:path>
              <a:path w="1787" h="6747">
                <a:moveTo>
                  <a:pt x="19348" y="14362"/>
                </a:moveTo>
                <a:cubicBezTo>
                  <a:pt x="19480" y="14318"/>
                  <a:pt x="19612" y="14278"/>
                  <a:pt x="19745" y="14238"/>
                </a:cubicBezTo>
              </a:path>
              <a:path w="1787" h="6747">
                <a:moveTo>
                  <a:pt x="19745" y="14238"/>
                </a:moveTo>
                <a:lnTo>
                  <a:pt x="19745" y="14238"/>
                </a:lnTo>
              </a:path>
              <a:path w="1787" h="6747">
                <a:moveTo>
                  <a:pt x="19372" y="16148"/>
                </a:moveTo>
                <a:cubicBezTo>
                  <a:pt x="19479" y="16142"/>
                  <a:pt x="19567" y="16128"/>
                  <a:pt x="19670" y="16098"/>
                </a:cubicBezTo>
              </a:path>
              <a:path w="1787" h="6747">
                <a:moveTo>
                  <a:pt x="19397" y="16346"/>
                </a:moveTo>
                <a:cubicBezTo>
                  <a:pt x="19522" y="16337"/>
                  <a:pt x="19644" y="16316"/>
                  <a:pt x="19769" y="16297"/>
                </a:cubicBezTo>
              </a:path>
              <a:path w="1787" h="6747">
                <a:moveTo>
                  <a:pt x="19372" y="17462"/>
                </a:moveTo>
                <a:cubicBezTo>
                  <a:pt x="19574" y="17454"/>
                  <a:pt x="19695" y="17423"/>
                  <a:pt x="19893" y="17363"/>
                </a:cubicBezTo>
              </a:path>
              <a:path w="1787" h="6747">
                <a:moveTo>
                  <a:pt x="21134" y="17090"/>
                </a:moveTo>
                <a:cubicBezTo>
                  <a:pt x="21108" y="17228"/>
                  <a:pt x="21089" y="17333"/>
                  <a:pt x="2103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23200" y="2205000"/>
            <a:ext cx="1764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23168" y="6127"/>
                </a:moveTo>
                <a:lnTo>
                  <a:pt x="23168" y="6127"/>
                </a:lnTo>
                <a:lnTo>
                  <a:pt x="23168" y="6127"/>
                </a:lnTo>
              </a:path>
              <a:path w="51" h="348">
                <a:moveTo>
                  <a:pt x="23143" y="6474"/>
                </a:moveTo>
                <a:cubicBezTo>
                  <a:pt x="23135" y="6474"/>
                  <a:pt x="23126" y="6474"/>
                  <a:pt x="23118" y="6474"/>
                </a:cubicBezTo>
              </a:path>
              <a:path w="51" h="348">
                <a:moveTo>
                  <a:pt x="23118" y="6474"/>
                </a:moveTo>
                <a:lnTo>
                  <a:pt x="23118" y="64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26200" y="2303640"/>
            <a:ext cx="1071720" cy="339480"/>
          </a:xfrm>
          <a:custGeom>
            <a:avLst/>
            <a:gdLst/>
            <a:ahLst/>
            <a:rect l="l" t="t" r="r" b="b"/>
            <a:pathLst>
              <a:path w="2978" h="943">
                <a:moveTo>
                  <a:pt x="20141" y="6524"/>
                </a:moveTo>
                <a:cubicBezTo>
                  <a:pt x="20141" y="6411"/>
                  <a:pt x="20071" y="6469"/>
                  <a:pt x="19993" y="6499"/>
                </a:cubicBezTo>
                <a:cubicBezTo>
                  <a:pt x="19863" y="6549"/>
                  <a:pt x="19856" y="6561"/>
                  <a:pt x="19794" y="6672"/>
                </a:cubicBezTo>
                <a:cubicBezTo>
                  <a:pt x="19940" y="6709"/>
                  <a:pt x="20076" y="6691"/>
                  <a:pt x="20216" y="6747"/>
                </a:cubicBezTo>
                <a:cubicBezTo>
                  <a:pt x="20154" y="6908"/>
                  <a:pt x="20091" y="6989"/>
                  <a:pt x="19893" y="6945"/>
                </a:cubicBezTo>
                <a:cubicBezTo>
                  <a:pt x="19805" y="6901"/>
                  <a:pt x="19772" y="6897"/>
                  <a:pt x="19794" y="6821"/>
                </a:cubicBezTo>
              </a:path>
              <a:path w="2978" h="943">
                <a:moveTo>
                  <a:pt x="20489" y="6672"/>
                </a:moveTo>
                <a:cubicBezTo>
                  <a:pt x="20393" y="6761"/>
                  <a:pt x="20365" y="6769"/>
                  <a:pt x="20340" y="6896"/>
                </a:cubicBezTo>
                <a:cubicBezTo>
                  <a:pt x="20459" y="6903"/>
                  <a:pt x="20522" y="6912"/>
                  <a:pt x="20613" y="6821"/>
                </a:cubicBezTo>
                <a:cubicBezTo>
                  <a:pt x="20594" y="6953"/>
                  <a:pt x="20553" y="7085"/>
                  <a:pt x="20538" y="7218"/>
                </a:cubicBezTo>
                <a:cubicBezTo>
                  <a:pt x="20538" y="7286"/>
                  <a:pt x="20535" y="7305"/>
                  <a:pt x="20563" y="7342"/>
                </a:cubicBezTo>
                <a:cubicBezTo>
                  <a:pt x="20591" y="7279"/>
                  <a:pt x="20650" y="7190"/>
                  <a:pt x="20638" y="7119"/>
                </a:cubicBezTo>
                <a:cubicBezTo>
                  <a:pt x="20629" y="7065"/>
                  <a:pt x="20598" y="7021"/>
                  <a:pt x="20588" y="6970"/>
                </a:cubicBezTo>
              </a:path>
              <a:path w="2978" h="943">
                <a:moveTo>
                  <a:pt x="20836" y="6672"/>
                </a:moveTo>
                <a:cubicBezTo>
                  <a:pt x="20836" y="6738"/>
                  <a:pt x="20821" y="6792"/>
                  <a:pt x="20836" y="6846"/>
                </a:cubicBezTo>
                <a:cubicBezTo>
                  <a:pt x="21007" y="6898"/>
                  <a:pt x="21047" y="6845"/>
                  <a:pt x="21084" y="6672"/>
                </a:cubicBezTo>
                <a:cubicBezTo>
                  <a:pt x="21084" y="6656"/>
                  <a:pt x="21084" y="6639"/>
                  <a:pt x="21084" y="6623"/>
                </a:cubicBezTo>
                <a:cubicBezTo>
                  <a:pt x="21084" y="6769"/>
                  <a:pt x="21081" y="6814"/>
                  <a:pt x="21183" y="6896"/>
                </a:cubicBezTo>
              </a:path>
              <a:path w="2978" h="943">
                <a:moveTo>
                  <a:pt x="21506" y="6548"/>
                </a:moveTo>
                <a:cubicBezTo>
                  <a:pt x="21370" y="6587"/>
                  <a:pt x="21338" y="6623"/>
                  <a:pt x="21307" y="6747"/>
                </a:cubicBezTo>
                <a:cubicBezTo>
                  <a:pt x="21426" y="6801"/>
                  <a:pt x="21595" y="6847"/>
                  <a:pt x="21580" y="6648"/>
                </a:cubicBezTo>
                <a:cubicBezTo>
                  <a:pt x="21555" y="6648"/>
                  <a:pt x="21547" y="6648"/>
                  <a:pt x="21555" y="6623"/>
                </a:cubicBezTo>
                <a:cubicBezTo>
                  <a:pt x="21555" y="6723"/>
                  <a:pt x="21564" y="6865"/>
                  <a:pt x="21729" y="6821"/>
                </a:cubicBezTo>
                <a:cubicBezTo>
                  <a:pt x="21762" y="6796"/>
                  <a:pt x="21795" y="6772"/>
                  <a:pt x="21828" y="6747"/>
                </a:cubicBezTo>
              </a:path>
              <a:path w="2978" h="943">
                <a:moveTo>
                  <a:pt x="21853" y="6573"/>
                </a:moveTo>
                <a:cubicBezTo>
                  <a:pt x="21853" y="6591"/>
                  <a:pt x="21857" y="6747"/>
                  <a:pt x="21878" y="6747"/>
                </a:cubicBezTo>
                <a:cubicBezTo>
                  <a:pt x="21878" y="6739"/>
                  <a:pt x="21878" y="6730"/>
                  <a:pt x="21878" y="6722"/>
                </a:cubicBezTo>
                <a:cubicBezTo>
                  <a:pt x="21924" y="6617"/>
                  <a:pt x="21899" y="6465"/>
                  <a:pt x="22051" y="6474"/>
                </a:cubicBezTo>
                <a:cubicBezTo>
                  <a:pt x="22092" y="6482"/>
                  <a:pt x="22134" y="6491"/>
                  <a:pt x="22175" y="6499"/>
                </a:cubicBezTo>
              </a:path>
              <a:path w="2978" h="943">
                <a:moveTo>
                  <a:pt x="22275" y="6524"/>
                </a:moveTo>
                <a:cubicBezTo>
                  <a:pt x="22334" y="6504"/>
                  <a:pt x="22406" y="6476"/>
                  <a:pt x="22423" y="6424"/>
                </a:cubicBezTo>
                <a:cubicBezTo>
                  <a:pt x="22369" y="6432"/>
                  <a:pt x="22158" y="6473"/>
                  <a:pt x="22225" y="6598"/>
                </a:cubicBezTo>
                <a:cubicBezTo>
                  <a:pt x="22311" y="6684"/>
                  <a:pt x="22352" y="6704"/>
                  <a:pt x="22448" y="6623"/>
                </a:cubicBezTo>
              </a:path>
              <a:path w="2978" h="943">
                <a:moveTo>
                  <a:pt x="22696" y="6400"/>
                </a:moveTo>
                <a:cubicBezTo>
                  <a:pt x="22641" y="6409"/>
                  <a:pt x="22598" y="6427"/>
                  <a:pt x="22547" y="6449"/>
                </a:cubicBezTo>
                <a:cubicBezTo>
                  <a:pt x="22629" y="6449"/>
                  <a:pt x="22732" y="6495"/>
                  <a:pt x="22771" y="6573"/>
                </a:cubicBezTo>
                <a:cubicBezTo>
                  <a:pt x="22835" y="6701"/>
                  <a:pt x="22621" y="6747"/>
                  <a:pt x="22547" y="6697"/>
                </a:cubicBezTo>
                <a:cubicBezTo>
                  <a:pt x="22531" y="6672"/>
                  <a:pt x="22514" y="6648"/>
                  <a:pt x="22498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4880" y="5367240"/>
            <a:ext cx="241200" cy="293760"/>
          </a:xfrm>
          <a:custGeom>
            <a:avLst/>
            <a:gdLst/>
            <a:ahLst/>
            <a:rect l="l" t="t" r="r" b="b"/>
            <a:pathLst>
              <a:path w="670" h="819">
                <a:moveTo>
                  <a:pt x="2084" y="15032"/>
                </a:moveTo>
                <a:cubicBezTo>
                  <a:pt x="2128" y="14919"/>
                  <a:pt x="2203" y="14925"/>
                  <a:pt x="2307" y="14932"/>
                </a:cubicBezTo>
                <a:cubicBezTo>
                  <a:pt x="2318" y="15121"/>
                  <a:pt x="2296" y="15191"/>
                  <a:pt x="2133" y="15304"/>
                </a:cubicBezTo>
                <a:cubicBezTo>
                  <a:pt x="2276" y="15281"/>
                  <a:pt x="2408" y="15341"/>
                  <a:pt x="2381" y="15528"/>
                </a:cubicBezTo>
                <a:cubicBezTo>
                  <a:pt x="2351" y="15734"/>
                  <a:pt x="2113" y="15761"/>
                  <a:pt x="1960" y="15701"/>
                </a:cubicBezTo>
                <a:cubicBezTo>
                  <a:pt x="1960" y="15693"/>
                  <a:pt x="1960" y="15685"/>
                  <a:pt x="1960" y="15677"/>
                </a:cubicBezTo>
              </a:path>
              <a:path w="670" h="819">
                <a:moveTo>
                  <a:pt x="2629" y="15503"/>
                </a:moveTo>
                <a:cubicBezTo>
                  <a:pt x="2617" y="15534"/>
                  <a:pt x="2602" y="15659"/>
                  <a:pt x="2629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1920" y="5276880"/>
            <a:ext cx="115920" cy="295200"/>
          </a:xfrm>
          <a:custGeom>
            <a:avLst/>
            <a:gdLst/>
            <a:ahLst/>
            <a:rect l="l" t="t" r="r" b="b"/>
            <a:pathLst>
              <a:path w="324" h="819">
                <a:moveTo>
                  <a:pt x="6995" y="14660"/>
                </a:moveTo>
                <a:cubicBezTo>
                  <a:pt x="6831" y="14683"/>
                  <a:pt x="6782" y="14685"/>
                  <a:pt x="6697" y="14759"/>
                </a:cubicBezTo>
                <a:cubicBezTo>
                  <a:pt x="6710" y="14941"/>
                  <a:pt x="7001" y="15104"/>
                  <a:pt x="6970" y="15304"/>
                </a:cubicBezTo>
                <a:cubicBezTo>
                  <a:pt x="6876" y="15422"/>
                  <a:pt x="6852" y="15461"/>
                  <a:pt x="6747" y="15478"/>
                </a:cubicBezTo>
                <a:cubicBezTo>
                  <a:pt x="6709" y="15227"/>
                  <a:pt x="6841" y="15120"/>
                  <a:pt x="6945" y="14883"/>
                </a:cubicBezTo>
                <a:cubicBezTo>
                  <a:pt x="6945" y="14875"/>
                  <a:pt x="6945" y="14866"/>
                  <a:pt x="6945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3040" y="5276880"/>
            <a:ext cx="349200" cy="26028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8111" y="14660"/>
                </a:moveTo>
                <a:cubicBezTo>
                  <a:pt x="7890" y="14754"/>
                  <a:pt x="7738" y="14774"/>
                  <a:pt x="7888" y="15032"/>
                </a:cubicBezTo>
                <a:cubicBezTo>
                  <a:pt x="7989" y="15205"/>
                  <a:pt x="8071" y="15218"/>
                  <a:pt x="8012" y="15379"/>
                </a:cubicBezTo>
                <a:cubicBezTo>
                  <a:pt x="7770" y="15240"/>
                  <a:pt x="7904" y="15061"/>
                  <a:pt x="8062" y="14858"/>
                </a:cubicBezTo>
                <a:cubicBezTo>
                  <a:pt x="8134" y="14786"/>
                  <a:pt x="8167" y="14791"/>
                  <a:pt x="8161" y="14734"/>
                </a:cubicBezTo>
              </a:path>
              <a:path w="969" h="720">
                <a:moveTo>
                  <a:pt x="8483" y="14883"/>
                </a:moveTo>
                <a:cubicBezTo>
                  <a:pt x="8620" y="14870"/>
                  <a:pt x="8708" y="14831"/>
                  <a:pt x="878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13240" y="3803760"/>
            <a:ext cx="12564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4759" y="10592"/>
                </a:moveTo>
                <a:cubicBezTo>
                  <a:pt x="14925" y="10592"/>
                  <a:pt x="14991" y="10590"/>
                  <a:pt x="15106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8840" y="534816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7218" y="14858"/>
                </a:moveTo>
                <a:cubicBezTo>
                  <a:pt x="7329" y="15011"/>
                  <a:pt x="7411" y="15179"/>
                  <a:pt x="7516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2840" y="5295960"/>
            <a:ext cx="71280" cy="249120"/>
          </a:xfrm>
          <a:custGeom>
            <a:avLst/>
            <a:gdLst/>
            <a:ahLst/>
            <a:rect l="l" t="t" r="r" b="b"/>
            <a:pathLst>
              <a:path w="199" h="696">
                <a:moveTo>
                  <a:pt x="7565" y="14709"/>
                </a:moveTo>
                <a:cubicBezTo>
                  <a:pt x="7485" y="14937"/>
                  <a:pt x="7138" y="15482"/>
                  <a:pt x="7367" y="15404"/>
                </a:cubicBezTo>
                <a:cubicBezTo>
                  <a:pt x="7400" y="15371"/>
                  <a:pt x="7433" y="15337"/>
                  <a:pt x="746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71880" y="540216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8533" y="15081"/>
                </a:moveTo>
                <a:cubicBezTo>
                  <a:pt x="8667" y="15054"/>
                  <a:pt x="8718" y="15043"/>
                  <a:pt x="8806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70160" y="5402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06" y="15007"/>
                </a:moveTo>
                <a:lnTo>
                  <a:pt x="8806" y="150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62200" y="516096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0046" y="14337"/>
                </a:moveTo>
                <a:cubicBezTo>
                  <a:pt x="9964" y="14591"/>
                  <a:pt x="9908" y="14814"/>
                  <a:pt x="9897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56280" y="2894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23" y="8037"/>
                </a:moveTo>
                <a:lnTo>
                  <a:pt x="19323" y="80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50080" y="64911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1530" y="18058"/>
                </a:moveTo>
                <a:cubicBezTo>
                  <a:pt x="21555" y="18058"/>
                  <a:pt x="21563" y="18058"/>
                  <a:pt x="21555" y="1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13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 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014720" y="2714760"/>
            <a:ext cx="2459160" cy="3152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89000" y="6680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051" y="18554"/>
                </a:moveTo>
                <a:cubicBezTo>
                  <a:pt x="3043" y="18554"/>
                  <a:pt x="3034" y="18554"/>
                  <a:pt x="3026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852640" cy="365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93640" y="4176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3160" y="2840040"/>
            <a:ext cx="696960" cy="1795320"/>
          </a:xfrm>
          <a:custGeom>
            <a:avLst/>
            <a:gdLst/>
            <a:ahLst/>
            <a:rect l="l" t="t" r="r" b="b"/>
            <a:pathLst>
              <a:path w="1935" h="4987">
                <a:moveTo>
                  <a:pt x="12378" y="8632"/>
                </a:moveTo>
                <a:cubicBezTo>
                  <a:pt x="12525" y="8561"/>
                  <a:pt x="12672" y="8496"/>
                  <a:pt x="12824" y="8434"/>
                </a:cubicBezTo>
              </a:path>
              <a:path w="1935" h="4987">
                <a:moveTo>
                  <a:pt x="13171" y="7888"/>
                </a:moveTo>
                <a:cubicBezTo>
                  <a:pt x="13187" y="8097"/>
                  <a:pt x="13233" y="8281"/>
                  <a:pt x="13295" y="8483"/>
                </a:cubicBezTo>
              </a:path>
              <a:path w="1935" h="4987">
                <a:moveTo>
                  <a:pt x="11981" y="10120"/>
                </a:moveTo>
                <a:cubicBezTo>
                  <a:pt x="11989" y="10128"/>
                  <a:pt x="11997" y="10137"/>
                  <a:pt x="12005" y="10145"/>
                </a:cubicBezTo>
              </a:path>
              <a:path w="1935" h="4987">
                <a:moveTo>
                  <a:pt x="12005" y="10145"/>
                </a:moveTo>
                <a:lnTo>
                  <a:pt x="12005" y="10145"/>
                </a:lnTo>
              </a:path>
              <a:path w="1935" h="4987">
                <a:moveTo>
                  <a:pt x="13022" y="10021"/>
                </a:moveTo>
                <a:cubicBezTo>
                  <a:pt x="13131" y="9959"/>
                  <a:pt x="13226" y="9902"/>
                  <a:pt x="13345" y="9872"/>
                </a:cubicBezTo>
              </a:path>
              <a:path w="1935" h="4987">
                <a:moveTo>
                  <a:pt x="12278" y="12328"/>
                </a:moveTo>
                <a:cubicBezTo>
                  <a:pt x="12419" y="12271"/>
                  <a:pt x="12477" y="12247"/>
                  <a:pt x="12576" y="12204"/>
                </a:cubicBezTo>
              </a:path>
              <a:path w="1935" h="4987">
                <a:moveTo>
                  <a:pt x="13568" y="11609"/>
                </a:moveTo>
                <a:cubicBezTo>
                  <a:pt x="13597" y="11769"/>
                  <a:pt x="13644" y="11924"/>
                  <a:pt x="13692" y="12080"/>
                </a:cubicBezTo>
              </a:path>
              <a:path w="1935" h="4987">
                <a:moveTo>
                  <a:pt x="12799" y="12750"/>
                </a:moveTo>
                <a:lnTo>
                  <a:pt x="12799" y="12750"/>
                </a:lnTo>
              </a:path>
              <a:path w="1935" h="4987">
                <a:moveTo>
                  <a:pt x="12799" y="12750"/>
                </a:moveTo>
                <a:lnTo>
                  <a:pt x="12799" y="12750"/>
                </a:lnTo>
              </a:path>
              <a:path w="1935" h="4987">
                <a:moveTo>
                  <a:pt x="13742" y="12378"/>
                </a:moveTo>
                <a:cubicBezTo>
                  <a:pt x="13773" y="12488"/>
                  <a:pt x="13807" y="12808"/>
                  <a:pt x="13915" y="12874"/>
                </a:cubicBezTo>
                <a:cubicBezTo>
                  <a:pt x="13915" y="12866"/>
                  <a:pt x="13915" y="12857"/>
                  <a:pt x="13915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7200" y="2901960"/>
            <a:ext cx="1160640" cy="992160"/>
          </a:xfrm>
          <a:custGeom>
            <a:avLst/>
            <a:gdLst/>
            <a:ahLst/>
            <a:rect l="l" t="t" r="r" b="b"/>
            <a:pathLst>
              <a:path w="3226" h="2754">
                <a:moveTo>
                  <a:pt x="10790" y="8954"/>
                </a:moveTo>
                <a:cubicBezTo>
                  <a:pt x="10877" y="9013"/>
                  <a:pt x="10899" y="9072"/>
                  <a:pt x="10988" y="9128"/>
                </a:cubicBezTo>
                <a:cubicBezTo>
                  <a:pt x="11088" y="9168"/>
                  <a:pt x="11117" y="9161"/>
                  <a:pt x="11137" y="9227"/>
                </a:cubicBezTo>
                <a:cubicBezTo>
                  <a:pt x="10869" y="9412"/>
                  <a:pt x="10612" y="9606"/>
                  <a:pt x="10368" y="9823"/>
                </a:cubicBezTo>
                <a:cubicBezTo>
                  <a:pt x="10306" y="9878"/>
                  <a:pt x="10298" y="9893"/>
                  <a:pt x="10269" y="9922"/>
                </a:cubicBezTo>
              </a:path>
              <a:path w="3226" h="2754">
                <a:moveTo>
                  <a:pt x="11757" y="8409"/>
                </a:moveTo>
                <a:cubicBezTo>
                  <a:pt x="11804" y="8690"/>
                  <a:pt x="11841" y="8967"/>
                  <a:pt x="11857" y="9252"/>
                </a:cubicBezTo>
              </a:path>
              <a:path w="3226" h="2754">
                <a:moveTo>
                  <a:pt x="12105" y="8756"/>
                </a:moveTo>
                <a:cubicBezTo>
                  <a:pt x="12170" y="8725"/>
                  <a:pt x="12244" y="8680"/>
                  <a:pt x="12303" y="8657"/>
                </a:cubicBezTo>
                <a:cubicBezTo>
                  <a:pt x="12250" y="8644"/>
                  <a:pt x="12156" y="8590"/>
                  <a:pt x="12105" y="8657"/>
                </a:cubicBezTo>
                <a:cubicBezTo>
                  <a:pt x="11994" y="8804"/>
                  <a:pt x="12025" y="9103"/>
                  <a:pt x="12278" y="8979"/>
                </a:cubicBezTo>
                <a:cubicBezTo>
                  <a:pt x="12328" y="8938"/>
                  <a:pt x="12377" y="8896"/>
                  <a:pt x="12427" y="8855"/>
                </a:cubicBezTo>
              </a:path>
              <a:path w="3226" h="2754">
                <a:moveTo>
                  <a:pt x="12601" y="8136"/>
                </a:moveTo>
                <a:cubicBezTo>
                  <a:pt x="12449" y="8155"/>
                  <a:pt x="12418" y="8313"/>
                  <a:pt x="12452" y="8458"/>
                </a:cubicBezTo>
                <a:cubicBezTo>
                  <a:pt x="12478" y="8571"/>
                  <a:pt x="12564" y="8713"/>
                  <a:pt x="12626" y="8806"/>
                </a:cubicBezTo>
              </a:path>
              <a:path w="3226" h="2754">
                <a:moveTo>
                  <a:pt x="13022" y="8359"/>
                </a:moveTo>
                <a:cubicBezTo>
                  <a:pt x="13164" y="8248"/>
                  <a:pt x="13319" y="8188"/>
                  <a:pt x="13469" y="8086"/>
                </a:cubicBezTo>
                <a:cubicBezTo>
                  <a:pt x="13477" y="8078"/>
                  <a:pt x="13486" y="8070"/>
                  <a:pt x="13494" y="8062"/>
                </a:cubicBezTo>
              </a:path>
              <a:path w="3226" h="2754">
                <a:moveTo>
                  <a:pt x="12601" y="9252"/>
                </a:moveTo>
                <a:cubicBezTo>
                  <a:pt x="12620" y="9368"/>
                  <a:pt x="12626" y="9479"/>
                  <a:pt x="12626" y="9599"/>
                </a:cubicBezTo>
                <a:cubicBezTo>
                  <a:pt x="12626" y="9607"/>
                  <a:pt x="12626" y="9616"/>
                  <a:pt x="12626" y="9624"/>
                </a:cubicBezTo>
              </a:path>
              <a:path w="3226" h="2754">
                <a:moveTo>
                  <a:pt x="12477" y="9475"/>
                </a:moveTo>
                <a:cubicBezTo>
                  <a:pt x="12623" y="9392"/>
                  <a:pt x="12770" y="9322"/>
                  <a:pt x="12923" y="9252"/>
                </a:cubicBezTo>
                <a:cubicBezTo>
                  <a:pt x="12904" y="9347"/>
                  <a:pt x="12883" y="9400"/>
                  <a:pt x="12898" y="9500"/>
                </a:cubicBezTo>
                <a:cubicBezTo>
                  <a:pt x="12988" y="9486"/>
                  <a:pt x="13277" y="9423"/>
                  <a:pt x="13097" y="9277"/>
                </a:cubicBezTo>
                <a:cubicBezTo>
                  <a:pt x="13064" y="9260"/>
                  <a:pt x="13031" y="9244"/>
                  <a:pt x="12998" y="9227"/>
                </a:cubicBezTo>
              </a:path>
              <a:path w="3226" h="2754">
                <a:moveTo>
                  <a:pt x="11485" y="10368"/>
                </a:moveTo>
                <a:cubicBezTo>
                  <a:pt x="11527" y="10462"/>
                  <a:pt x="11611" y="10574"/>
                  <a:pt x="11633" y="10666"/>
                </a:cubicBezTo>
                <a:cubicBezTo>
                  <a:pt x="11558" y="10546"/>
                  <a:pt x="11498" y="10416"/>
                  <a:pt x="11633" y="10319"/>
                </a:cubicBezTo>
                <a:cubicBezTo>
                  <a:pt x="11729" y="10271"/>
                  <a:pt x="11758" y="10254"/>
                  <a:pt x="11832" y="10269"/>
                </a:cubicBezTo>
              </a:path>
              <a:path w="3226" h="2754">
                <a:moveTo>
                  <a:pt x="12005" y="10418"/>
                </a:moveTo>
                <a:cubicBezTo>
                  <a:pt x="12024" y="10492"/>
                  <a:pt x="12003" y="10536"/>
                  <a:pt x="12055" y="10592"/>
                </a:cubicBezTo>
              </a:path>
              <a:path w="3226" h="2754">
                <a:moveTo>
                  <a:pt x="12378" y="10220"/>
                </a:moveTo>
                <a:cubicBezTo>
                  <a:pt x="12214" y="10319"/>
                  <a:pt x="12204" y="10304"/>
                  <a:pt x="12204" y="10492"/>
                </a:cubicBezTo>
                <a:cubicBezTo>
                  <a:pt x="12385" y="10456"/>
                  <a:pt x="12404" y="10408"/>
                  <a:pt x="12378" y="10220"/>
                </a:cubicBezTo>
                <a:cubicBezTo>
                  <a:pt x="12406" y="10361"/>
                  <a:pt x="12581" y="10494"/>
                  <a:pt x="12576" y="10641"/>
                </a:cubicBezTo>
                <a:cubicBezTo>
                  <a:pt x="12564" y="10976"/>
                  <a:pt x="12277" y="10748"/>
                  <a:pt x="12229" y="10616"/>
                </a:cubicBezTo>
              </a:path>
              <a:path w="3226" h="2754">
                <a:moveTo>
                  <a:pt x="12601" y="9996"/>
                </a:moveTo>
                <a:cubicBezTo>
                  <a:pt x="12647" y="10125"/>
                  <a:pt x="12689" y="10248"/>
                  <a:pt x="12750" y="10368"/>
                </a:cubicBezTo>
                <a:cubicBezTo>
                  <a:pt x="12739" y="10313"/>
                  <a:pt x="12706" y="10256"/>
                  <a:pt x="12725" y="10195"/>
                </a:cubicBezTo>
                <a:cubicBezTo>
                  <a:pt x="12746" y="10127"/>
                  <a:pt x="12826" y="10027"/>
                  <a:pt x="12898" y="10120"/>
                </a:cubicBezTo>
                <a:cubicBezTo>
                  <a:pt x="12926" y="10156"/>
                  <a:pt x="12940" y="10361"/>
                  <a:pt x="12973" y="10294"/>
                </a:cubicBezTo>
              </a:path>
              <a:path w="3226" h="2754">
                <a:moveTo>
                  <a:pt x="13022" y="9699"/>
                </a:moveTo>
                <a:cubicBezTo>
                  <a:pt x="13116" y="9857"/>
                  <a:pt x="13178" y="10040"/>
                  <a:pt x="13271" y="10195"/>
                </a:cubicBezTo>
                <a:cubicBezTo>
                  <a:pt x="13271" y="10187"/>
                  <a:pt x="13271" y="10178"/>
                  <a:pt x="13271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4840" y="4205160"/>
            <a:ext cx="1401840" cy="6447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10319" y="12030"/>
                </a:moveTo>
                <a:cubicBezTo>
                  <a:pt x="10502" y="12150"/>
                  <a:pt x="10674" y="12271"/>
                  <a:pt x="10889" y="12353"/>
                </a:cubicBezTo>
                <a:cubicBezTo>
                  <a:pt x="11038" y="12395"/>
                  <a:pt x="11070" y="12405"/>
                  <a:pt x="11162" y="12427"/>
                </a:cubicBezTo>
                <a:cubicBezTo>
                  <a:pt x="11022" y="12567"/>
                  <a:pt x="10888" y="12718"/>
                  <a:pt x="10765" y="12874"/>
                </a:cubicBezTo>
                <a:cubicBezTo>
                  <a:pt x="10736" y="12910"/>
                  <a:pt x="10742" y="12909"/>
                  <a:pt x="10716" y="12948"/>
                </a:cubicBezTo>
              </a:path>
              <a:path w="3895" h="1787">
                <a:moveTo>
                  <a:pt x="11633" y="12080"/>
                </a:moveTo>
                <a:cubicBezTo>
                  <a:pt x="11667" y="12302"/>
                  <a:pt x="11698" y="12526"/>
                  <a:pt x="11708" y="12750"/>
                </a:cubicBezTo>
                <a:cubicBezTo>
                  <a:pt x="11708" y="12792"/>
                  <a:pt x="11714" y="12783"/>
                  <a:pt x="11733" y="12700"/>
                </a:cubicBezTo>
              </a:path>
              <a:path w="3895" h="1787">
                <a:moveTo>
                  <a:pt x="11931" y="12427"/>
                </a:moveTo>
                <a:cubicBezTo>
                  <a:pt x="12009" y="12395"/>
                  <a:pt x="12074" y="12390"/>
                  <a:pt x="12105" y="12328"/>
                </a:cubicBezTo>
                <a:cubicBezTo>
                  <a:pt x="11940" y="12300"/>
                  <a:pt x="11840" y="12424"/>
                  <a:pt x="11931" y="12601"/>
                </a:cubicBezTo>
                <a:cubicBezTo>
                  <a:pt x="12019" y="12772"/>
                  <a:pt x="12289" y="12503"/>
                  <a:pt x="12328" y="12477"/>
                </a:cubicBezTo>
              </a:path>
              <a:path w="3895" h="1787">
                <a:moveTo>
                  <a:pt x="12502" y="11906"/>
                </a:moveTo>
                <a:cubicBezTo>
                  <a:pt x="12284" y="11999"/>
                  <a:pt x="12317" y="12156"/>
                  <a:pt x="12378" y="12378"/>
                </a:cubicBezTo>
                <a:cubicBezTo>
                  <a:pt x="12394" y="12436"/>
                  <a:pt x="12427" y="12562"/>
                  <a:pt x="12427" y="12502"/>
                </a:cubicBezTo>
              </a:path>
              <a:path w="3895" h="1787">
                <a:moveTo>
                  <a:pt x="12750" y="11881"/>
                </a:moveTo>
                <a:cubicBezTo>
                  <a:pt x="12780" y="12020"/>
                  <a:pt x="12824" y="12161"/>
                  <a:pt x="12849" y="12303"/>
                </a:cubicBezTo>
                <a:cubicBezTo>
                  <a:pt x="12874" y="12444"/>
                  <a:pt x="13055" y="12286"/>
                  <a:pt x="13097" y="12254"/>
                </a:cubicBezTo>
              </a:path>
              <a:path w="3895" h="1787">
                <a:moveTo>
                  <a:pt x="12601" y="12254"/>
                </a:moveTo>
                <a:cubicBezTo>
                  <a:pt x="12766" y="12186"/>
                  <a:pt x="12930" y="12119"/>
                  <a:pt x="13097" y="12055"/>
                </a:cubicBezTo>
              </a:path>
              <a:path w="3895" h="1787">
                <a:moveTo>
                  <a:pt x="13494" y="11857"/>
                </a:moveTo>
                <a:cubicBezTo>
                  <a:pt x="13651" y="11795"/>
                  <a:pt x="13807" y="11741"/>
                  <a:pt x="13965" y="11683"/>
                </a:cubicBezTo>
                <a:cubicBezTo>
                  <a:pt x="13933" y="11755"/>
                  <a:pt x="13802" y="12025"/>
                  <a:pt x="13990" y="12030"/>
                </a:cubicBezTo>
                <a:cubicBezTo>
                  <a:pt x="14209" y="12036"/>
                  <a:pt x="14188" y="11895"/>
                  <a:pt x="14188" y="11757"/>
                </a:cubicBezTo>
                <a:cubicBezTo>
                  <a:pt x="14104" y="11673"/>
                  <a:pt x="14064" y="11648"/>
                  <a:pt x="13965" y="11683"/>
                </a:cubicBezTo>
              </a:path>
              <a:path w="3895" h="1787">
                <a:moveTo>
                  <a:pt x="12427" y="13097"/>
                </a:moveTo>
                <a:cubicBezTo>
                  <a:pt x="12444" y="13156"/>
                  <a:pt x="12473" y="13214"/>
                  <a:pt x="12502" y="13271"/>
                </a:cubicBezTo>
                <a:cubicBezTo>
                  <a:pt x="12418" y="13066"/>
                  <a:pt x="12406" y="13031"/>
                  <a:pt x="12576" y="12898"/>
                </a:cubicBezTo>
                <a:cubicBezTo>
                  <a:pt x="12611" y="12864"/>
                  <a:pt x="12633" y="12860"/>
                  <a:pt x="12675" y="12898"/>
                </a:cubicBezTo>
              </a:path>
              <a:path w="3895" h="1787">
                <a:moveTo>
                  <a:pt x="12750" y="12923"/>
                </a:moveTo>
                <a:cubicBezTo>
                  <a:pt x="12769" y="12963"/>
                  <a:pt x="12849" y="13205"/>
                  <a:pt x="12849" y="13146"/>
                </a:cubicBezTo>
              </a:path>
              <a:path w="3895" h="1787">
                <a:moveTo>
                  <a:pt x="13221" y="12824"/>
                </a:moveTo>
                <a:cubicBezTo>
                  <a:pt x="13188" y="12855"/>
                  <a:pt x="12871" y="13213"/>
                  <a:pt x="13146" y="13171"/>
                </a:cubicBezTo>
                <a:cubicBezTo>
                  <a:pt x="13313" y="13145"/>
                  <a:pt x="13256" y="12971"/>
                  <a:pt x="13246" y="12874"/>
                </a:cubicBezTo>
                <a:cubicBezTo>
                  <a:pt x="13223" y="12851"/>
                  <a:pt x="13215" y="12840"/>
                  <a:pt x="13221" y="12874"/>
                </a:cubicBezTo>
                <a:cubicBezTo>
                  <a:pt x="13314" y="13086"/>
                  <a:pt x="13284" y="13264"/>
                  <a:pt x="13345" y="13469"/>
                </a:cubicBezTo>
                <a:cubicBezTo>
                  <a:pt x="13353" y="13469"/>
                  <a:pt x="13362" y="13469"/>
                  <a:pt x="13370" y="13469"/>
                </a:cubicBezTo>
              </a:path>
              <a:path w="3895" h="1787">
                <a:moveTo>
                  <a:pt x="13320" y="12576"/>
                </a:moveTo>
                <a:cubicBezTo>
                  <a:pt x="13336" y="12750"/>
                  <a:pt x="13375" y="12904"/>
                  <a:pt x="13419" y="13072"/>
                </a:cubicBezTo>
                <a:cubicBezTo>
                  <a:pt x="13419" y="12960"/>
                  <a:pt x="13430" y="12860"/>
                  <a:pt x="13444" y="12750"/>
                </a:cubicBezTo>
                <a:cubicBezTo>
                  <a:pt x="13597" y="12775"/>
                  <a:pt x="13600" y="12856"/>
                  <a:pt x="13717" y="12948"/>
                </a:cubicBezTo>
                <a:cubicBezTo>
                  <a:pt x="13734" y="12956"/>
                  <a:pt x="13750" y="12965"/>
                  <a:pt x="13767" y="12973"/>
                </a:cubicBezTo>
              </a:path>
              <a:path w="3895" h="1787">
                <a:moveTo>
                  <a:pt x="13593" y="12675"/>
                </a:moveTo>
                <a:cubicBezTo>
                  <a:pt x="13795" y="12613"/>
                  <a:pt x="13991" y="12551"/>
                  <a:pt x="14188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se expressions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6 x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15 –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5 x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70080" y="4098960"/>
            <a:ext cx="36720" cy="108000"/>
          </a:xfrm>
          <a:custGeom>
            <a:avLst/>
            <a:gdLst/>
            <a:ahLst/>
            <a:rect l="l" t="t" r="r" b="b"/>
            <a:pathLst>
              <a:path w="100" h="299">
                <a:moveTo>
                  <a:pt x="6028" y="11385"/>
                </a:moveTo>
                <a:cubicBezTo>
                  <a:pt x="6072" y="11484"/>
                  <a:pt x="6112" y="11576"/>
                  <a:pt x="6127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0680" y="3589200"/>
            <a:ext cx="1009440" cy="723960"/>
          </a:xfrm>
          <a:custGeom>
            <a:avLst/>
            <a:gdLst/>
            <a:ahLst/>
            <a:rect l="l" t="t" r="r" b="b"/>
            <a:pathLst>
              <a:path w="2804" h="2011">
                <a:moveTo>
                  <a:pt x="5978" y="10046"/>
                </a:moveTo>
                <a:cubicBezTo>
                  <a:pt x="5978" y="9986"/>
                  <a:pt x="6001" y="10146"/>
                  <a:pt x="6003" y="10170"/>
                </a:cubicBezTo>
                <a:cubicBezTo>
                  <a:pt x="6003" y="10178"/>
                  <a:pt x="6003" y="10187"/>
                  <a:pt x="6003" y="10195"/>
                </a:cubicBezTo>
                <a:cubicBezTo>
                  <a:pt x="6185" y="10195"/>
                  <a:pt x="6366" y="10163"/>
                  <a:pt x="6548" y="10145"/>
                </a:cubicBezTo>
                <a:cubicBezTo>
                  <a:pt x="6780" y="10123"/>
                  <a:pt x="7016" y="10129"/>
                  <a:pt x="7243" y="10096"/>
                </a:cubicBezTo>
                <a:cubicBezTo>
                  <a:pt x="7296" y="10088"/>
                  <a:pt x="7341" y="10116"/>
                  <a:pt x="7392" y="10120"/>
                </a:cubicBezTo>
                <a:cubicBezTo>
                  <a:pt x="7445" y="10125"/>
                  <a:pt x="7375" y="9995"/>
                  <a:pt x="7367" y="9971"/>
                </a:cubicBezTo>
              </a:path>
              <a:path w="2804" h="2011">
                <a:moveTo>
                  <a:pt x="6672" y="10319"/>
                </a:moveTo>
                <a:cubicBezTo>
                  <a:pt x="6606" y="10369"/>
                  <a:pt x="6571" y="10573"/>
                  <a:pt x="6573" y="10666"/>
                </a:cubicBezTo>
                <a:cubicBezTo>
                  <a:pt x="6592" y="10723"/>
                  <a:pt x="6601" y="10766"/>
                  <a:pt x="6598" y="10716"/>
                </a:cubicBezTo>
              </a:path>
              <a:path w="2804" h="2011">
                <a:moveTo>
                  <a:pt x="6821" y="10294"/>
                </a:moveTo>
                <a:cubicBezTo>
                  <a:pt x="6974" y="10335"/>
                  <a:pt x="7101" y="10457"/>
                  <a:pt x="6970" y="10641"/>
                </a:cubicBezTo>
                <a:cubicBezTo>
                  <a:pt x="6878" y="10711"/>
                  <a:pt x="6853" y="10736"/>
                  <a:pt x="6772" y="10716"/>
                </a:cubicBezTo>
                <a:cubicBezTo>
                  <a:pt x="6718" y="10590"/>
                  <a:pt x="6865" y="10558"/>
                  <a:pt x="6970" y="10616"/>
                </a:cubicBezTo>
                <a:cubicBezTo>
                  <a:pt x="7012" y="10680"/>
                  <a:pt x="7029" y="10691"/>
                  <a:pt x="7020" y="10740"/>
                </a:cubicBezTo>
              </a:path>
              <a:path w="2804" h="2011">
                <a:moveTo>
                  <a:pt x="4862" y="10616"/>
                </a:moveTo>
                <a:cubicBezTo>
                  <a:pt x="4862" y="10536"/>
                  <a:pt x="4884" y="10452"/>
                  <a:pt x="4812" y="10393"/>
                </a:cubicBezTo>
                <a:cubicBezTo>
                  <a:pt x="4705" y="10305"/>
                  <a:pt x="4554" y="10498"/>
                  <a:pt x="4638" y="10592"/>
                </a:cubicBezTo>
                <a:cubicBezTo>
                  <a:pt x="4720" y="10684"/>
                  <a:pt x="4797" y="10561"/>
                  <a:pt x="4837" y="10517"/>
                </a:cubicBezTo>
                <a:cubicBezTo>
                  <a:pt x="4837" y="10509"/>
                  <a:pt x="4837" y="10500"/>
                  <a:pt x="4837" y="10492"/>
                </a:cubicBezTo>
                <a:cubicBezTo>
                  <a:pt x="4874" y="10575"/>
                  <a:pt x="4864" y="10769"/>
                  <a:pt x="4911" y="10840"/>
                </a:cubicBezTo>
                <a:cubicBezTo>
                  <a:pt x="4963" y="10840"/>
                  <a:pt x="4990" y="10821"/>
                  <a:pt x="5011" y="10765"/>
                </a:cubicBezTo>
              </a:path>
              <a:path w="2804" h="2011">
                <a:moveTo>
                  <a:pt x="5457" y="10319"/>
                </a:moveTo>
                <a:cubicBezTo>
                  <a:pt x="5457" y="10431"/>
                  <a:pt x="5473" y="10531"/>
                  <a:pt x="5482" y="10641"/>
                </a:cubicBezTo>
              </a:path>
              <a:path w="2804" h="2011">
                <a:moveTo>
                  <a:pt x="5358" y="10616"/>
                </a:moveTo>
                <a:cubicBezTo>
                  <a:pt x="5436" y="10590"/>
                  <a:pt x="5493" y="10548"/>
                  <a:pt x="5581" y="10542"/>
                </a:cubicBezTo>
                <a:cubicBezTo>
                  <a:pt x="5589" y="10542"/>
                  <a:pt x="5598" y="10542"/>
                  <a:pt x="5606" y="10542"/>
                </a:cubicBezTo>
              </a:path>
              <a:path w="2804" h="2011">
                <a:moveTo>
                  <a:pt x="5135" y="11013"/>
                </a:moveTo>
                <a:cubicBezTo>
                  <a:pt x="5153" y="11066"/>
                  <a:pt x="5184" y="11102"/>
                  <a:pt x="5184" y="11162"/>
                </a:cubicBezTo>
                <a:cubicBezTo>
                  <a:pt x="5466" y="11110"/>
                  <a:pt x="5743" y="11066"/>
                  <a:pt x="6028" y="11038"/>
                </a:cubicBezTo>
                <a:cubicBezTo>
                  <a:pt x="6183" y="11023"/>
                  <a:pt x="6300" y="11013"/>
                  <a:pt x="6449" y="11013"/>
                </a:cubicBezTo>
                <a:cubicBezTo>
                  <a:pt x="6432" y="10947"/>
                  <a:pt x="6429" y="10908"/>
                  <a:pt x="6424" y="10840"/>
                </a:cubicBezTo>
              </a:path>
              <a:path w="2804" h="2011">
                <a:moveTo>
                  <a:pt x="5680" y="11410"/>
                </a:moveTo>
                <a:cubicBezTo>
                  <a:pt x="5659" y="11368"/>
                  <a:pt x="5654" y="11419"/>
                  <a:pt x="5631" y="11460"/>
                </a:cubicBezTo>
                <a:cubicBezTo>
                  <a:pt x="5744" y="11390"/>
                  <a:pt x="5815" y="11508"/>
                  <a:pt x="5804" y="11633"/>
                </a:cubicBezTo>
                <a:cubicBezTo>
                  <a:pt x="5797" y="11710"/>
                  <a:pt x="5620" y="11965"/>
                  <a:pt x="5531" y="11807"/>
                </a:cubicBezTo>
                <a:cubicBezTo>
                  <a:pt x="5531" y="11782"/>
                  <a:pt x="5531" y="11758"/>
                  <a:pt x="5531" y="11733"/>
                </a:cubicBezTo>
                <a:cubicBezTo>
                  <a:pt x="5621" y="11703"/>
                  <a:pt x="5705" y="11786"/>
                  <a:pt x="5804" y="11782"/>
                </a:cubicBezTo>
                <a:cubicBezTo>
                  <a:pt x="5882" y="11756"/>
                  <a:pt x="5910" y="11746"/>
                  <a:pt x="5953" y="11708"/>
                </a:cubicBezTo>
              </a:path>
              <a:path w="2804" h="2011">
                <a:moveTo>
                  <a:pt x="5283" y="11906"/>
                </a:moveTo>
                <a:cubicBezTo>
                  <a:pt x="5522" y="11973"/>
                  <a:pt x="5701" y="11995"/>
                  <a:pt x="5953" y="11956"/>
                </a:cubicBezTo>
                <a:cubicBezTo>
                  <a:pt x="6087" y="11935"/>
                  <a:pt x="6568" y="11876"/>
                  <a:pt x="6573" y="11658"/>
                </a:cubicBezTo>
                <a:cubicBezTo>
                  <a:pt x="6580" y="11376"/>
                  <a:pt x="6275" y="11207"/>
                  <a:pt x="6052" y="11137"/>
                </a:cubicBezTo>
                <a:cubicBezTo>
                  <a:pt x="5674" y="11018"/>
                  <a:pt x="5434" y="11154"/>
                  <a:pt x="5209" y="11460"/>
                </a:cubicBezTo>
                <a:cubicBezTo>
                  <a:pt x="4939" y="11827"/>
                  <a:pt x="5107" y="11817"/>
                  <a:pt x="5407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4776840"/>
            <a:ext cx="741240" cy="992160"/>
          </a:xfrm>
          <a:custGeom>
            <a:avLst/>
            <a:gdLst/>
            <a:ahLst/>
            <a:rect l="l" t="t" r="r" b="b"/>
            <a:pathLst>
              <a:path w="2060" h="2754">
                <a:moveTo>
                  <a:pt x="4638" y="13519"/>
                </a:moveTo>
                <a:cubicBezTo>
                  <a:pt x="4638" y="13585"/>
                  <a:pt x="4638" y="13651"/>
                  <a:pt x="4638" y="13717"/>
                </a:cubicBezTo>
                <a:cubicBezTo>
                  <a:pt x="4806" y="13751"/>
                  <a:pt x="5030" y="13706"/>
                  <a:pt x="5209" y="13692"/>
                </a:cubicBezTo>
                <a:cubicBezTo>
                  <a:pt x="5515" y="13668"/>
                  <a:pt x="5821" y="13638"/>
                  <a:pt x="6127" y="13618"/>
                </a:cubicBezTo>
                <a:cubicBezTo>
                  <a:pt x="6090" y="13478"/>
                  <a:pt x="6071" y="13413"/>
                  <a:pt x="6102" y="13271"/>
                </a:cubicBezTo>
              </a:path>
              <a:path w="2060" h="2754">
                <a:moveTo>
                  <a:pt x="5606" y="14015"/>
                </a:moveTo>
                <a:cubicBezTo>
                  <a:pt x="5496" y="14046"/>
                  <a:pt x="5443" y="14079"/>
                  <a:pt x="5333" y="14064"/>
                </a:cubicBezTo>
                <a:cubicBezTo>
                  <a:pt x="5291" y="14058"/>
                  <a:pt x="5290" y="14219"/>
                  <a:pt x="5283" y="14263"/>
                </a:cubicBezTo>
                <a:cubicBezTo>
                  <a:pt x="5283" y="14271"/>
                  <a:pt x="5283" y="14280"/>
                  <a:pt x="5283" y="14288"/>
                </a:cubicBezTo>
                <a:cubicBezTo>
                  <a:pt x="5356" y="14270"/>
                  <a:pt x="5416" y="14187"/>
                  <a:pt x="5507" y="14213"/>
                </a:cubicBezTo>
                <a:cubicBezTo>
                  <a:pt x="5725" y="14276"/>
                  <a:pt x="5620" y="14561"/>
                  <a:pt x="5507" y="14660"/>
                </a:cubicBezTo>
                <a:cubicBezTo>
                  <a:pt x="5434" y="14723"/>
                  <a:pt x="5234" y="14759"/>
                  <a:pt x="5234" y="14610"/>
                </a:cubicBezTo>
                <a:cubicBezTo>
                  <a:pt x="5242" y="14593"/>
                  <a:pt x="5251" y="14577"/>
                  <a:pt x="5259" y="14560"/>
                </a:cubicBezTo>
              </a:path>
              <a:path w="2060" h="2754">
                <a:moveTo>
                  <a:pt x="5829" y="14163"/>
                </a:moveTo>
                <a:cubicBezTo>
                  <a:pt x="5849" y="14321"/>
                  <a:pt x="5900" y="14395"/>
                  <a:pt x="6003" y="14511"/>
                </a:cubicBezTo>
                <a:cubicBezTo>
                  <a:pt x="6011" y="14519"/>
                  <a:pt x="6020" y="14528"/>
                  <a:pt x="6028" y="14536"/>
                </a:cubicBezTo>
              </a:path>
              <a:path w="2060" h="2754">
                <a:moveTo>
                  <a:pt x="5978" y="14114"/>
                </a:moveTo>
                <a:cubicBezTo>
                  <a:pt x="5925" y="14257"/>
                  <a:pt x="5879" y="14387"/>
                  <a:pt x="5854" y="14536"/>
                </a:cubicBezTo>
              </a:path>
              <a:path w="2060" h="2754">
                <a:moveTo>
                  <a:pt x="6276" y="14064"/>
                </a:moveTo>
                <a:cubicBezTo>
                  <a:pt x="6367" y="14045"/>
                  <a:pt x="6457" y="13994"/>
                  <a:pt x="6548" y="13965"/>
                </a:cubicBezTo>
                <a:cubicBezTo>
                  <a:pt x="6590" y="14106"/>
                  <a:pt x="6567" y="14209"/>
                  <a:pt x="6449" y="14312"/>
                </a:cubicBezTo>
                <a:cubicBezTo>
                  <a:pt x="6428" y="14330"/>
                  <a:pt x="6432" y="14285"/>
                  <a:pt x="6449" y="14263"/>
                </a:cubicBezTo>
                <a:cubicBezTo>
                  <a:pt x="6567" y="14204"/>
                  <a:pt x="6714" y="14249"/>
                  <a:pt x="6697" y="14436"/>
                </a:cubicBezTo>
                <a:cubicBezTo>
                  <a:pt x="6685" y="14572"/>
                  <a:pt x="6506" y="14676"/>
                  <a:pt x="6375" y="14635"/>
                </a:cubicBezTo>
                <a:cubicBezTo>
                  <a:pt x="6375" y="14627"/>
                  <a:pt x="6375" y="14618"/>
                  <a:pt x="6375" y="14610"/>
                </a:cubicBezTo>
              </a:path>
              <a:path w="2060" h="2754">
                <a:moveTo>
                  <a:pt x="5606" y="14883"/>
                </a:moveTo>
                <a:cubicBezTo>
                  <a:pt x="5595" y="14966"/>
                  <a:pt x="5567" y="15044"/>
                  <a:pt x="5556" y="15131"/>
                </a:cubicBezTo>
                <a:cubicBezTo>
                  <a:pt x="5706" y="15101"/>
                  <a:pt x="5842" y="15043"/>
                  <a:pt x="6003" y="15032"/>
                </a:cubicBezTo>
                <a:cubicBezTo>
                  <a:pt x="6106" y="15025"/>
                  <a:pt x="6220" y="15032"/>
                  <a:pt x="6325" y="15032"/>
                </a:cubicBezTo>
                <a:cubicBezTo>
                  <a:pt x="6325" y="14946"/>
                  <a:pt x="6357" y="14793"/>
                  <a:pt x="6325" y="14808"/>
                </a:cubicBezTo>
              </a:path>
              <a:path w="2060" h="2754">
                <a:moveTo>
                  <a:pt x="5705" y="15453"/>
                </a:moveTo>
                <a:cubicBezTo>
                  <a:pt x="5715" y="15630"/>
                  <a:pt x="5770" y="15847"/>
                  <a:pt x="5730" y="16024"/>
                </a:cubicBezTo>
                <a:cubicBezTo>
                  <a:pt x="5705" y="16024"/>
                  <a:pt x="5697" y="16024"/>
                  <a:pt x="5705" y="15999"/>
                </a:cubicBezTo>
              </a:path>
              <a:path w="2060" h="2754">
                <a:moveTo>
                  <a:pt x="6251" y="15429"/>
                </a:moveTo>
                <a:cubicBezTo>
                  <a:pt x="6134" y="15439"/>
                  <a:pt x="6023" y="15453"/>
                  <a:pt x="5904" y="15453"/>
                </a:cubicBezTo>
                <a:cubicBezTo>
                  <a:pt x="5936" y="15543"/>
                  <a:pt x="5928" y="15629"/>
                  <a:pt x="5928" y="15726"/>
                </a:cubicBezTo>
                <a:cubicBezTo>
                  <a:pt x="5928" y="15734"/>
                  <a:pt x="5928" y="15743"/>
                  <a:pt x="5928" y="15751"/>
                </a:cubicBezTo>
                <a:cubicBezTo>
                  <a:pt x="5999" y="15751"/>
                  <a:pt x="6085" y="15703"/>
                  <a:pt x="6152" y="15726"/>
                </a:cubicBezTo>
                <a:cubicBezTo>
                  <a:pt x="6263" y="15763"/>
                  <a:pt x="6262" y="15857"/>
                  <a:pt x="6276" y="15949"/>
                </a:cubicBezTo>
                <a:cubicBezTo>
                  <a:pt x="6197" y="15992"/>
                  <a:pt x="6059" y="16051"/>
                  <a:pt x="5978" y="15949"/>
                </a:cubicBezTo>
                <a:cubicBezTo>
                  <a:pt x="5978" y="15941"/>
                  <a:pt x="5978" y="15933"/>
                  <a:pt x="5978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49920" y="3589200"/>
            <a:ext cx="79524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6570" y="10096"/>
                </a:moveTo>
                <a:cubicBezTo>
                  <a:pt x="16591" y="10138"/>
                  <a:pt x="16581" y="10143"/>
                  <a:pt x="16619" y="10170"/>
                </a:cubicBezTo>
                <a:cubicBezTo>
                  <a:pt x="16636" y="10182"/>
                  <a:pt x="16686" y="10200"/>
                  <a:pt x="16718" y="10220"/>
                </a:cubicBezTo>
                <a:cubicBezTo>
                  <a:pt x="16767" y="10250"/>
                  <a:pt x="16801" y="10252"/>
                  <a:pt x="16867" y="10244"/>
                </a:cubicBezTo>
                <a:cubicBezTo>
                  <a:pt x="17090" y="10218"/>
                  <a:pt x="17312" y="10199"/>
                  <a:pt x="17537" y="10195"/>
                </a:cubicBezTo>
                <a:cubicBezTo>
                  <a:pt x="17752" y="10191"/>
                  <a:pt x="17967" y="10195"/>
                  <a:pt x="18182" y="10195"/>
                </a:cubicBezTo>
                <a:cubicBezTo>
                  <a:pt x="18182" y="10120"/>
                  <a:pt x="18182" y="10046"/>
                  <a:pt x="18182" y="9971"/>
                </a:cubicBezTo>
              </a:path>
              <a:path w="2209" h="1961">
                <a:moveTo>
                  <a:pt x="17214" y="10344"/>
                </a:moveTo>
                <a:cubicBezTo>
                  <a:pt x="17176" y="10438"/>
                  <a:pt x="17111" y="10527"/>
                  <a:pt x="17090" y="10641"/>
                </a:cubicBezTo>
                <a:cubicBezTo>
                  <a:pt x="17068" y="10761"/>
                  <a:pt x="17198" y="10778"/>
                  <a:pt x="17289" y="10765"/>
                </a:cubicBezTo>
                <a:cubicBezTo>
                  <a:pt x="17369" y="10753"/>
                  <a:pt x="17395" y="10704"/>
                  <a:pt x="17413" y="10641"/>
                </a:cubicBezTo>
                <a:cubicBezTo>
                  <a:pt x="17383" y="10602"/>
                  <a:pt x="17365" y="10555"/>
                  <a:pt x="17289" y="10592"/>
                </a:cubicBezTo>
                <a:cubicBezTo>
                  <a:pt x="17237" y="10618"/>
                  <a:pt x="17224" y="10668"/>
                  <a:pt x="17214" y="10716"/>
                </a:cubicBezTo>
              </a:path>
              <a:path w="2209" h="1961">
                <a:moveTo>
                  <a:pt x="16024" y="10492"/>
                </a:moveTo>
                <a:cubicBezTo>
                  <a:pt x="16008" y="10549"/>
                  <a:pt x="15985" y="10610"/>
                  <a:pt x="15974" y="10666"/>
                </a:cubicBezTo>
                <a:cubicBezTo>
                  <a:pt x="16160" y="10682"/>
                  <a:pt x="16196" y="10692"/>
                  <a:pt x="16346" y="10592"/>
                </a:cubicBezTo>
              </a:path>
              <a:path w="2209" h="1961">
                <a:moveTo>
                  <a:pt x="16396" y="10964"/>
                </a:moveTo>
                <a:cubicBezTo>
                  <a:pt x="16371" y="11013"/>
                  <a:pt x="16362" y="11030"/>
                  <a:pt x="16346" y="11063"/>
                </a:cubicBezTo>
                <a:cubicBezTo>
                  <a:pt x="16501" y="11063"/>
                  <a:pt x="16665" y="11053"/>
                  <a:pt x="16818" y="11038"/>
                </a:cubicBezTo>
                <a:cubicBezTo>
                  <a:pt x="16860" y="11034"/>
                  <a:pt x="17012" y="11023"/>
                  <a:pt x="17016" y="11013"/>
                </a:cubicBezTo>
                <a:cubicBezTo>
                  <a:pt x="17030" y="10980"/>
                  <a:pt x="17016" y="10927"/>
                  <a:pt x="17016" y="10889"/>
                </a:cubicBezTo>
              </a:path>
              <a:path w="2209" h="1961">
                <a:moveTo>
                  <a:pt x="16297" y="11385"/>
                </a:moveTo>
                <a:cubicBezTo>
                  <a:pt x="16350" y="11333"/>
                  <a:pt x="16408" y="11341"/>
                  <a:pt x="16495" y="11336"/>
                </a:cubicBezTo>
                <a:cubicBezTo>
                  <a:pt x="16592" y="11503"/>
                  <a:pt x="16544" y="11626"/>
                  <a:pt x="16321" y="11683"/>
                </a:cubicBezTo>
                <a:cubicBezTo>
                  <a:pt x="16288" y="11683"/>
                  <a:pt x="16255" y="11683"/>
                  <a:pt x="16222" y="11683"/>
                </a:cubicBezTo>
                <a:cubicBezTo>
                  <a:pt x="16258" y="11587"/>
                  <a:pt x="16373" y="11524"/>
                  <a:pt x="16495" y="11559"/>
                </a:cubicBezTo>
                <a:cubicBezTo>
                  <a:pt x="16495" y="11605"/>
                  <a:pt x="16507" y="11632"/>
                  <a:pt x="16545" y="11658"/>
                </a:cubicBezTo>
              </a:path>
              <a:path w="2209" h="1961">
                <a:moveTo>
                  <a:pt x="16694" y="11311"/>
                </a:moveTo>
                <a:cubicBezTo>
                  <a:pt x="16694" y="11423"/>
                  <a:pt x="16676" y="11547"/>
                  <a:pt x="16842" y="11509"/>
                </a:cubicBezTo>
                <a:cubicBezTo>
                  <a:pt x="16875" y="11493"/>
                  <a:pt x="16909" y="11476"/>
                  <a:pt x="16942" y="11460"/>
                </a:cubicBezTo>
              </a:path>
              <a:path w="2209" h="1961">
                <a:moveTo>
                  <a:pt x="16942" y="11137"/>
                </a:moveTo>
                <a:cubicBezTo>
                  <a:pt x="16912" y="11294"/>
                  <a:pt x="16923" y="11453"/>
                  <a:pt x="16892" y="11609"/>
                </a:cubicBezTo>
              </a:path>
              <a:path w="2209" h="1961">
                <a:moveTo>
                  <a:pt x="16173" y="11857"/>
                </a:moveTo>
                <a:cubicBezTo>
                  <a:pt x="16431" y="11938"/>
                  <a:pt x="16670" y="11952"/>
                  <a:pt x="16942" y="11906"/>
                </a:cubicBezTo>
                <a:cubicBezTo>
                  <a:pt x="17141" y="11873"/>
                  <a:pt x="17407" y="11760"/>
                  <a:pt x="17388" y="11509"/>
                </a:cubicBezTo>
                <a:cubicBezTo>
                  <a:pt x="17371" y="11281"/>
                  <a:pt x="17178" y="11079"/>
                  <a:pt x="16966" y="11013"/>
                </a:cubicBezTo>
                <a:cubicBezTo>
                  <a:pt x="16681" y="10924"/>
                  <a:pt x="16365" y="11087"/>
                  <a:pt x="16173" y="11286"/>
                </a:cubicBezTo>
                <a:cubicBezTo>
                  <a:pt x="15774" y="11699"/>
                  <a:pt x="16118" y="11791"/>
                  <a:pt x="16495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00840" y="3697200"/>
            <a:ext cx="3301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16718" y="10393"/>
                </a:moveTo>
                <a:cubicBezTo>
                  <a:pt x="16650" y="10644"/>
                  <a:pt x="16634" y="10743"/>
                  <a:pt x="16842" y="10889"/>
                </a:cubicBezTo>
              </a:path>
              <a:path w="919" h="621">
                <a:moveTo>
                  <a:pt x="17438" y="10269"/>
                </a:moveTo>
                <a:cubicBezTo>
                  <a:pt x="17485" y="10377"/>
                  <a:pt x="17697" y="10712"/>
                  <a:pt x="17512" y="10790"/>
                </a:cubicBezTo>
                <a:cubicBezTo>
                  <a:pt x="17471" y="10790"/>
                  <a:pt x="17429" y="10790"/>
                  <a:pt x="1738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97920" y="4581360"/>
            <a:ext cx="142920" cy="26856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22845" y="12799"/>
                </a:moveTo>
                <a:cubicBezTo>
                  <a:pt x="22835" y="12885"/>
                  <a:pt x="22798" y="12948"/>
                  <a:pt x="22771" y="13022"/>
                </a:cubicBezTo>
                <a:cubicBezTo>
                  <a:pt x="22771" y="13030"/>
                  <a:pt x="22771" y="13039"/>
                  <a:pt x="22771" y="13047"/>
                </a:cubicBezTo>
                <a:cubicBezTo>
                  <a:pt x="22946" y="13085"/>
                  <a:pt x="23026" y="13074"/>
                  <a:pt x="23168" y="12973"/>
                </a:cubicBezTo>
              </a:path>
              <a:path w="398" h="745">
                <a:moveTo>
                  <a:pt x="23143" y="12725"/>
                </a:moveTo>
                <a:cubicBezTo>
                  <a:pt x="23106" y="12966"/>
                  <a:pt x="23057" y="13204"/>
                  <a:pt x="23019" y="13444"/>
                </a:cubicBezTo>
                <a:cubicBezTo>
                  <a:pt x="23019" y="13452"/>
                  <a:pt x="23019" y="13461"/>
                  <a:pt x="23019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91680" y="4626000"/>
            <a:ext cx="349200" cy="22392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23614" y="13221"/>
                </a:moveTo>
                <a:cubicBezTo>
                  <a:pt x="23614" y="13304"/>
                  <a:pt x="23614" y="13386"/>
                  <a:pt x="23614" y="13469"/>
                </a:cubicBezTo>
                <a:cubicBezTo>
                  <a:pt x="23593" y="13341"/>
                  <a:pt x="23598" y="13267"/>
                  <a:pt x="23664" y="13146"/>
                </a:cubicBezTo>
                <a:cubicBezTo>
                  <a:pt x="23728" y="13027"/>
                  <a:pt x="23891" y="13134"/>
                  <a:pt x="23961" y="13171"/>
                </a:cubicBezTo>
              </a:path>
              <a:path w="969" h="621">
                <a:moveTo>
                  <a:pt x="24209" y="12948"/>
                </a:moveTo>
                <a:cubicBezTo>
                  <a:pt x="24247" y="12854"/>
                  <a:pt x="24354" y="12832"/>
                  <a:pt x="24457" y="12849"/>
                </a:cubicBezTo>
                <a:cubicBezTo>
                  <a:pt x="24474" y="12857"/>
                  <a:pt x="24490" y="12866"/>
                  <a:pt x="24507" y="12874"/>
                </a:cubicBezTo>
                <a:cubicBezTo>
                  <a:pt x="24483" y="12991"/>
                  <a:pt x="24426" y="12988"/>
                  <a:pt x="24309" y="13047"/>
                </a:cubicBezTo>
                <a:cubicBezTo>
                  <a:pt x="24400" y="13047"/>
                  <a:pt x="24500" y="13019"/>
                  <a:pt x="24557" y="13122"/>
                </a:cubicBezTo>
                <a:cubicBezTo>
                  <a:pt x="24639" y="13270"/>
                  <a:pt x="24458" y="13395"/>
                  <a:pt x="24333" y="13395"/>
                </a:cubicBezTo>
                <a:cubicBezTo>
                  <a:pt x="24233" y="13370"/>
                  <a:pt x="24199" y="13361"/>
                  <a:pt x="24160" y="13295"/>
                </a:cubicBezTo>
              </a:path>
              <a:path w="969" h="621">
                <a:moveTo>
                  <a:pt x="24036" y="13395"/>
                </a:moveTo>
                <a:cubicBezTo>
                  <a:pt x="24036" y="13362"/>
                  <a:pt x="24028" y="13353"/>
                  <a:pt x="23986" y="13370"/>
                </a:cubicBezTo>
                <a:cubicBezTo>
                  <a:pt x="24016" y="13410"/>
                  <a:pt x="24126" y="13411"/>
                  <a:pt x="24085" y="13370"/>
                </a:cubicBezTo>
                <a:cubicBezTo>
                  <a:pt x="24045" y="13350"/>
                  <a:pt x="24039" y="13341"/>
                  <a:pt x="2401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0920" y="370512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16272" y="10294"/>
                </a:moveTo>
                <a:cubicBezTo>
                  <a:pt x="16239" y="10484"/>
                  <a:pt x="16217" y="10675"/>
                  <a:pt x="16197" y="10864"/>
                </a:cubicBezTo>
                <a:cubicBezTo>
                  <a:pt x="16197" y="10881"/>
                  <a:pt x="16197" y="10897"/>
                  <a:pt x="16197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6720" y="4786200"/>
            <a:ext cx="10764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18876" y="13295"/>
                </a:moveTo>
                <a:cubicBezTo>
                  <a:pt x="18801" y="13295"/>
                  <a:pt x="18977" y="13304"/>
                  <a:pt x="19050" y="13320"/>
                </a:cubicBezTo>
                <a:cubicBezTo>
                  <a:pt x="19124" y="13339"/>
                  <a:pt x="19157" y="13321"/>
                  <a:pt x="19149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77000" y="4875120"/>
            <a:ext cx="108000" cy="1800"/>
          </a:xfrm>
          <a:custGeom>
            <a:avLst/>
            <a:gdLst/>
            <a:ahLst/>
            <a:rect l="l" t="t" r="r" b="b"/>
            <a:pathLst>
              <a:path w="298" h="1">
                <a:moveTo>
                  <a:pt x="18827" y="13543"/>
                </a:moveTo>
                <a:cubicBezTo>
                  <a:pt x="18926" y="13543"/>
                  <a:pt x="19025" y="13543"/>
                  <a:pt x="1912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24800" y="4473720"/>
            <a:ext cx="561960" cy="63360"/>
          </a:xfrm>
          <a:custGeom>
            <a:avLst/>
            <a:gdLst/>
            <a:ahLst/>
            <a:rect l="l" t="t" r="r" b="b"/>
            <a:pathLst>
              <a:path w="1564" h="175">
                <a:moveTo>
                  <a:pt x="18678" y="12526"/>
                </a:moveTo>
                <a:cubicBezTo>
                  <a:pt x="18791" y="12494"/>
                  <a:pt x="18934" y="12439"/>
                  <a:pt x="19050" y="12427"/>
                </a:cubicBezTo>
                <a:cubicBezTo>
                  <a:pt x="19412" y="12388"/>
                  <a:pt x="19799" y="12428"/>
                  <a:pt x="20141" y="12551"/>
                </a:cubicBezTo>
                <a:cubicBezTo>
                  <a:pt x="20191" y="12576"/>
                  <a:pt x="20208" y="12584"/>
                  <a:pt x="20241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02680" y="4500720"/>
            <a:ext cx="161640" cy="14256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20811" y="12526"/>
                </a:moveTo>
                <a:cubicBezTo>
                  <a:pt x="20744" y="12494"/>
                  <a:pt x="20914" y="12484"/>
                  <a:pt x="20935" y="12526"/>
                </a:cubicBezTo>
                <a:cubicBezTo>
                  <a:pt x="21057" y="12770"/>
                  <a:pt x="20815" y="12831"/>
                  <a:pt x="20638" y="12849"/>
                </a:cubicBezTo>
                <a:cubicBezTo>
                  <a:pt x="20571" y="12849"/>
                  <a:pt x="20546" y="12857"/>
                  <a:pt x="20563" y="12799"/>
                </a:cubicBezTo>
                <a:cubicBezTo>
                  <a:pt x="20672" y="12691"/>
                  <a:pt x="20758" y="12814"/>
                  <a:pt x="20886" y="12874"/>
                </a:cubicBezTo>
                <a:cubicBezTo>
                  <a:pt x="20951" y="12895"/>
                  <a:pt x="20967" y="12903"/>
                  <a:pt x="21010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6240" y="4500720"/>
            <a:ext cx="115920" cy="152280"/>
          </a:xfrm>
          <a:custGeom>
            <a:avLst/>
            <a:gdLst/>
            <a:ahLst/>
            <a:rect l="l" t="t" r="r" b="b"/>
            <a:pathLst>
              <a:path w="324" h="422">
                <a:moveTo>
                  <a:pt x="21183" y="12502"/>
                </a:moveTo>
                <a:cubicBezTo>
                  <a:pt x="21291" y="12502"/>
                  <a:pt x="21398" y="12502"/>
                  <a:pt x="21506" y="12502"/>
                </a:cubicBezTo>
                <a:cubicBezTo>
                  <a:pt x="21498" y="12616"/>
                  <a:pt x="21493" y="12772"/>
                  <a:pt x="21431" y="12874"/>
                </a:cubicBezTo>
                <a:cubicBezTo>
                  <a:pt x="21387" y="12918"/>
                  <a:pt x="21377" y="12935"/>
                  <a:pt x="21332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77040" y="4776840"/>
            <a:ext cx="546120" cy="19080"/>
          </a:xfrm>
          <a:custGeom>
            <a:avLst/>
            <a:gdLst/>
            <a:ahLst/>
            <a:rect l="l" t="t" r="r" b="b"/>
            <a:pathLst>
              <a:path w="1514" h="50">
                <a:moveTo>
                  <a:pt x="20216" y="13320"/>
                </a:moveTo>
                <a:cubicBezTo>
                  <a:pt x="20618" y="13279"/>
                  <a:pt x="21026" y="13275"/>
                  <a:pt x="21431" y="13271"/>
                </a:cubicBezTo>
                <a:cubicBezTo>
                  <a:pt x="21530" y="13270"/>
                  <a:pt x="21630" y="13271"/>
                  <a:pt x="21729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99160" y="5268960"/>
            <a:ext cx="517680" cy="169920"/>
          </a:xfrm>
          <a:custGeom>
            <a:avLst/>
            <a:gdLst/>
            <a:ahLst/>
            <a:rect l="l" t="t" r="r" b="b"/>
            <a:pathLst>
              <a:path w="1439" h="472">
                <a:moveTo>
                  <a:pt x="18331" y="15032"/>
                </a:moveTo>
                <a:cubicBezTo>
                  <a:pt x="18448" y="15061"/>
                  <a:pt x="18581" y="15108"/>
                  <a:pt x="18703" y="15106"/>
                </a:cubicBezTo>
                <a:cubicBezTo>
                  <a:pt x="19008" y="15102"/>
                  <a:pt x="19335" y="15008"/>
                  <a:pt x="19596" y="14858"/>
                </a:cubicBezTo>
                <a:cubicBezTo>
                  <a:pt x="19666" y="14818"/>
                  <a:pt x="19750" y="14707"/>
                  <a:pt x="19769" y="14660"/>
                </a:cubicBezTo>
                <a:cubicBezTo>
                  <a:pt x="19769" y="14652"/>
                  <a:pt x="19769" y="14643"/>
                  <a:pt x="1976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70840" y="440208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20216" y="12229"/>
                </a:moveTo>
                <a:cubicBezTo>
                  <a:pt x="20125" y="12274"/>
                  <a:pt x="20194" y="12391"/>
                  <a:pt x="20216" y="12477"/>
                </a:cubicBezTo>
                <a:cubicBezTo>
                  <a:pt x="20233" y="12546"/>
                  <a:pt x="20316" y="12671"/>
                  <a:pt x="20216" y="12700"/>
                </a:cubicBezTo>
                <a:cubicBezTo>
                  <a:pt x="20121" y="12728"/>
                  <a:pt x="19962" y="12688"/>
                  <a:pt x="19918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5249880"/>
            <a:ext cx="16056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19472" y="14759"/>
                </a:moveTo>
                <a:cubicBezTo>
                  <a:pt x="19583" y="14709"/>
                  <a:pt x="19711" y="14686"/>
                  <a:pt x="19819" y="14635"/>
                </a:cubicBezTo>
                <a:cubicBezTo>
                  <a:pt x="19844" y="14618"/>
                  <a:pt x="19868" y="14602"/>
                  <a:pt x="19893" y="14585"/>
                </a:cubicBezTo>
                <a:cubicBezTo>
                  <a:pt x="19908" y="14704"/>
                  <a:pt x="19918" y="14811"/>
                  <a:pt x="19918" y="14932"/>
                </a:cubicBezTo>
                <a:cubicBezTo>
                  <a:pt x="19918" y="14940"/>
                  <a:pt x="19918" y="14949"/>
                  <a:pt x="1991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6320" y="4938840"/>
            <a:ext cx="152640" cy="2221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20861" y="13717"/>
                </a:moveTo>
                <a:cubicBezTo>
                  <a:pt x="20816" y="13885"/>
                  <a:pt x="20712" y="14088"/>
                  <a:pt x="20712" y="14263"/>
                </a:cubicBezTo>
                <a:cubicBezTo>
                  <a:pt x="20720" y="14279"/>
                  <a:pt x="20729" y="14296"/>
                  <a:pt x="20737" y="14312"/>
                </a:cubicBezTo>
                <a:cubicBezTo>
                  <a:pt x="20952" y="14325"/>
                  <a:pt x="21024" y="14281"/>
                  <a:pt x="21134" y="14089"/>
                </a:cubicBezTo>
                <a:cubicBezTo>
                  <a:pt x="21089" y="13975"/>
                  <a:pt x="20984" y="14181"/>
                  <a:pt x="20960" y="14263"/>
                </a:cubicBezTo>
                <a:cubicBezTo>
                  <a:pt x="20960" y="14288"/>
                  <a:pt x="20960" y="14312"/>
                  <a:pt x="20960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66080" y="474192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2126" y="13246"/>
                </a:moveTo>
                <a:cubicBezTo>
                  <a:pt x="22215" y="13195"/>
                  <a:pt x="22418" y="13126"/>
                  <a:pt x="22523" y="13171"/>
                </a:cubicBezTo>
                <a:cubicBezTo>
                  <a:pt x="22523" y="13188"/>
                  <a:pt x="22523" y="13204"/>
                  <a:pt x="22523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91640" y="4840200"/>
            <a:ext cx="117360" cy="1764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2200" y="13494"/>
                </a:moveTo>
                <a:cubicBezTo>
                  <a:pt x="22264" y="13490"/>
                  <a:pt x="22484" y="13441"/>
                  <a:pt x="22498" y="13444"/>
                </a:cubicBezTo>
                <a:cubicBezTo>
                  <a:pt x="22506" y="13452"/>
                  <a:pt x="22515" y="13461"/>
                  <a:pt x="2252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07080" y="5724360"/>
            <a:ext cx="15264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8529" y="15900"/>
                </a:moveTo>
                <a:cubicBezTo>
                  <a:pt x="18583" y="15918"/>
                  <a:pt x="18549" y="16023"/>
                  <a:pt x="18529" y="16073"/>
                </a:cubicBezTo>
                <a:cubicBezTo>
                  <a:pt x="18462" y="16238"/>
                  <a:pt x="18367" y="16377"/>
                  <a:pt x="18380" y="16545"/>
                </a:cubicBezTo>
                <a:cubicBezTo>
                  <a:pt x="18558" y="16534"/>
                  <a:pt x="18631" y="16501"/>
                  <a:pt x="18752" y="16371"/>
                </a:cubicBezTo>
                <a:cubicBezTo>
                  <a:pt x="18775" y="16348"/>
                  <a:pt x="18783" y="16344"/>
                  <a:pt x="18777" y="16321"/>
                </a:cubicBezTo>
                <a:cubicBezTo>
                  <a:pt x="18651" y="16266"/>
                  <a:pt x="18611" y="16261"/>
                  <a:pt x="18554" y="16396"/>
                </a:cubicBezTo>
                <a:cubicBezTo>
                  <a:pt x="18534" y="16456"/>
                  <a:pt x="18515" y="16471"/>
                  <a:pt x="18554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8640" y="5653080"/>
            <a:ext cx="519120" cy="32076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9025" y="16594"/>
                </a:moveTo>
                <a:cubicBezTo>
                  <a:pt x="19034" y="16473"/>
                  <a:pt x="19087" y="16366"/>
                  <a:pt x="19100" y="16247"/>
                </a:cubicBezTo>
                <a:cubicBezTo>
                  <a:pt x="19114" y="16115"/>
                  <a:pt x="19115" y="15869"/>
                  <a:pt x="19075" y="15776"/>
                </a:cubicBezTo>
                <a:cubicBezTo>
                  <a:pt x="19249" y="15762"/>
                  <a:pt x="19421" y="15742"/>
                  <a:pt x="19596" y="15726"/>
                </a:cubicBezTo>
                <a:cubicBezTo>
                  <a:pt x="19878" y="15701"/>
                  <a:pt x="20156" y="15701"/>
                  <a:pt x="20439" y="15701"/>
                </a:cubicBezTo>
                <a:cubicBezTo>
                  <a:pt x="20447" y="15701"/>
                  <a:pt x="20456" y="15701"/>
                  <a:pt x="20464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29280" y="5732640"/>
            <a:ext cx="125640" cy="169560"/>
          </a:xfrm>
          <a:custGeom>
            <a:avLst/>
            <a:gdLst/>
            <a:ahLst/>
            <a:rect l="l" t="t" r="r" b="b"/>
            <a:pathLst>
              <a:path w="349" h="472">
                <a:moveTo>
                  <a:pt x="19348" y="15999"/>
                </a:moveTo>
                <a:cubicBezTo>
                  <a:pt x="19392" y="15910"/>
                  <a:pt x="19507" y="15900"/>
                  <a:pt x="19571" y="15999"/>
                </a:cubicBezTo>
                <a:cubicBezTo>
                  <a:pt x="19674" y="16158"/>
                  <a:pt x="19554" y="16322"/>
                  <a:pt x="19397" y="16371"/>
                </a:cubicBezTo>
                <a:cubicBezTo>
                  <a:pt x="19314" y="16371"/>
                  <a:pt x="19298" y="16371"/>
                  <a:pt x="19248" y="16371"/>
                </a:cubicBezTo>
                <a:cubicBezTo>
                  <a:pt x="19268" y="16339"/>
                  <a:pt x="19327" y="16241"/>
                  <a:pt x="19372" y="16247"/>
                </a:cubicBezTo>
                <a:cubicBezTo>
                  <a:pt x="19471" y="16261"/>
                  <a:pt x="19480" y="16354"/>
                  <a:pt x="19546" y="16396"/>
                </a:cubicBezTo>
                <a:cubicBezTo>
                  <a:pt x="19554" y="16396"/>
                  <a:pt x="19563" y="16396"/>
                  <a:pt x="1957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08920" y="572436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9745" y="15949"/>
                </a:moveTo>
                <a:cubicBezTo>
                  <a:pt x="19873" y="15949"/>
                  <a:pt x="19991" y="15939"/>
                  <a:pt x="20117" y="15925"/>
                </a:cubicBezTo>
                <a:cubicBezTo>
                  <a:pt x="20168" y="15925"/>
                  <a:pt x="20187" y="15924"/>
                  <a:pt x="20216" y="15900"/>
                </a:cubicBezTo>
                <a:cubicBezTo>
                  <a:pt x="20230" y="16025"/>
                  <a:pt x="20144" y="16201"/>
                  <a:pt x="20117" y="16346"/>
                </a:cubicBezTo>
                <a:cubicBezTo>
                  <a:pt x="20117" y="16371"/>
                  <a:pt x="20117" y="16379"/>
                  <a:pt x="20092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1120" y="543888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9943" y="15106"/>
                </a:moveTo>
                <a:cubicBezTo>
                  <a:pt x="19937" y="15200"/>
                  <a:pt x="19913" y="15273"/>
                  <a:pt x="19893" y="15354"/>
                </a:cubicBezTo>
                <a:cubicBezTo>
                  <a:pt x="20002" y="15354"/>
                  <a:pt x="20087" y="15323"/>
                  <a:pt x="20191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42120" y="5367240"/>
            <a:ext cx="17640" cy="231840"/>
          </a:xfrm>
          <a:custGeom>
            <a:avLst/>
            <a:gdLst/>
            <a:ahLst/>
            <a:rect l="l" t="t" r="r" b="b"/>
            <a:pathLst>
              <a:path w="50" h="646">
                <a:moveTo>
                  <a:pt x="20166" y="14908"/>
                </a:moveTo>
                <a:cubicBezTo>
                  <a:pt x="20140" y="15125"/>
                  <a:pt x="20117" y="15335"/>
                  <a:pt x="20117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9280" y="5956200"/>
            <a:ext cx="135000" cy="152640"/>
          </a:xfrm>
          <a:custGeom>
            <a:avLst/>
            <a:gdLst/>
            <a:ahLst/>
            <a:rect l="l" t="t" r="r" b="b"/>
            <a:pathLst>
              <a:path w="374" h="422">
                <a:moveTo>
                  <a:pt x="19348" y="16594"/>
                </a:moveTo>
                <a:cubicBezTo>
                  <a:pt x="19447" y="16548"/>
                  <a:pt x="19669" y="16498"/>
                  <a:pt x="19621" y="16718"/>
                </a:cubicBezTo>
                <a:cubicBezTo>
                  <a:pt x="19586" y="16882"/>
                  <a:pt x="19407" y="16974"/>
                  <a:pt x="19273" y="16942"/>
                </a:cubicBezTo>
                <a:cubicBezTo>
                  <a:pt x="19273" y="16832"/>
                  <a:pt x="19358" y="16752"/>
                  <a:pt x="19496" y="16842"/>
                </a:cubicBezTo>
                <a:cubicBezTo>
                  <a:pt x="19582" y="16898"/>
                  <a:pt x="19475" y="16911"/>
                  <a:pt x="19621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5965920"/>
            <a:ext cx="108000" cy="442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19918" y="16570"/>
                </a:moveTo>
                <a:cubicBezTo>
                  <a:pt x="19923" y="16597"/>
                  <a:pt x="19965" y="16687"/>
                  <a:pt x="19993" y="16694"/>
                </a:cubicBezTo>
                <a:cubicBezTo>
                  <a:pt x="20101" y="16694"/>
                  <a:pt x="20143" y="16692"/>
                  <a:pt x="2021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42120" y="589284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20191" y="16371"/>
                </a:moveTo>
                <a:cubicBezTo>
                  <a:pt x="20169" y="16533"/>
                  <a:pt x="20155" y="16685"/>
                  <a:pt x="20117" y="16842"/>
                </a:cubicBezTo>
                <a:cubicBezTo>
                  <a:pt x="20117" y="16850"/>
                  <a:pt x="20117" y="16859"/>
                  <a:pt x="20117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6720" y="6116760"/>
            <a:ext cx="571320" cy="63360"/>
          </a:xfrm>
          <a:custGeom>
            <a:avLst/>
            <a:gdLst/>
            <a:ahLst/>
            <a:rect l="l" t="t" r="r" b="b"/>
            <a:pathLst>
              <a:path w="1588" h="175">
                <a:moveTo>
                  <a:pt x="18852" y="17165"/>
                </a:moveTo>
                <a:cubicBezTo>
                  <a:pt x="19312" y="17083"/>
                  <a:pt x="19774" y="17015"/>
                  <a:pt x="20241" y="16991"/>
                </a:cubicBezTo>
                <a:cubicBezTo>
                  <a:pt x="20307" y="16991"/>
                  <a:pt x="20373" y="16991"/>
                  <a:pt x="20439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43840" y="6197760"/>
            <a:ext cx="169920" cy="179280"/>
          </a:xfrm>
          <a:custGeom>
            <a:avLst/>
            <a:gdLst/>
            <a:ahLst/>
            <a:rect l="l" t="t" r="r" b="b"/>
            <a:pathLst>
              <a:path w="472" h="498">
                <a:moveTo>
                  <a:pt x="19968" y="17239"/>
                </a:moveTo>
                <a:cubicBezTo>
                  <a:pt x="20087" y="17215"/>
                  <a:pt x="20170" y="17219"/>
                  <a:pt x="20290" y="17239"/>
                </a:cubicBezTo>
                <a:cubicBezTo>
                  <a:pt x="20275" y="17417"/>
                  <a:pt x="20215" y="17444"/>
                  <a:pt x="20042" y="17487"/>
                </a:cubicBezTo>
                <a:cubicBezTo>
                  <a:pt x="20034" y="17487"/>
                  <a:pt x="20025" y="17487"/>
                  <a:pt x="20017" y="17487"/>
                </a:cubicBezTo>
                <a:cubicBezTo>
                  <a:pt x="20097" y="17487"/>
                  <a:pt x="20254" y="17450"/>
                  <a:pt x="20315" y="17512"/>
                </a:cubicBezTo>
                <a:cubicBezTo>
                  <a:pt x="20435" y="17633"/>
                  <a:pt x="20022" y="17711"/>
                  <a:pt x="19993" y="17711"/>
                </a:cubicBezTo>
                <a:cubicBezTo>
                  <a:pt x="19813" y="17711"/>
                  <a:pt x="19847" y="17699"/>
                  <a:pt x="19893" y="175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3424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986" y="13320"/>
                </a:moveTo>
                <a:lnTo>
                  <a:pt x="23986" y="13320"/>
                </a:lnTo>
                <a:lnTo>
                  <a:pt x="23986" y="13320"/>
                </a:lnTo>
                <a:lnTo>
                  <a:pt x="23986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3424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986" y="13320"/>
                </a:moveTo>
                <a:lnTo>
                  <a:pt x="23986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Evaluate each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x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6 + 9) ÷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43840" y="660240"/>
            <a:ext cx="1849320" cy="169920"/>
          </a:xfrm>
          <a:custGeom>
            <a:avLst/>
            <a:gdLst/>
            <a:ahLst/>
            <a:rect l="l" t="t" r="r" b="b"/>
            <a:pathLst>
              <a:path w="5135" h="472">
                <a:moveTo>
                  <a:pt x="19844" y="2307"/>
                </a:moveTo>
                <a:cubicBezTo>
                  <a:pt x="19954" y="2299"/>
                  <a:pt x="20057" y="2279"/>
                  <a:pt x="20166" y="2257"/>
                </a:cubicBezTo>
              </a:path>
              <a:path w="5135" h="472">
                <a:moveTo>
                  <a:pt x="24085" y="2009"/>
                </a:moveTo>
                <a:cubicBezTo>
                  <a:pt x="24113" y="2009"/>
                  <a:pt x="24124" y="2007"/>
                  <a:pt x="24135" y="1984"/>
                </a:cubicBezTo>
              </a:path>
              <a:path w="5135" h="472">
                <a:moveTo>
                  <a:pt x="23961" y="2183"/>
                </a:moveTo>
                <a:cubicBezTo>
                  <a:pt x="24066" y="2174"/>
                  <a:pt x="24110" y="2155"/>
                  <a:pt x="24209" y="2108"/>
                </a:cubicBezTo>
              </a:path>
              <a:path w="5135" h="472">
                <a:moveTo>
                  <a:pt x="24209" y="2108"/>
                </a:moveTo>
                <a:lnTo>
                  <a:pt x="24209" y="2108"/>
                </a:lnTo>
              </a:path>
              <a:path w="5135" h="472">
                <a:moveTo>
                  <a:pt x="24829" y="1836"/>
                </a:moveTo>
                <a:cubicBezTo>
                  <a:pt x="24715" y="1902"/>
                  <a:pt x="24703" y="1933"/>
                  <a:pt x="24656" y="2059"/>
                </a:cubicBezTo>
                <a:cubicBezTo>
                  <a:pt x="24748" y="2123"/>
                  <a:pt x="24910" y="2191"/>
                  <a:pt x="24978" y="2034"/>
                </a:cubicBezTo>
                <a:cubicBezTo>
                  <a:pt x="24978" y="1921"/>
                  <a:pt x="24968" y="1879"/>
                  <a:pt x="24879" y="18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45120" y="608040"/>
            <a:ext cx="509760" cy="31284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7190" y="2009"/>
                </a:moveTo>
                <a:cubicBezTo>
                  <a:pt x="17190" y="2009"/>
                  <a:pt x="17187" y="2193"/>
                  <a:pt x="17214" y="2307"/>
                </a:cubicBezTo>
                <a:cubicBezTo>
                  <a:pt x="17239" y="2332"/>
                  <a:pt x="17247" y="2340"/>
                  <a:pt x="17214" y="2356"/>
                </a:cubicBezTo>
              </a:path>
              <a:path w="1415" h="869">
                <a:moveTo>
                  <a:pt x="16793" y="2480"/>
                </a:moveTo>
                <a:cubicBezTo>
                  <a:pt x="16974" y="2551"/>
                  <a:pt x="17107" y="2580"/>
                  <a:pt x="17289" y="2480"/>
                </a:cubicBezTo>
                <a:cubicBezTo>
                  <a:pt x="17444" y="2395"/>
                  <a:pt x="17484" y="2275"/>
                  <a:pt x="17462" y="2108"/>
                </a:cubicBezTo>
                <a:cubicBezTo>
                  <a:pt x="17446" y="1991"/>
                  <a:pt x="17403" y="1846"/>
                  <a:pt x="17314" y="1761"/>
                </a:cubicBezTo>
                <a:cubicBezTo>
                  <a:pt x="17249" y="1699"/>
                  <a:pt x="17147" y="1671"/>
                  <a:pt x="17066" y="1712"/>
                </a:cubicBezTo>
                <a:cubicBezTo>
                  <a:pt x="16909" y="1792"/>
                  <a:pt x="16795" y="2007"/>
                  <a:pt x="16842" y="2183"/>
                </a:cubicBezTo>
                <a:cubicBezTo>
                  <a:pt x="16867" y="2276"/>
                  <a:pt x="16981" y="2422"/>
                  <a:pt x="17066" y="2456"/>
                </a:cubicBezTo>
              </a:path>
              <a:path w="1415" h="869">
                <a:moveTo>
                  <a:pt x="17909" y="1960"/>
                </a:moveTo>
                <a:cubicBezTo>
                  <a:pt x="17865" y="2091"/>
                  <a:pt x="17765" y="2289"/>
                  <a:pt x="17810" y="2431"/>
                </a:cubicBezTo>
                <a:cubicBezTo>
                  <a:pt x="17826" y="2447"/>
                  <a:pt x="17843" y="2464"/>
                  <a:pt x="17859" y="2480"/>
                </a:cubicBezTo>
                <a:cubicBezTo>
                  <a:pt x="18047" y="2458"/>
                  <a:pt x="18136" y="2424"/>
                  <a:pt x="18207" y="2232"/>
                </a:cubicBezTo>
                <a:cubicBezTo>
                  <a:pt x="18207" y="2208"/>
                  <a:pt x="18207" y="2200"/>
                  <a:pt x="18182" y="2208"/>
                </a:cubicBezTo>
                <a:cubicBezTo>
                  <a:pt x="18045" y="2276"/>
                  <a:pt x="18012" y="2303"/>
                  <a:pt x="18058" y="2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88080" y="544680"/>
            <a:ext cx="795240" cy="331560"/>
          </a:xfrm>
          <a:custGeom>
            <a:avLst/>
            <a:gdLst/>
            <a:ahLst/>
            <a:rect l="l" t="t" r="r" b="b"/>
            <a:pathLst>
              <a:path w="2208" h="919">
                <a:moveTo>
                  <a:pt x="18579" y="2084"/>
                </a:moveTo>
                <a:cubicBezTo>
                  <a:pt x="18654" y="2149"/>
                  <a:pt x="18763" y="2230"/>
                  <a:pt x="18802" y="2307"/>
                </a:cubicBezTo>
              </a:path>
              <a:path w="2208" h="919">
                <a:moveTo>
                  <a:pt x="18802" y="2009"/>
                </a:moveTo>
                <a:cubicBezTo>
                  <a:pt x="18773" y="2070"/>
                  <a:pt x="18644" y="2287"/>
                  <a:pt x="18703" y="2257"/>
                </a:cubicBezTo>
              </a:path>
              <a:path w="2208" h="919">
                <a:moveTo>
                  <a:pt x="19050" y="2059"/>
                </a:moveTo>
                <a:cubicBezTo>
                  <a:pt x="19064" y="2102"/>
                  <a:pt x="19162" y="2068"/>
                  <a:pt x="19224" y="2084"/>
                </a:cubicBezTo>
                <a:cubicBezTo>
                  <a:pt x="19291" y="2101"/>
                  <a:pt x="19306" y="2133"/>
                  <a:pt x="19323" y="2084"/>
                </a:cubicBezTo>
              </a:path>
              <a:path w="2208" h="919">
                <a:moveTo>
                  <a:pt x="19273" y="1811"/>
                </a:moveTo>
                <a:cubicBezTo>
                  <a:pt x="19273" y="1993"/>
                  <a:pt x="19273" y="2174"/>
                  <a:pt x="19273" y="2356"/>
                </a:cubicBezTo>
              </a:path>
              <a:path w="2208" h="919">
                <a:moveTo>
                  <a:pt x="19447" y="1662"/>
                </a:moveTo>
                <a:cubicBezTo>
                  <a:pt x="19442" y="1722"/>
                  <a:pt x="19433" y="1756"/>
                  <a:pt x="19422" y="1811"/>
                </a:cubicBezTo>
                <a:cubicBezTo>
                  <a:pt x="19508" y="1797"/>
                  <a:pt x="19580" y="1786"/>
                  <a:pt x="19670" y="1786"/>
                </a:cubicBezTo>
                <a:cubicBezTo>
                  <a:pt x="19678" y="1786"/>
                  <a:pt x="19687" y="1786"/>
                  <a:pt x="19695" y="1786"/>
                </a:cubicBezTo>
              </a:path>
              <a:path w="2208" h="919">
                <a:moveTo>
                  <a:pt x="19621" y="1513"/>
                </a:moveTo>
                <a:cubicBezTo>
                  <a:pt x="19628" y="1655"/>
                  <a:pt x="19645" y="1793"/>
                  <a:pt x="19645" y="1935"/>
                </a:cubicBezTo>
                <a:cubicBezTo>
                  <a:pt x="19645" y="1943"/>
                  <a:pt x="19645" y="1952"/>
                  <a:pt x="19645" y="1960"/>
                </a:cubicBezTo>
              </a:path>
              <a:path w="2208" h="919">
                <a:moveTo>
                  <a:pt x="20017" y="2133"/>
                </a:moveTo>
                <a:cubicBezTo>
                  <a:pt x="20017" y="2216"/>
                  <a:pt x="20017" y="2298"/>
                  <a:pt x="20017" y="2381"/>
                </a:cubicBezTo>
              </a:path>
              <a:path w="2208" h="919">
                <a:moveTo>
                  <a:pt x="20315" y="2183"/>
                </a:moveTo>
                <a:cubicBezTo>
                  <a:pt x="20324" y="2268"/>
                  <a:pt x="20344" y="2347"/>
                  <a:pt x="20365" y="2431"/>
                </a:cubicBezTo>
                <a:cubicBezTo>
                  <a:pt x="20398" y="2419"/>
                  <a:pt x="20374" y="2387"/>
                  <a:pt x="20389" y="2307"/>
                </a:cubicBezTo>
                <a:cubicBezTo>
                  <a:pt x="20408" y="2206"/>
                  <a:pt x="20470" y="2035"/>
                  <a:pt x="20613" y="2133"/>
                </a:cubicBezTo>
                <a:cubicBezTo>
                  <a:pt x="20708" y="2198"/>
                  <a:pt x="20738" y="2284"/>
                  <a:pt x="20786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1160" y="608040"/>
            <a:ext cx="571680" cy="18720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21282" y="1984"/>
                </a:moveTo>
                <a:cubicBezTo>
                  <a:pt x="21295" y="1945"/>
                  <a:pt x="21294" y="1974"/>
                  <a:pt x="21307" y="1935"/>
                </a:cubicBezTo>
                <a:cubicBezTo>
                  <a:pt x="21307" y="2013"/>
                  <a:pt x="21299" y="2120"/>
                  <a:pt x="21357" y="2183"/>
                </a:cubicBezTo>
                <a:cubicBezTo>
                  <a:pt x="21463" y="2297"/>
                  <a:pt x="21551" y="2072"/>
                  <a:pt x="21580" y="2009"/>
                </a:cubicBezTo>
                <a:cubicBezTo>
                  <a:pt x="21580" y="2047"/>
                  <a:pt x="21580" y="2156"/>
                  <a:pt x="21630" y="2158"/>
                </a:cubicBezTo>
                <a:cubicBezTo>
                  <a:pt x="21770" y="2163"/>
                  <a:pt x="21862" y="2065"/>
                  <a:pt x="21803" y="1935"/>
                </a:cubicBezTo>
                <a:cubicBezTo>
                  <a:pt x="21771" y="1901"/>
                  <a:pt x="21754" y="1884"/>
                  <a:pt x="21729" y="1860"/>
                </a:cubicBezTo>
              </a:path>
              <a:path w="1589" h="522">
                <a:moveTo>
                  <a:pt x="21878" y="1687"/>
                </a:moveTo>
                <a:cubicBezTo>
                  <a:pt x="21921" y="1801"/>
                  <a:pt x="21960" y="2015"/>
                  <a:pt x="22002" y="2084"/>
                </a:cubicBezTo>
                <a:cubicBezTo>
                  <a:pt x="22002" y="2042"/>
                  <a:pt x="21981" y="1902"/>
                  <a:pt x="22051" y="1910"/>
                </a:cubicBezTo>
                <a:cubicBezTo>
                  <a:pt x="22171" y="1923"/>
                  <a:pt x="22228" y="2061"/>
                  <a:pt x="22250" y="2158"/>
                </a:cubicBezTo>
              </a:path>
              <a:path w="1589" h="522">
                <a:moveTo>
                  <a:pt x="22324" y="2009"/>
                </a:moveTo>
                <a:cubicBezTo>
                  <a:pt x="22383" y="1967"/>
                  <a:pt x="22390" y="1952"/>
                  <a:pt x="22423" y="1885"/>
                </a:cubicBezTo>
                <a:cubicBezTo>
                  <a:pt x="22356" y="1885"/>
                  <a:pt x="22262" y="1990"/>
                  <a:pt x="22324" y="2059"/>
                </a:cubicBezTo>
                <a:cubicBezTo>
                  <a:pt x="22446" y="2196"/>
                  <a:pt x="22571" y="1951"/>
                  <a:pt x="22622" y="1935"/>
                </a:cubicBezTo>
                <a:cubicBezTo>
                  <a:pt x="22670" y="1920"/>
                  <a:pt x="22636" y="2035"/>
                  <a:pt x="22647" y="2084"/>
                </a:cubicBezTo>
                <a:cubicBezTo>
                  <a:pt x="22657" y="2015"/>
                  <a:pt x="22676" y="1952"/>
                  <a:pt x="22696" y="1885"/>
                </a:cubicBezTo>
                <a:cubicBezTo>
                  <a:pt x="22756" y="1921"/>
                  <a:pt x="22846" y="2027"/>
                  <a:pt x="22870" y="2108"/>
                </a:cubicBezTo>
                <a:cubicBezTo>
                  <a:pt x="22870" y="2125"/>
                  <a:pt x="22870" y="2141"/>
                  <a:pt x="22870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83760" y="696960"/>
            <a:ext cx="1155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23589" y="1984"/>
                </a:moveTo>
                <a:cubicBezTo>
                  <a:pt x="23589" y="2059"/>
                  <a:pt x="23591" y="2120"/>
                  <a:pt x="23564" y="2183"/>
                </a:cubicBezTo>
                <a:cubicBezTo>
                  <a:pt x="23567" y="2144"/>
                  <a:pt x="23567" y="1935"/>
                  <a:pt x="23639" y="1935"/>
                </a:cubicBezTo>
                <a:cubicBezTo>
                  <a:pt x="23759" y="1935"/>
                  <a:pt x="23850" y="2055"/>
                  <a:pt x="23887" y="2158"/>
                </a:cubicBezTo>
                <a:cubicBezTo>
                  <a:pt x="23887" y="2166"/>
                  <a:pt x="23887" y="2175"/>
                  <a:pt x="23887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751960" y="63324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4309" y="1786"/>
                </a:moveTo>
                <a:cubicBezTo>
                  <a:pt x="24513" y="1751"/>
                  <a:pt x="24541" y="1887"/>
                  <a:pt x="24532" y="2084"/>
                </a:cubicBezTo>
                <a:cubicBezTo>
                  <a:pt x="24525" y="2239"/>
                  <a:pt x="24447" y="2234"/>
                  <a:pt x="24333" y="2257"/>
                </a:cubicBezTo>
                <a:cubicBezTo>
                  <a:pt x="24306" y="2220"/>
                  <a:pt x="24277" y="2066"/>
                  <a:pt x="24408" y="2108"/>
                </a:cubicBezTo>
                <a:cubicBezTo>
                  <a:pt x="24532" y="2148"/>
                  <a:pt x="24536" y="2175"/>
                  <a:pt x="24681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29280" y="955800"/>
            <a:ext cx="1849680" cy="206280"/>
          </a:xfrm>
          <a:custGeom>
            <a:avLst/>
            <a:gdLst/>
            <a:ahLst/>
            <a:rect l="l" t="t" r="r" b="b"/>
            <a:pathLst>
              <a:path w="5136" h="572">
                <a:moveTo>
                  <a:pt x="19248" y="3225"/>
                </a:moveTo>
                <a:cubicBezTo>
                  <a:pt x="19327" y="3168"/>
                  <a:pt x="19405" y="3139"/>
                  <a:pt x="19496" y="3101"/>
                </a:cubicBezTo>
              </a:path>
              <a:path w="5136" h="572">
                <a:moveTo>
                  <a:pt x="23242" y="2679"/>
                </a:moveTo>
                <a:cubicBezTo>
                  <a:pt x="23310" y="2787"/>
                  <a:pt x="23336" y="2856"/>
                  <a:pt x="23440" y="2902"/>
                </a:cubicBezTo>
              </a:path>
              <a:path w="5136" h="572">
                <a:moveTo>
                  <a:pt x="23391" y="2753"/>
                </a:moveTo>
                <a:cubicBezTo>
                  <a:pt x="23361" y="2837"/>
                  <a:pt x="23308" y="2888"/>
                  <a:pt x="23366" y="2927"/>
                </a:cubicBezTo>
              </a:path>
              <a:path w="5136" h="572">
                <a:moveTo>
                  <a:pt x="24011" y="2927"/>
                </a:moveTo>
                <a:lnTo>
                  <a:pt x="24011" y="2927"/>
                </a:lnTo>
              </a:path>
              <a:path w="5136" h="572">
                <a:moveTo>
                  <a:pt x="24160" y="2729"/>
                </a:moveTo>
                <a:cubicBezTo>
                  <a:pt x="24160" y="2745"/>
                  <a:pt x="24160" y="2762"/>
                  <a:pt x="24160" y="2778"/>
                </a:cubicBezTo>
                <a:cubicBezTo>
                  <a:pt x="24247" y="2766"/>
                  <a:pt x="24307" y="2729"/>
                  <a:pt x="24383" y="2704"/>
                </a:cubicBezTo>
              </a:path>
              <a:path w="5136" h="572">
                <a:moveTo>
                  <a:pt x="24383" y="2654"/>
                </a:moveTo>
                <a:cubicBezTo>
                  <a:pt x="24365" y="2746"/>
                  <a:pt x="24343" y="2836"/>
                  <a:pt x="24333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86680" y="1044720"/>
            <a:ext cx="134640" cy="16956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17587" y="2902"/>
                </a:moveTo>
                <a:cubicBezTo>
                  <a:pt x="17566" y="3008"/>
                  <a:pt x="17514" y="3116"/>
                  <a:pt x="17487" y="3225"/>
                </a:cubicBezTo>
                <a:cubicBezTo>
                  <a:pt x="17429" y="3455"/>
                  <a:pt x="17648" y="3361"/>
                  <a:pt x="17760" y="3274"/>
                </a:cubicBezTo>
                <a:cubicBezTo>
                  <a:pt x="17861" y="3196"/>
                  <a:pt x="17857" y="3198"/>
                  <a:pt x="17785" y="3150"/>
                </a:cubicBezTo>
                <a:cubicBezTo>
                  <a:pt x="17674" y="3224"/>
                  <a:pt x="17629" y="3240"/>
                  <a:pt x="17711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00880" y="938160"/>
            <a:ext cx="339480" cy="241200"/>
          </a:xfrm>
          <a:custGeom>
            <a:avLst/>
            <a:gdLst/>
            <a:ahLst/>
            <a:rect l="l" t="t" r="r" b="b"/>
            <a:pathLst>
              <a:path w="943" h="671">
                <a:moveTo>
                  <a:pt x="18058" y="3026"/>
                </a:moveTo>
                <a:cubicBezTo>
                  <a:pt x="18095" y="3110"/>
                  <a:pt x="18134" y="3173"/>
                  <a:pt x="18182" y="3249"/>
                </a:cubicBezTo>
              </a:path>
              <a:path w="943" h="671">
                <a:moveTo>
                  <a:pt x="18256" y="2977"/>
                </a:moveTo>
                <a:cubicBezTo>
                  <a:pt x="18222" y="3045"/>
                  <a:pt x="18123" y="3191"/>
                  <a:pt x="18157" y="3225"/>
                </a:cubicBezTo>
              </a:path>
              <a:path w="943" h="671">
                <a:moveTo>
                  <a:pt x="18405" y="3001"/>
                </a:moveTo>
                <a:cubicBezTo>
                  <a:pt x="18405" y="3029"/>
                  <a:pt x="18403" y="3040"/>
                  <a:pt x="18380" y="3051"/>
                </a:cubicBezTo>
                <a:cubicBezTo>
                  <a:pt x="18506" y="3083"/>
                  <a:pt x="18555" y="3113"/>
                  <a:pt x="18678" y="3076"/>
                </a:cubicBezTo>
              </a:path>
              <a:path w="943" h="671">
                <a:moveTo>
                  <a:pt x="18653" y="2877"/>
                </a:moveTo>
                <a:cubicBezTo>
                  <a:pt x="18627" y="3011"/>
                  <a:pt x="18604" y="3137"/>
                  <a:pt x="18604" y="3274"/>
                </a:cubicBezTo>
                <a:cubicBezTo>
                  <a:pt x="18604" y="3266"/>
                  <a:pt x="18604" y="3257"/>
                  <a:pt x="18604" y="3249"/>
                </a:cubicBezTo>
              </a:path>
              <a:path w="943" h="671">
                <a:moveTo>
                  <a:pt x="18802" y="2729"/>
                </a:moveTo>
                <a:cubicBezTo>
                  <a:pt x="18802" y="2778"/>
                  <a:pt x="18802" y="2828"/>
                  <a:pt x="18802" y="2877"/>
                </a:cubicBezTo>
                <a:cubicBezTo>
                  <a:pt x="18871" y="2867"/>
                  <a:pt x="18933" y="2849"/>
                  <a:pt x="19000" y="2828"/>
                </a:cubicBezTo>
              </a:path>
              <a:path w="943" h="671">
                <a:moveTo>
                  <a:pt x="18976" y="2604"/>
                </a:moveTo>
                <a:cubicBezTo>
                  <a:pt x="18948" y="2715"/>
                  <a:pt x="18914" y="2935"/>
                  <a:pt x="18951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56280" y="109872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9348" y="3051"/>
                </a:moveTo>
                <a:cubicBezTo>
                  <a:pt x="19348" y="3125"/>
                  <a:pt x="19309" y="3203"/>
                  <a:pt x="19323" y="3274"/>
                </a:cubicBezTo>
                <a:cubicBezTo>
                  <a:pt x="19331" y="3291"/>
                  <a:pt x="19340" y="3307"/>
                  <a:pt x="19348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08920" y="1044720"/>
            <a:ext cx="276120" cy="142560"/>
          </a:xfrm>
          <a:custGeom>
            <a:avLst/>
            <a:gdLst/>
            <a:ahLst/>
            <a:rect l="l" t="t" r="r" b="b"/>
            <a:pathLst>
              <a:path w="769" h="398">
                <a:moveTo>
                  <a:pt x="19769" y="3001"/>
                </a:moveTo>
                <a:cubicBezTo>
                  <a:pt x="19769" y="2973"/>
                  <a:pt x="19772" y="2963"/>
                  <a:pt x="19794" y="2952"/>
                </a:cubicBezTo>
                <a:cubicBezTo>
                  <a:pt x="19918" y="2952"/>
                  <a:pt x="20018" y="3090"/>
                  <a:pt x="19893" y="3225"/>
                </a:cubicBezTo>
                <a:cubicBezTo>
                  <a:pt x="19814" y="3310"/>
                  <a:pt x="19765" y="3301"/>
                  <a:pt x="19745" y="3249"/>
                </a:cubicBezTo>
                <a:cubicBezTo>
                  <a:pt x="19765" y="3124"/>
                  <a:pt x="19867" y="3285"/>
                  <a:pt x="19968" y="3274"/>
                </a:cubicBezTo>
                <a:cubicBezTo>
                  <a:pt x="20018" y="3258"/>
                  <a:pt x="20067" y="3241"/>
                  <a:pt x="20117" y="3225"/>
                </a:cubicBezTo>
              </a:path>
              <a:path w="769" h="398">
                <a:moveTo>
                  <a:pt x="20315" y="2902"/>
                </a:moveTo>
                <a:cubicBezTo>
                  <a:pt x="20226" y="2976"/>
                  <a:pt x="20180" y="3065"/>
                  <a:pt x="20191" y="3175"/>
                </a:cubicBezTo>
                <a:cubicBezTo>
                  <a:pt x="20269" y="3180"/>
                  <a:pt x="20631" y="3156"/>
                  <a:pt x="20489" y="2977"/>
                </a:cubicBezTo>
                <a:cubicBezTo>
                  <a:pt x="20378" y="2910"/>
                  <a:pt x="20351" y="2885"/>
                  <a:pt x="20265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9080" y="946080"/>
            <a:ext cx="81000" cy="142920"/>
          </a:xfrm>
          <a:custGeom>
            <a:avLst/>
            <a:gdLst/>
            <a:ahLst/>
            <a:rect l="l" t="t" r="r" b="b"/>
            <a:pathLst>
              <a:path w="225" h="398">
                <a:moveTo>
                  <a:pt x="22101" y="2753"/>
                </a:moveTo>
                <a:cubicBezTo>
                  <a:pt x="22092" y="2808"/>
                  <a:pt x="22074" y="2851"/>
                  <a:pt x="22051" y="2902"/>
                </a:cubicBezTo>
                <a:cubicBezTo>
                  <a:pt x="22148" y="2921"/>
                  <a:pt x="22093" y="2926"/>
                  <a:pt x="22200" y="2877"/>
                </a:cubicBezTo>
              </a:path>
              <a:path w="225" h="398">
                <a:moveTo>
                  <a:pt x="22250" y="2629"/>
                </a:moveTo>
                <a:cubicBezTo>
                  <a:pt x="22250" y="2765"/>
                  <a:pt x="22264" y="2892"/>
                  <a:pt x="22275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99280" y="973080"/>
            <a:ext cx="196920" cy="115920"/>
          </a:xfrm>
          <a:custGeom>
            <a:avLst/>
            <a:gdLst/>
            <a:ahLst/>
            <a:rect l="l" t="t" r="r" b="b"/>
            <a:pathLst>
              <a:path w="547" h="323">
                <a:moveTo>
                  <a:pt x="22498" y="2753"/>
                </a:moveTo>
                <a:cubicBezTo>
                  <a:pt x="22546" y="2832"/>
                  <a:pt x="22590" y="2906"/>
                  <a:pt x="22647" y="2977"/>
                </a:cubicBezTo>
              </a:path>
              <a:path w="547" h="323">
                <a:moveTo>
                  <a:pt x="22696" y="2729"/>
                </a:moveTo>
                <a:cubicBezTo>
                  <a:pt x="22651" y="2795"/>
                  <a:pt x="22478" y="2976"/>
                  <a:pt x="22597" y="2952"/>
                </a:cubicBezTo>
              </a:path>
              <a:path w="547" h="323">
                <a:moveTo>
                  <a:pt x="22820" y="2778"/>
                </a:moveTo>
                <a:cubicBezTo>
                  <a:pt x="22798" y="2801"/>
                  <a:pt x="22790" y="2806"/>
                  <a:pt x="22796" y="2828"/>
                </a:cubicBezTo>
                <a:cubicBezTo>
                  <a:pt x="22890" y="2828"/>
                  <a:pt x="22954" y="2819"/>
                  <a:pt x="23044" y="2803"/>
                </a:cubicBezTo>
              </a:path>
              <a:path w="547" h="323">
                <a:moveTo>
                  <a:pt x="23019" y="2704"/>
                </a:moveTo>
                <a:cubicBezTo>
                  <a:pt x="23019" y="2820"/>
                  <a:pt x="23024" y="2918"/>
                  <a:pt x="22994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74040" y="955800"/>
            <a:ext cx="214200" cy="125280"/>
          </a:xfrm>
          <a:custGeom>
            <a:avLst/>
            <a:gdLst/>
            <a:ahLst/>
            <a:rect l="l" t="t" r="r" b="b"/>
            <a:pathLst>
              <a:path w="596" h="348">
                <a:moveTo>
                  <a:pt x="23564" y="2654"/>
                </a:moveTo>
                <a:cubicBezTo>
                  <a:pt x="23551" y="2763"/>
                  <a:pt x="23521" y="2760"/>
                  <a:pt x="23639" y="2803"/>
                </a:cubicBezTo>
                <a:cubicBezTo>
                  <a:pt x="23706" y="2826"/>
                  <a:pt x="23724" y="2837"/>
                  <a:pt x="23763" y="2803"/>
                </a:cubicBezTo>
              </a:path>
              <a:path w="596" h="348">
                <a:moveTo>
                  <a:pt x="23738" y="2704"/>
                </a:moveTo>
                <a:cubicBezTo>
                  <a:pt x="23738" y="2803"/>
                  <a:pt x="23738" y="2902"/>
                  <a:pt x="23738" y="3001"/>
                </a:cubicBezTo>
              </a:path>
              <a:path w="596" h="348">
                <a:moveTo>
                  <a:pt x="23986" y="2654"/>
                </a:moveTo>
                <a:cubicBezTo>
                  <a:pt x="24014" y="2736"/>
                  <a:pt x="24098" y="2931"/>
                  <a:pt x="24135" y="2853"/>
                </a:cubicBezTo>
                <a:cubicBezTo>
                  <a:pt x="24127" y="2836"/>
                  <a:pt x="24118" y="2820"/>
                  <a:pt x="24110" y="2803"/>
                </a:cubicBezTo>
              </a:path>
              <a:path w="596" h="348">
                <a:moveTo>
                  <a:pt x="24036" y="2803"/>
                </a:moveTo>
                <a:cubicBezTo>
                  <a:pt x="24013" y="2866"/>
                  <a:pt x="23986" y="2902"/>
                  <a:pt x="24011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96040" y="1357200"/>
            <a:ext cx="847800" cy="554040"/>
          </a:xfrm>
          <a:custGeom>
            <a:avLst/>
            <a:gdLst/>
            <a:ahLst/>
            <a:rect l="l" t="t" r="r" b="b"/>
            <a:pathLst>
              <a:path w="2358" h="1539">
                <a:moveTo>
                  <a:pt x="17934" y="3894"/>
                </a:moveTo>
                <a:cubicBezTo>
                  <a:pt x="17921" y="3932"/>
                  <a:pt x="17820" y="4122"/>
                  <a:pt x="17884" y="4142"/>
                </a:cubicBezTo>
              </a:path>
              <a:path w="2358" h="1539">
                <a:moveTo>
                  <a:pt x="19546" y="3770"/>
                </a:moveTo>
                <a:cubicBezTo>
                  <a:pt x="19539" y="3863"/>
                  <a:pt x="19527" y="3950"/>
                  <a:pt x="19521" y="4043"/>
                </a:cubicBezTo>
              </a:path>
              <a:path w="2358" h="1539">
                <a:moveTo>
                  <a:pt x="19397" y="3944"/>
                </a:moveTo>
                <a:cubicBezTo>
                  <a:pt x="19524" y="3936"/>
                  <a:pt x="19598" y="3914"/>
                  <a:pt x="19720" y="3870"/>
                </a:cubicBezTo>
              </a:path>
              <a:path w="2358" h="1539">
                <a:moveTo>
                  <a:pt x="17487" y="5234"/>
                </a:moveTo>
                <a:cubicBezTo>
                  <a:pt x="17495" y="5259"/>
                  <a:pt x="17504" y="5283"/>
                  <a:pt x="17512" y="5308"/>
                </a:cubicBezTo>
              </a:path>
              <a:path w="2358" h="1539">
                <a:moveTo>
                  <a:pt x="19645" y="4614"/>
                </a:moveTo>
                <a:cubicBezTo>
                  <a:pt x="19651" y="4692"/>
                  <a:pt x="19656" y="4720"/>
                  <a:pt x="19670" y="4787"/>
                </a:cubicBezTo>
              </a:path>
              <a:path w="2358" h="1539">
                <a:moveTo>
                  <a:pt x="19546" y="4688"/>
                </a:moveTo>
                <a:cubicBezTo>
                  <a:pt x="19697" y="4663"/>
                  <a:pt x="19748" y="4654"/>
                  <a:pt x="1984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88040" y="1320840"/>
            <a:ext cx="714240" cy="563400"/>
          </a:xfrm>
          <a:custGeom>
            <a:avLst/>
            <a:gdLst/>
            <a:ahLst/>
            <a:rect l="l" t="t" r="r" b="b"/>
            <a:pathLst>
              <a:path w="1985" h="1564">
                <a:moveTo>
                  <a:pt x="17388" y="3770"/>
                </a:moveTo>
                <a:cubicBezTo>
                  <a:pt x="17388" y="3870"/>
                  <a:pt x="17369" y="3903"/>
                  <a:pt x="17338" y="3994"/>
                </a:cubicBezTo>
                <a:cubicBezTo>
                  <a:pt x="17313" y="4067"/>
                  <a:pt x="17297" y="4142"/>
                  <a:pt x="17289" y="4217"/>
                </a:cubicBezTo>
                <a:cubicBezTo>
                  <a:pt x="17433" y="4299"/>
                  <a:pt x="17494" y="4239"/>
                  <a:pt x="17611" y="4142"/>
                </a:cubicBezTo>
                <a:cubicBezTo>
                  <a:pt x="17634" y="4120"/>
                  <a:pt x="17642" y="4115"/>
                  <a:pt x="17636" y="4093"/>
                </a:cubicBezTo>
                <a:cubicBezTo>
                  <a:pt x="17572" y="4093"/>
                  <a:pt x="17520" y="4102"/>
                  <a:pt x="17487" y="4167"/>
                </a:cubicBezTo>
                <a:cubicBezTo>
                  <a:pt x="17487" y="4175"/>
                  <a:pt x="17487" y="4184"/>
                  <a:pt x="17487" y="4192"/>
                </a:cubicBezTo>
              </a:path>
              <a:path w="1985" h="1564">
                <a:moveTo>
                  <a:pt x="17760" y="3944"/>
                </a:moveTo>
                <a:cubicBezTo>
                  <a:pt x="17807" y="4015"/>
                  <a:pt x="17857" y="4087"/>
                  <a:pt x="17934" y="4118"/>
                </a:cubicBezTo>
              </a:path>
              <a:path w="1985" h="1564">
                <a:moveTo>
                  <a:pt x="18231" y="3820"/>
                </a:moveTo>
                <a:cubicBezTo>
                  <a:pt x="18400" y="3807"/>
                  <a:pt x="18491" y="3891"/>
                  <a:pt x="18380" y="4068"/>
                </a:cubicBezTo>
                <a:cubicBezTo>
                  <a:pt x="18301" y="4195"/>
                  <a:pt x="18221" y="4159"/>
                  <a:pt x="18207" y="4043"/>
                </a:cubicBezTo>
                <a:cubicBezTo>
                  <a:pt x="18288" y="4057"/>
                  <a:pt x="18335" y="4100"/>
                  <a:pt x="18405" y="4118"/>
                </a:cubicBezTo>
              </a:path>
              <a:path w="1985" h="1564">
                <a:moveTo>
                  <a:pt x="18752" y="3671"/>
                </a:moveTo>
                <a:cubicBezTo>
                  <a:pt x="18697" y="3671"/>
                  <a:pt x="18671" y="3657"/>
                  <a:pt x="18653" y="3696"/>
                </a:cubicBezTo>
                <a:cubicBezTo>
                  <a:pt x="18629" y="3749"/>
                  <a:pt x="18610" y="3798"/>
                  <a:pt x="18579" y="3845"/>
                </a:cubicBezTo>
                <a:cubicBezTo>
                  <a:pt x="18628" y="3855"/>
                  <a:pt x="18744" y="3878"/>
                  <a:pt x="18777" y="3919"/>
                </a:cubicBezTo>
                <a:cubicBezTo>
                  <a:pt x="18854" y="4016"/>
                  <a:pt x="18809" y="4193"/>
                  <a:pt x="18653" y="4167"/>
                </a:cubicBezTo>
                <a:cubicBezTo>
                  <a:pt x="18579" y="4118"/>
                  <a:pt x="18554" y="4101"/>
                  <a:pt x="18529" y="4043"/>
                </a:cubicBezTo>
              </a:path>
              <a:path w="1985" h="1564">
                <a:moveTo>
                  <a:pt x="18951" y="3671"/>
                </a:moveTo>
                <a:cubicBezTo>
                  <a:pt x="18951" y="3799"/>
                  <a:pt x="18928" y="3957"/>
                  <a:pt x="18976" y="4068"/>
                </a:cubicBezTo>
                <a:cubicBezTo>
                  <a:pt x="19067" y="4099"/>
                  <a:pt x="19115" y="4047"/>
                  <a:pt x="19174" y="3969"/>
                </a:cubicBezTo>
                <a:cubicBezTo>
                  <a:pt x="19105" y="3949"/>
                  <a:pt x="19060" y="3957"/>
                  <a:pt x="19050" y="4043"/>
                </a:cubicBezTo>
                <a:cubicBezTo>
                  <a:pt x="19050" y="4095"/>
                  <a:pt x="19052" y="4113"/>
                  <a:pt x="19100" y="4118"/>
                </a:cubicBezTo>
              </a:path>
              <a:path w="1985" h="1564">
                <a:moveTo>
                  <a:pt x="17636" y="4316"/>
                </a:moveTo>
                <a:cubicBezTo>
                  <a:pt x="17630" y="4392"/>
                  <a:pt x="17619" y="4464"/>
                  <a:pt x="17611" y="4539"/>
                </a:cubicBezTo>
                <a:cubicBezTo>
                  <a:pt x="17744" y="4539"/>
                  <a:pt x="17871" y="4504"/>
                  <a:pt x="18008" y="4490"/>
                </a:cubicBezTo>
                <a:cubicBezTo>
                  <a:pt x="18043" y="4486"/>
                  <a:pt x="18487" y="4489"/>
                  <a:pt x="18504" y="4465"/>
                </a:cubicBezTo>
                <a:cubicBezTo>
                  <a:pt x="18535" y="4421"/>
                  <a:pt x="18479" y="4323"/>
                  <a:pt x="18479" y="4266"/>
                </a:cubicBezTo>
              </a:path>
              <a:path w="1985" h="1564">
                <a:moveTo>
                  <a:pt x="17190" y="4812"/>
                </a:moveTo>
                <a:cubicBezTo>
                  <a:pt x="17207" y="4936"/>
                  <a:pt x="17246" y="5060"/>
                  <a:pt x="17264" y="5184"/>
                </a:cubicBezTo>
                <a:cubicBezTo>
                  <a:pt x="17264" y="5201"/>
                  <a:pt x="17264" y="5217"/>
                  <a:pt x="17264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15120" y="129528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20117" y="3696"/>
                </a:moveTo>
                <a:cubicBezTo>
                  <a:pt x="20177" y="3636"/>
                  <a:pt x="20263" y="3662"/>
                  <a:pt x="20290" y="3770"/>
                </a:cubicBezTo>
                <a:cubicBezTo>
                  <a:pt x="20317" y="3880"/>
                  <a:pt x="20186" y="4022"/>
                  <a:pt x="20067" y="3969"/>
                </a:cubicBezTo>
                <a:cubicBezTo>
                  <a:pt x="20047" y="3928"/>
                  <a:pt x="20038" y="3922"/>
                  <a:pt x="20042" y="3894"/>
                </a:cubicBezTo>
                <a:cubicBezTo>
                  <a:pt x="20146" y="3915"/>
                  <a:pt x="20224" y="3994"/>
                  <a:pt x="20340" y="3994"/>
                </a:cubicBezTo>
                <a:cubicBezTo>
                  <a:pt x="20390" y="3986"/>
                  <a:pt x="20439" y="3977"/>
                  <a:pt x="20489" y="3969"/>
                </a:cubicBezTo>
              </a:path>
              <a:path w="745" h="398">
                <a:moveTo>
                  <a:pt x="20662" y="3597"/>
                </a:moveTo>
                <a:cubicBezTo>
                  <a:pt x="20567" y="3652"/>
                  <a:pt x="20399" y="3778"/>
                  <a:pt x="20538" y="3894"/>
                </a:cubicBezTo>
                <a:cubicBezTo>
                  <a:pt x="20664" y="3999"/>
                  <a:pt x="20709" y="3906"/>
                  <a:pt x="20786" y="3820"/>
                </a:cubicBezTo>
                <a:cubicBezTo>
                  <a:pt x="20736" y="3683"/>
                  <a:pt x="20720" y="3713"/>
                  <a:pt x="20563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55000" y="857160"/>
            <a:ext cx="1081080" cy="706680"/>
          </a:xfrm>
          <a:custGeom>
            <a:avLst/>
            <a:gdLst/>
            <a:ahLst/>
            <a:rect l="l" t="t" r="r" b="b"/>
            <a:pathLst>
              <a:path w="3002" h="1961">
                <a:moveTo>
                  <a:pt x="22374" y="3249"/>
                </a:moveTo>
                <a:cubicBezTo>
                  <a:pt x="22388" y="3303"/>
                  <a:pt x="22396" y="3348"/>
                  <a:pt x="22473" y="3324"/>
                </a:cubicBezTo>
                <a:cubicBezTo>
                  <a:pt x="22596" y="3285"/>
                  <a:pt x="22687" y="3274"/>
                  <a:pt x="22820" y="3274"/>
                </a:cubicBezTo>
                <a:cubicBezTo>
                  <a:pt x="22858" y="3274"/>
                  <a:pt x="22946" y="3234"/>
                  <a:pt x="22969" y="3200"/>
                </a:cubicBezTo>
                <a:cubicBezTo>
                  <a:pt x="22969" y="3192"/>
                  <a:pt x="22969" y="3183"/>
                  <a:pt x="22969" y="3175"/>
                </a:cubicBezTo>
              </a:path>
              <a:path w="3002" h="1961">
                <a:moveTo>
                  <a:pt x="22597" y="3522"/>
                </a:moveTo>
                <a:cubicBezTo>
                  <a:pt x="22565" y="3574"/>
                  <a:pt x="22572" y="3704"/>
                  <a:pt x="22572" y="3795"/>
                </a:cubicBezTo>
                <a:cubicBezTo>
                  <a:pt x="22572" y="3787"/>
                  <a:pt x="22572" y="3778"/>
                  <a:pt x="22572" y="3770"/>
                </a:cubicBezTo>
              </a:path>
              <a:path w="3002" h="1961">
                <a:moveTo>
                  <a:pt x="22746" y="3522"/>
                </a:moveTo>
                <a:cubicBezTo>
                  <a:pt x="22753" y="3588"/>
                  <a:pt x="22760" y="3732"/>
                  <a:pt x="22820" y="3770"/>
                </a:cubicBezTo>
                <a:cubicBezTo>
                  <a:pt x="22941" y="3846"/>
                  <a:pt x="22997" y="3743"/>
                  <a:pt x="23019" y="3646"/>
                </a:cubicBezTo>
                <a:cubicBezTo>
                  <a:pt x="22918" y="3675"/>
                  <a:pt x="22915" y="3723"/>
                  <a:pt x="23019" y="3746"/>
                </a:cubicBezTo>
              </a:path>
              <a:path w="3002" h="1961">
                <a:moveTo>
                  <a:pt x="23589" y="3249"/>
                </a:moveTo>
                <a:cubicBezTo>
                  <a:pt x="23595" y="3335"/>
                  <a:pt x="23677" y="3388"/>
                  <a:pt x="23664" y="3473"/>
                </a:cubicBezTo>
                <a:cubicBezTo>
                  <a:pt x="23659" y="3510"/>
                  <a:pt x="23602" y="3543"/>
                  <a:pt x="23564" y="3547"/>
                </a:cubicBezTo>
                <a:cubicBezTo>
                  <a:pt x="23488" y="3556"/>
                  <a:pt x="23355" y="3487"/>
                  <a:pt x="23292" y="3522"/>
                </a:cubicBezTo>
                <a:cubicBezTo>
                  <a:pt x="23269" y="3545"/>
                  <a:pt x="23265" y="3553"/>
                  <a:pt x="23242" y="3547"/>
                </a:cubicBezTo>
              </a:path>
              <a:path w="3002" h="1961">
                <a:moveTo>
                  <a:pt x="23837" y="3646"/>
                </a:moveTo>
                <a:cubicBezTo>
                  <a:pt x="23826" y="3689"/>
                  <a:pt x="23797" y="3722"/>
                  <a:pt x="23788" y="3770"/>
                </a:cubicBezTo>
                <a:cubicBezTo>
                  <a:pt x="23850" y="3775"/>
                  <a:pt x="23901" y="3785"/>
                  <a:pt x="23961" y="3795"/>
                </a:cubicBezTo>
              </a:path>
              <a:path w="3002" h="1961">
                <a:moveTo>
                  <a:pt x="23961" y="3597"/>
                </a:moveTo>
                <a:cubicBezTo>
                  <a:pt x="23961" y="3694"/>
                  <a:pt x="23940" y="3802"/>
                  <a:pt x="23912" y="3894"/>
                </a:cubicBezTo>
                <a:cubicBezTo>
                  <a:pt x="23904" y="3911"/>
                  <a:pt x="23895" y="3927"/>
                  <a:pt x="23887" y="3944"/>
                </a:cubicBezTo>
              </a:path>
              <a:path w="3002" h="1961">
                <a:moveTo>
                  <a:pt x="23515" y="3621"/>
                </a:moveTo>
                <a:cubicBezTo>
                  <a:pt x="23515" y="3733"/>
                  <a:pt x="23484" y="3813"/>
                  <a:pt x="23465" y="3919"/>
                </a:cubicBezTo>
                <a:cubicBezTo>
                  <a:pt x="23449" y="4011"/>
                  <a:pt x="23546" y="4033"/>
                  <a:pt x="23614" y="3994"/>
                </a:cubicBezTo>
                <a:cubicBezTo>
                  <a:pt x="23656" y="3952"/>
                  <a:pt x="23664" y="3945"/>
                  <a:pt x="23688" y="3919"/>
                </a:cubicBezTo>
                <a:cubicBezTo>
                  <a:pt x="23676" y="3883"/>
                  <a:pt x="23602" y="3861"/>
                  <a:pt x="23589" y="3919"/>
                </a:cubicBezTo>
                <a:cubicBezTo>
                  <a:pt x="23589" y="3961"/>
                  <a:pt x="23581" y="3977"/>
                  <a:pt x="23614" y="3969"/>
                </a:cubicBezTo>
              </a:path>
              <a:path w="3002" h="1961">
                <a:moveTo>
                  <a:pt x="23986" y="3696"/>
                </a:moveTo>
                <a:cubicBezTo>
                  <a:pt x="24068" y="3696"/>
                  <a:pt x="24284" y="3717"/>
                  <a:pt x="24333" y="3696"/>
                </a:cubicBezTo>
                <a:cubicBezTo>
                  <a:pt x="24363" y="3683"/>
                  <a:pt x="24358" y="3616"/>
                  <a:pt x="24358" y="3572"/>
                </a:cubicBezTo>
                <a:cubicBezTo>
                  <a:pt x="24358" y="3466"/>
                  <a:pt x="24342" y="3377"/>
                  <a:pt x="24333" y="3274"/>
                </a:cubicBezTo>
                <a:cubicBezTo>
                  <a:pt x="24333" y="3266"/>
                  <a:pt x="24333" y="3257"/>
                  <a:pt x="24333" y="3249"/>
                </a:cubicBezTo>
              </a:path>
              <a:path w="3002" h="1961">
                <a:moveTo>
                  <a:pt x="24259" y="2654"/>
                </a:moveTo>
                <a:cubicBezTo>
                  <a:pt x="24259" y="2723"/>
                  <a:pt x="24248" y="2737"/>
                  <a:pt x="24234" y="2778"/>
                </a:cubicBezTo>
              </a:path>
              <a:path w="3002" h="1961">
                <a:moveTo>
                  <a:pt x="24433" y="2654"/>
                </a:moveTo>
                <a:cubicBezTo>
                  <a:pt x="24459" y="2672"/>
                  <a:pt x="24457" y="2770"/>
                  <a:pt x="24457" y="2729"/>
                </a:cubicBezTo>
              </a:path>
              <a:path w="3002" h="1961">
                <a:moveTo>
                  <a:pt x="24309" y="2679"/>
                </a:moveTo>
                <a:cubicBezTo>
                  <a:pt x="24289" y="2719"/>
                  <a:pt x="24280" y="2726"/>
                  <a:pt x="24284" y="2753"/>
                </a:cubicBezTo>
                <a:cubicBezTo>
                  <a:pt x="24357" y="2735"/>
                  <a:pt x="24473" y="2797"/>
                  <a:pt x="24507" y="2729"/>
                </a:cubicBezTo>
                <a:cubicBezTo>
                  <a:pt x="24528" y="2687"/>
                  <a:pt x="24513" y="2614"/>
                  <a:pt x="24482" y="2604"/>
                </a:cubicBezTo>
                <a:cubicBezTo>
                  <a:pt x="24482" y="2712"/>
                  <a:pt x="24486" y="2849"/>
                  <a:pt x="24457" y="2952"/>
                </a:cubicBezTo>
                <a:cubicBezTo>
                  <a:pt x="24435" y="2974"/>
                  <a:pt x="24427" y="2979"/>
                  <a:pt x="24433" y="3001"/>
                </a:cubicBezTo>
              </a:path>
              <a:path w="3002" h="1961">
                <a:moveTo>
                  <a:pt x="24383" y="2604"/>
                </a:moveTo>
                <a:cubicBezTo>
                  <a:pt x="24383" y="2531"/>
                  <a:pt x="24378" y="2470"/>
                  <a:pt x="24358" y="2431"/>
                </a:cubicBezTo>
                <a:cubicBezTo>
                  <a:pt x="24356" y="2426"/>
                  <a:pt x="24358" y="2337"/>
                  <a:pt x="24358" y="2406"/>
                </a:cubicBezTo>
                <a:cubicBezTo>
                  <a:pt x="24332" y="2466"/>
                  <a:pt x="24315" y="2552"/>
                  <a:pt x="24284" y="2604"/>
                </a:cubicBezTo>
                <a:cubicBezTo>
                  <a:pt x="24276" y="2612"/>
                  <a:pt x="24267" y="2621"/>
                  <a:pt x="24259" y="2629"/>
                </a:cubicBezTo>
                <a:cubicBezTo>
                  <a:pt x="24339" y="2629"/>
                  <a:pt x="24406" y="2662"/>
                  <a:pt x="24482" y="2679"/>
                </a:cubicBezTo>
                <a:cubicBezTo>
                  <a:pt x="24513" y="2686"/>
                  <a:pt x="24549" y="2679"/>
                  <a:pt x="24581" y="2679"/>
                </a:cubicBezTo>
                <a:cubicBezTo>
                  <a:pt x="24581" y="2607"/>
                  <a:pt x="24563" y="2549"/>
                  <a:pt x="24557" y="2480"/>
                </a:cubicBezTo>
                <a:cubicBezTo>
                  <a:pt x="24556" y="2471"/>
                  <a:pt x="24557" y="2390"/>
                  <a:pt x="24557" y="2456"/>
                </a:cubicBezTo>
                <a:cubicBezTo>
                  <a:pt x="24547" y="2598"/>
                  <a:pt x="24523" y="2737"/>
                  <a:pt x="24507" y="2877"/>
                </a:cubicBezTo>
                <a:cubicBezTo>
                  <a:pt x="24507" y="2919"/>
                  <a:pt x="24507" y="2944"/>
                  <a:pt x="24507" y="2902"/>
                </a:cubicBezTo>
              </a:path>
              <a:path w="3002" h="1961">
                <a:moveTo>
                  <a:pt x="24929" y="3572"/>
                </a:moveTo>
                <a:cubicBezTo>
                  <a:pt x="24929" y="3669"/>
                  <a:pt x="24915" y="3754"/>
                  <a:pt x="24879" y="3845"/>
                </a:cubicBezTo>
                <a:cubicBezTo>
                  <a:pt x="24857" y="3900"/>
                  <a:pt x="24827" y="3967"/>
                  <a:pt x="24879" y="3994"/>
                </a:cubicBezTo>
                <a:cubicBezTo>
                  <a:pt x="24991" y="4052"/>
                  <a:pt x="25142" y="4072"/>
                  <a:pt x="25226" y="3944"/>
                </a:cubicBezTo>
                <a:cubicBezTo>
                  <a:pt x="25226" y="3894"/>
                  <a:pt x="25226" y="3878"/>
                  <a:pt x="25226" y="3845"/>
                </a:cubicBezTo>
                <a:cubicBezTo>
                  <a:pt x="25177" y="3845"/>
                  <a:pt x="25085" y="3847"/>
                  <a:pt x="25053" y="3894"/>
                </a:cubicBezTo>
                <a:cubicBezTo>
                  <a:pt x="25024" y="3936"/>
                  <a:pt x="25028" y="3973"/>
                  <a:pt x="25028" y="4018"/>
                </a:cubicBezTo>
              </a:path>
              <a:path w="3002" h="1961">
                <a:moveTo>
                  <a:pt x="24408" y="3721"/>
                </a:moveTo>
                <a:cubicBezTo>
                  <a:pt x="24366" y="3707"/>
                  <a:pt x="24380" y="3708"/>
                  <a:pt x="24408" y="3671"/>
                </a:cubicBezTo>
                <a:cubicBezTo>
                  <a:pt x="24499" y="3740"/>
                  <a:pt x="24464" y="3841"/>
                  <a:pt x="24383" y="3919"/>
                </a:cubicBezTo>
                <a:cubicBezTo>
                  <a:pt x="24323" y="3977"/>
                  <a:pt x="24268" y="3988"/>
                  <a:pt x="24209" y="3944"/>
                </a:cubicBezTo>
                <a:cubicBezTo>
                  <a:pt x="24277" y="3930"/>
                  <a:pt x="24319" y="3897"/>
                  <a:pt x="24383" y="3944"/>
                </a:cubicBezTo>
                <a:cubicBezTo>
                  <a:pt x="24408" y="3969"/>
                  <a:pt x="24416" y="3977"/>
                  <a:pt x="24433" y="3994"/>
                </a:cubicBezTo>
              </a:path>
              <a:path w="3002" h="1961">
                <a:moveTo>
                  <a:pt x="24730" y="3572"/>
                </a:moveTo>
                <a:cubicBezTo>
                  <a:pt x="24680" y="3572"/>
                  <a:pt x="24628" y="3503"/>
                  <a:pt x="24606" y="3547"/>
                </a:cubicBezTo>
                <a:cubicBezTo>
                  <a:pt x="24581" y="3598"/>
                  <a:pt x="24558" y="3663"/>
                  <a:pt x="24532" y="3721"/>
                </a:cubicBezTo>
                <a:cubicBezTo>
                  <a:pt x="24617" y="3710"/>
                  <a:pt x="24641" y="3668"/>
                  <a:pt x="24705" y="3746"/>
                </a:cubicBezTo>
                <a:cubicBezTo>
                  <a:pt x="24779" y="3838"/>
                  <a:pt x="24779" y="3932"/>
                  <a:pt x="24656" y="3969"/>
                </a:cubicBezTo>
                <a:cubicBezTo>
                  <a:pt x="24604" y="3969"/>
                  <a:pt x="24586" y="3968"/>
                  <a:pt x="24557" y="3944"/>
                </a:cubicBezTo>
              </a:path>
              <a:path w="3002" h="1961">
                <a:moveTo>
                  <a:pt x="24780" y="3299"/>
                </a:moveTo>
                <a:cubicBezTo>
                  <a:pt x="24696" y="3276"/>
                  <a:pt x="24671" y="3271"/>
                  <a:pt x="24581" y="3299"/>
                </a:cubicBezTo>
                <a:cubicBezTo>
                  <a:pt x="24469" y="3334"/>
                  <a:pt x="24364" y="3372"/>
                  <a:pt x="24259" y="3423"/>
                </a:cubicBezTo>
                <a:cubicBezTo>
                  <a:pt x="24183" y="3459"/>
                  <a:pt x="24163" y="3488"/>
                  <a:pt x="24110" y="3547"/>
                </a:cubicBezTo>
                <a:cubicBezTo>
                  <a:pt x="24060" y="3603"/>
                  <a:pt x="23985" y="3738"/>
                  <a:pt x="24011" y="3820"/>
                </a:cubicBezTo>
                <a:cubicBezTo>
                  <a:pt x="24036" y="3900"/>
                  <a:pt x="24141" y="4118"/>
                  <a:pt x="24209" y="4167"/>
                </a:cubicBezTo>
                <a:cubicBezTo>
                  <a:pt x="24345" y="4264"/>
                  <a:pt x="24526" y="4292"/>
                  <a:pt x="24681" y="4316"/>
                </a:cubicBezTo>
                <a:cubicBezTo>
                  <a:pt x="24807" y="4336"/>
                  <a:pt x="24960" y="4337"/>
                  <a:pt x="25078" y="4266"/>
                </a:cubicBezTo>
                <a:cubicBezTo>
                  <a:pt x="25151" y="4222"/>
                  <a:pt x="25375" y="3987"/>
                  <a:pt x="25375" y="3894"/>
                </a:cubicBezTo>
                <a:cubicBezTo>
                  <a:pt x="25375" y="3672"/>
                  <a:pt x="25154" y="3498"/>
                  <a:pt x="25003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57960" y="1562040"/>
            <a:ext cx="2152800" cy="1420920"/>
          </a:xfrm>
          <a:custGeom>
            <a:avLst/>
            <a:gdLst/>
            <a:ahLst/>
            <a:rect l="l" t="t" r="r" b="b"/>
            <a:pathLst>
              <a:path w="5979" h="3945">
                <a:moveTo>
                  <a:pt x="17909" y="4738"/>
                </a:moveTo>
                <a:cubicBezTo>
                  <a:pt x="17851" y="4766"/>
                  <a:pt x="17779" y="4776"/>
                  <a:pt x="17735" y="4812"/>
                </a:cubicBezTo>
                <a:cubicBezTo>
                  <a:pt x="17693" y="4846"/>
                  <a:pt x="17683" y="4913"/>
                  <a:pt x="17661" y="4961"/>
                </a:cubicBezTo>
                <a:cubicBezTo>
                  <a:pt x="17757" y="4961"/>
                  <a:pt x="17872" y="4958"/>
                  <a:pt x="17959" y="5011"/>
                </a:cubicBezTo>
                <a:cubicBezTo>
                  <a:pt x="18087" y="5088"/>
                  <a:pt x="17924" y="5202"/>
                  <a:pt x="17835" y="5184"/>
                </a:cubicBezTo>
                <a:cubicBezTo>
                  <a:pt x="17754" y="5131"/>
                  <a:pt x="17732" y="5108"/>
                  <a:pt x="17810" y="5035"/>
                </a:cubicBezTo>
              </a:path>
              <a:path w="5979" h="3945">
                <a:moveTo>
                  <a:pt x="18207" y="4762"/>
                </a:moveTo>
                <a:cubicBezTo>
                  <a:pt x="18301" y="4731"/>
                  <a:pt x="18512" y="4742"/>
                  <a:pt x="18306" y="4862"/>
                </a:cubicBezTo>
                <a:cubicBezTo>
                  <a:pt x="18289" y="4862"/>
                  <a:pt x="18273" y="4862"/>
                  <a:pt x="18256" y="4862"/>
                </a:cubicBezTo>
                <a:cubicBezTo>
                  <a:pt x="18367" y="4862"/>
                  <a:pt x="18535" y="4821"/>
                  <a:pt x="18529" y="4986"/>
                </a:cubicBezTo>
                <a:cubicBezTo>
                  <a:pt x="18522" y="5180"/>
                  <a:pt x="18308" y="5085"/>
                  <a:pt x="18256" y="5011"/>
                </a:cubicBezTo>
              </a:path>
              <a:path w="5979" h="3945">
                <a:moveTo>
                  <a:pt x="18728" y="4539"/>
                </a:moveTo>
                <a:cubicBezTo>
                  <a:pt x="18728" y="4641"/>
                  <a:pt x="18694" y="4732"/>
                  <a:pt x="18703" y="4837"/>
                </a:cubicBezTo>
                <a:cubicBezTo>
                  <a:pt x="18714" y="4961"/>
                  <a:pt x="18794" y="5123"/>
                  <a:pt x="18951" y="5011"/>
                </a:cubicBezTo>
                <a:cubicBezTo>
                  <a:pt x="19036" y="4950"/>
                  <a:pt x="19025" y="4914"/>
                  <a:pt x="19025" y="4837"/>
                </a:cubicBezTo>
                <a:cubicBezTo>
                  <a:pt x="18994" y="4840"/>
                  <a:pt x="18793" y="4968"/>
                  <a:pt x="18876" y="4986"/>
                </a:cubicBezTo>
                <a:cubicBezTo>
                  <a:pt x="18909" y="4978"/>
                  <a:pt x="18943" y="4969"/>
                  <a:pt x="18976" y="4961"/>
                </a:cubicBezTo>
              </a:path>
              <a:path w="5979" h="3945">
                <a:moveTo>
                  <a:pt x="20141" y="4415"/>
                </a:moveTo>
                <a:cubicBezTo>
                  <a:pt x="20240" y="4401"/>
                  <a:pt x="20411" y="4375"/>
                  <a:pt x="20365" y="4564"/>
                </a:cubicBezTo>
                <a:cubicBezTo>
                  <a:pt x="20350" y="4627"/>
                  <a:pt x="20118" y="4845"/>
                  <a:pt x="20117" y="4663"/>
                </a:cubicBezTo>
                <a:cubicBezTo>
                  <a:pt x="20125" y="4647"/>
                  <a:pt x="20133" y="4630"/>
                  <a:pt x="20141" y="4614"/>
                </a:cubicBezTo>
                <a:cubicBezTo>
                  <a:pt x="20245" y="4637"/>
                  <a:pt x="20333" y="4702"/>
                  <a:pt x="20439" y="4738"/>
                </a:cubicBezTo>
              </a:path>
              <a:path w="5979" h="3945">
                <a:moveTo>
                  <a:pt x="20737" y="4341"/>
                </a:moveTo>
                <a:cubicBezTo>
                  <a:pt x="20556" y="4446"/>
                  <a:pt x="20561" y="4519"/>
                  <a:pt x="20662" y="4688"/>
                </a:cubicBezTo>
                <a:cubicBezTo>
                  <a:pt x="20891" y="4593"/>
                  <a:pt x="20871" y="4525"/>
                  <a:pt x="20662" y="4415"/>
                </a:cubicBezTo>
              </a:path>
              <a:path w="5979" h="3945">
                <a:moveTo>
                  <a:pt x="18529" y="5556"/>
                </a:moveTo>
                <a:cubicBezTo>
                  <a:pt x="18545" y="5697"/>
                  <a:pt x="18572" y="5836"/>
                  <a:pt x="18579" y="5978"/>
                </a:cubicBezTo>
                <a:cubicBezTo>
                  <a:pt x="18579" y="5986"/>
                  <a:pt x="18579" y="5995"/>
                  <a:pt x="18579" y="6003"/>
                </a:cubicBezTo>
              </a:path>
              <a:path w="5979" h="3945">
                <a:moveTo>
                  <a:pt x="19000" y="5432"/>
                </a:moveTo>
                <a:cubicBezTo>
                  <a:pt x="18971" y="5421"/>
                  <a:pt x="18868" y="5386"/>
                  <a:pt x="18852" y="5432"/>
                </a:cubicBezTo>
                <a:cubicBezTo>
                  <a:pt x="18824" y="5511"/>
                  <a:pt x="18827" y="5619"/>
                  <a:pt x="18827" y="5705"/>
                </a:cubicBezTo>
                <a:cubicBezTo>
                  <a:pt x="18888" y="5679"/>
                  <a:pt x="19034" y="5550"/>
                  <a:pt x="19124" y="5606"/>
                </a:cubicBezTo>
                <a:cubicBezTo>
                  <a:pt x="19316" y="5727"/>
                  <a:pt x="19205" y="5940"/>
                  <a:pt x="19025" y="5978"/>
                </a:cubicBezTo>
                <a:cubicBezTo>
                  <a:pt x="18896" y="5978"/>
                  <a:pt x="18863" y="5989"/>
                  <a:pt x="18802" y="5928"/>
                </a:cubicBezTo>
              </a:path>
              <a:path w="5979" h="3945">
                <a:moveTo>
                  <a:pt x="18802" y="6127"/>
                </a:moveTo>
                <a:cubicBezTo>
                  <a:pt x="18802" y="6177"/>
                  <a:pt x="18802" y="6210"/>
                  <a:pt x="18802" y="6251"/>
                </a:cubicBezTo>
              </a:path>
              <a:path w="5979" h="3945">
                <a:moveTo>
                  <a:pt x="19546" y="5283"/>
                </a:moveTo>
                <a:cubicBezTo>
                  <a:pt x="19511" y="5290"/>
                  <a:pt x="19391" y="5314"/>
                  <a:pt x="19372" y="5333"/>
                </a:cubicBezTo>
                <a:cubicBezTo>
                  <a:pt x="19343" y="5362"/>
                  <a:pt x="19328" y="5439"/>
                  <a:pt x="19323" y="5482"/>
                </a:cubicBezTo>
                <a:cubicBezTo>
                  <a:pt x="19401" y="5508"/>
                  <a:pt x="19530" y="5444"/>
                  <a:pt x="19621" y="5507"/>
                </a:cubicBezTo>
                <a:cubicBezTo>
                  <a:pt x="19798" y="5629"/>
                  <a:pt x="19566" y="5828"/>
                  <a:pt x="19447" y="5854"/>
                </a:cubicBezTo>
                <a:cubicBezTo>
                  <a:pt x="19349" y="5821"/>
                  <a:pt x="19328" y="5789"/>
                  <a:pt x="19397" y="5680"/>
                </a:cubicBezTo>
              </a:path>
              <a:path w="5979" h="3945">
                <a:moveTo>
                  <a:pt x="19819" y="5283"/>
                </a:moveTo>
                <a:cubicBezTo>
                  <a:pt x="19819" y="5383"/>
                  <a:pt x="19769" y="5670"/>
                  <a:pt x="19893" y="5730"/>
                </a:cubicBezTo>
                <a:cubicBezTo>
                  <a:pt x="20031" y="5797"/>
                  <a:pt x="20092" y="5611"/>
                  <a:pt x="20141" y="5531"/>
                </a:cubicBezTo>
                <a:cubicBezTo>
                  <a:pt x="20015" y="5607"/>
                  <a:pt x="19990" y="5660"/>
                  <a:pt x="19918" y="5804"/>
                </a:cubicBezTo>
              </a:path>
              <a:path w="5979" h="3945">
                <a:moveTo>
                  <a:pt x="18331" y="6449"/>
                </a:moveTo>
                <a:cubicBezTo>
                  <a:pt x="18466" y="6402"/>
                  <a:pt x="18706" y="6354"/>
                  <a:pt x="18876" y="6325"/>
                </a:cubicBezTo>
                <a:cubicBezTo>
                  <a:pt x="19246" y="6261"/>
                  <a:pt x="19571" y="6197"/>
                  <a:pt x="19918" y="6052"/>
                </a:cubicBezTo>
                <a:cubicBezTo>
                  <a:pt x="20162" y="5950"/>
                  <a:pt x="20323" y="5777"/>
                  <a:pt x="20365" y="5507"/>
                </a:cubicBezTo>
                <a:cubicBezTo>
                  <a:pt x="20378" y="5422"/>
                  <a:pt x="20352" y="5285"/>
                  <a:pt x="20315" y="5209"/>
                </a:cubicBezTo>
                <a:cubicBezTo>
                  <a:pt x="20266" y="5107"/>
                  <a:pt x="20140" y="5040"/>
                  <a:pt x="20042" y="5011"/>
                </a:cubicBezTo>
                <a:cubicBezTo>
                  <a:pt x="19873" y="4962"/>
                  <a:pt x="19697" y="4945"/>
                  <a:pt x="19521" y="4961"/>
                </a:cubicBezTo>
                <a:cubicBezTo>
                  <a:pt x="19321" y="4980"/>
                  <a:pt x="19062" y="5011"/>
                  <a:pt x="18876" y="5085"/>
                </a:cubicBezTo>
                <a:cubicBezTo>
                  <a:pt x="18708" y="5152"/>
                  <a:pt x="18476" y="5246"/>
                  <a:pt x="18331" y="5358"/>
                </a:cubicBezTo>
                <a:cubicBezTo>
                  <a:pt x="18182" y="5473"/>
                  <a:pt x="18014" y="5738"/>
                  <a:pt x="18008" y="5928"/>
                </a:cubicBezTo>
                <a:cubicBezTo>
                  <a:pt x="17997" y="6262"/>
                  <a:pt x="18289" y="6306"/>
                  <a:pt x="18554" y="6325"/>
                </a:cubicBezTo>
                <a:cubicBezTo>
                  <a:pt x="18739" y="6325"/>
                  <a:pt x="18780" y="6342"/>
                  <a:pt x="18876" y="6276"/>
                </a:cubicBezTo>
              </a:path>
              <a:path w="5979" h="3945">
                <a:moveTo>
                  <a:pt x="19149" y="7491"/>
                </a:moveTo>
                <a:cubicBezTo>
                  <a:pt x="19037" y="7514"/>
                  <a:pt x="19006" y="7515"/>
                  <a:pt x="18951" y="7565"/>
                </a:cubicBezTo>
                <a:cubicBezTo>
                  <a:pt x="18951" y="7727"/>
                  <a:pt x="19141" y="7831"/>
                  <a:pt x="19124" y="7987"/>
                </a:cubicBezTo>
                <a:cubicBezTo>
                  <a:pt x="19068" y="8045"/>
                  <a:pt x="19041" y="8064"/>
                  <a:pt x="18976" y="8062"/>
                </a:cubicBezTo>
                <a:cubicBezTo>
                  <a:pt x="18916" y="7854"/>
                  <a:pt x="19055" y="7822"/>
                  <a:pt x="19149" y="7640"/>
                </a:cubicBezTo>
                <a:cubicBezTo>
                  <a:pt x="19149" y="7623"/>
                  <a:pt x="19149" y="7607"/>
                  <a:pt x="19149" y="7590"/>
                </a:cubicBezTo>
              </a:path>
              <a:path w="5979" h="3945">
                <a:moveTo>
                  <a:pt x="19844" y="7789"/>
                </a:moveTo>
                <a:cubicBezTo>
                  <a:pt x="19967" y="7755"/>
                  <a:pt x="20020" y="7739"/>
                  <a:pt x="20141" y="7739"/>
                </a:cubicBezTo>
              </a:path>
              <a:path w="5979" h="3945">
                <a:moveTo>
                  <a:pt x="20762" y="7565"/>
                </a:moveTo>
                <a:cubicBezTo>
                  <a:pt x="20762" y="7483"/>
                  <a:pt x="20713" y="7350"/>
                  <a:pt x="20588" y="7392"/>
                </a:cubicBezTo>
                <a:cubicBezTo>
                  <a:pt x="20421" y="7447"/>
                  <a:pt x="20231" y="7786"/>
                  <a:pt x="20538" y="7764"/>
                </a:cubicBezTo>
                <a:cubicBezTo>
                  <a:pt x="20655" y="7717"/>
                  <a:pt x="20693" y="7707"/>
                  <a:pt x="20712" y="7615"/>
                </a:cubicBezTo>
                <a:cubicBezTo>
                  <a:pt x="20763" y="7632"/>
                  <a:pt x="20742" y="7762"/>
                  <a:pt x="20737" y="7813"/>
                </a:cubicBezTo>
                <a:cubicBezTo>
                  <a:pt x="20716" y="8020"/>
                  <a:pt x="20646" y="8039"/>
                  <a:pt x="20836" y="7913"/>
                </a:cubicBezTo>
              </a:path>
              <a:path w="5979" h="3945">
                <a:moveTo>
                  <a:pt x="22051" y="7466"/>
                </a:moveTo>
                <a:cubicBezTo>
                  <a:pt x="22187" y="7466"/>
                  <a:pt x="22313" y="7476"/>
                  <a:pt x="22448" y="7491"/>
                </a:cubicBezTo>
                <a:cubicBezTo>
                  <a:pt x="22426" y="7666"/>
                  <a:pt x="22370" y="7836"/>
                  <a:pt x="22349" y="8012"/>
                </a:cubicBezTo>
              </a:path>
              <a:path w="5979" h="3945">
                <a:moveTo>
                  <a:pt x="22845" y="7491"/>
                </a:moveTo>
                <a:cubicBezTo>
                  <a:pt x="23016" y="7582"/>
                  <a:pt x="23211" y="7767"/>
                  <a:pt x="23044" y="7987"/>
                </a:cubicBezTo>
                <a:cubicBezTo>
                  <a:pt x="22958" y="8100"/>
                  <a:pt x="22846" y="8011"/>
                  <a:pt x="22771" y="7962"/>
                </a:cubicBezTo>
                <a:cubicBezTo>
                  <a:pt x="22858" y="7832"/>
                  <a:pt x="22910" y="7908"/>
                  <a:pt x="23019" y="8012"/>
                </a:cubicBezTo>
                <a:cubicBezTo>
                  <a:pt x="23035" y="8029"/>
                  <a:pt x="23052" y="8045"/>
                  <a:pt x="23068" y="8062"/>
                </a:cubicBezTo>
              </a:path>
              <a:path w="5979" h="3945">
                <a:moveTo>
                  <a:pt x="21754" y="8086"/>
                </a:moveTo>
                <a:cubicBezTo>
                  <a:pt x="22107" y="8233"/>
                  <a:pt x="22433" y="8295"/>
                  <a:pt x="22820" y="8285"/>
                </a:cubicBezTo>
                <a:cubicBezTo>
                  <a:pt x="23190" y="8275"/>
                  <a:pt x="23463" y="8283"/>
                  <a:pt x="23639" y="7962"/>
                </a:cubicBezTo>
                <a:cubicBezTo>
                  <a:pt x="23470" y="7556"/>
                  <a:pt x="23250" y="7211"/>
                  <a:pt x="22820" y="7020"/>
                </a:cubicBezTo>
                <a:cubicBezTo>
                  <a:pt x="22423" y="6844"/>
                  <a:pt x="21804" y="6992"/>
                  <a:pt x="21580" y="7392"/>
                </a:cubicBezTo>
                <a:cubicBezTo>
                  <a:pt x="21283" y="7923"/>
                  <a:pt x="21979" y="8015"/>
                  <a:pt x="22275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19240" y="2054160"/>
            <a:ext cx="4741920" cy="1347840"/>
          </a:xfrm>
          <a:custGeom>
            <a:avLst/>
            <a:gdLst/>
            <a:ahLst/>
            <a:rect l="l" t="t" r="r" b="b"/>
            <a:pathLst>
              <a:path w="13172" h="3747">
                <a:moveTo>
                  <a:pt x="8111" y="8830"/>
                </a:moveTo>
                <a:cubicBezTo>
                  <a:pt x="8342" y="8853"/>
                  <a:pt x="8573" y="8884"/>
                  <a:pt x="8806" y="8905"/>
                </a:cubicBezTo>
                <a:cubicBezTo>
                  <a:pt x="9208" y="8940"/>
                  <a:pt x="9597" y="8991"/>
                  <a:pt x="9996" y="9054"/>
                </a:cubicBezTo>
                <a:cubicBezTo>
                  <a:pt x="10390" y="9117"/>
                  <a:pt x="10790" y="9160"/>
                  <a:pt x="11187" y="9203"/>
                </a:cubicBezTo>
                <a:cubicBezTo>
                  <a:pt x="11537" y="9241"/>
                  <a:pt x="11902" y="9263"/>
                  <a:pt x="12254" y="9277"/>
                </a:cubicBezTo>
                <a:cubicBezTo>
                  <a:pt x="12655" y="9293"/>
                  <a:pt x="13071" y="9287"/>
                  <a:pt x="13469" y="9277"/>
                </a:cubicBezTo>
                <a:cubicBezTo>
                  <a:pt x="13904" y="9266"/>
                  <a:pt x="14322" y="9230"/>
                  <a:pt x="14759" y="9252"/>
                </a:cubicBezTo>
                <a:cubicBezTo>
                  <a:pt x="15224" y="9275"/>
                  <a:pt x="15685" y="9357"/>
                  <a:pt x="16148" y="9401"/>
                </a:cubicBezTo>
                <a:cubicBezTo>
                  <a:pt x="16614" y="9445"/>
                  <a:pt x="17094" y="9445"/>
                  <a:pt x="17562" y="9451"/>
                </a:cubicBezTo>
                <a:cubicBezTo>
                  <a:pt x="17868" y="9455"/>
                  <a:pt x="18174" y="9443"/>
                  <a:pt x="18479" y="9426"/>
                </a:cubicBezTo>
                <a:cubicBezTo>
                  <a:pt x="18824" y="9406"/>
                  <a:pt x="19289" y="9397"/>
                  <a:pt x="19621" y="9302"/>
                </a:cubicBezTo>
                <a:cubicBezTo>
                  <a:pt x="19824" y="9244"/>
                  <a:pt x="20052" y="9145"/>
                  <a:pt x="20241" y="9054"/>
                </a:cubicBezTo>
                <a:cubicBezTo>
                  <a:pt x="20418" y="8969"/>
                  <a:pt x="20583" y="8866"/>
                  <a:pt x="20762" y="8781"/>
                </a:cubicBezTo>
                <a:cubicBezTo>
                  <a:pt x="20876" y="8727"/>
                  <a:pt x="20974" y="8672"/>
                  <a:pt x="21059" y="8607"/>
                </a:cubicBezTo>
                <a:cubicBezTo>
                  <a:pt x="21069" y="8599"/>
                  <a:pt x="21214" y="8502"/>
                  <a:pt x="21208" y="8483"/>
                </a:cubicBezTo>
                <a:cubicBezTo>
                  <a:pt x="21180" y="8400"/>
                  <a:pt x="21377" y="8454"/>
                  <a:pt x="21208" y="8434"/>
                </a:cubicBezTo>
                <a:cubicBezTo>
                  <a:pt x="21010" y="8458"/>
                  <a:pt x="20943" y="8466"/>
                  <a:pt x="20811" y="8483"/>
                </a:cubicBezTo>
                <a:cubicBezTo>
                  <a:pt x="20749" y="8515"/>
                  <a:pt x="20747" y="8523"/>
                  <a:pt x="20861" y="8508"/>
                </a:cubicBezTo>
                <a:cubicBezTo>
                  <a:pt x="20974" y="8511"/>
                  <a:pt x="21108" y="8388"/>
                  <a:pt x="21183" y="8458"/>
                </a:cubicBezTo>
                <a:cubicBezTo>
                  <a:pt x="21288" y="8556"/>
                  <a:pt x="21216" y="8699"/>
                  <a:pt x="21258" y="8806"/>
                </a:cubicBezTo>
              </a:path>
              <a:path w="13172" h="3747">
                <a:moveTo>
                  <a:pt x="9128" y="6325"/>
                </a:moveTo>
                <a:cubicBezTo>
                  <a:pt x="9319" y="6211"/>
                  <a:pt x="9448" y="6145"/>
                  <a:pt x="9674" y="6102"/>
                </a:cubicBezTo>
                <a:cubicBezTo>
                  <a:pt x="10063" y="6029"/>
                  <a:pt x="10468" y="6030"/>
                  <a:pt x="10864" y="6003"/>
                </a:cubicBezTo>
                <a:cubicBezTo>
                  <a:pt x="11649" y="5950"/>
                  <a:pt x="12436" y="5904"/>
                  <a:pt x="13221" y="5854"/>
                </a:cubicBezTo>
                <a:cubicBezTo>
                  <a:pt x="13585" y="5831"/>
                  <a:pt x="13946" y="5829"/>
                  <a:pt x="14312" y="5829"/>
                </a:cubicBezTo>
                <a:cubicBezTo>
                  <a:pt x="14577" y="5829"/>
                  <a:pt x="14870" y="5829"/>
                  <a:pt x="15131" y="5879"/>
                </a:cubicBezTo>
                <a:cubicBezTo>
                  <a:pt x="15373" y="5926"/>
                  <a:pt x="15602" y="5967"/>
                  <a:pt x="15850" y="5978"/>
                </a:cubicBezTo>
                <a:cubicBezTo>
                  <a:pt x="16122" y="5990"/>
                  <a:pt x="16397" y="5986"/>
                  <a:pt x="16669" y="6003"/>
                </a:cubicBezTo>
                <a:cubicBezTo>
                  <a:pt x="16884" y="6016"/>
                  <a:pt x="17076" y="6028"/>
                  <a:pt x="17289" y="6003"/>
                </a:cubicBezTo>
                <a:cubicBezTo>
                  <a:pt x="17370" y="5994"/>
                  <a:pt x="17442" y="5971"/>
                  <a:pt x="17512" y="5953"/>
                </a:cubicBezTo>
                <a:cubicBezTo>
                  <a:pt x="17360" y="5877"/>
                  <a:pt x="17231" y="5803"/>
                  <a:pt x="17090" y="5705"/>
                </a:cubicBezTo>
                <a:cubicBezTo>
                  <a:pt x="17198" y="5754"/>
                  <a:pt x="17349" y="5800"/>
                  <a:pt x="17462" y="5854"/>
                </a:cubicBezTo>
                <a:cubicBezTo>
                  <a:pt x="17555" y="5901"/>
                  <a:pt x="17582" y="5913"/>
                  <a:pt x="17636" y="5953"/>
                </a:cubicBezTo>
                <a:cubicBezTo>
                  <a:pt x="17499" y="6096"/>
                  <a:pt x="17376" y="6225"/>
                  <a:pt x="17289" y="6400"/>
                </a:cubicBezTo>
                <a:cubicBezTo>
                  <a:pt x="17289" y="6408"/>
                  <a:pt x="17289" y="6416"/>
                  <a:pt x="17289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54280" y="2705040"/>
            <a:ext cx="4179960" cy="331920"/>
          </a:xfrm>
          <a:custGeom>
            <a:avLst/>
            <a:gdLst/>
            <a:ahLst/>
            <a:rect l="l" t="t" r="r" b="b"/>
            <a:pathLst>
              <a:path w="11610" h="919">
                <a:moveTo>
                  <a:pt x="9872" y="8136"/>
                </a:moveTo>
                <a:cubicBezTo>
                  <a:pt x="9963" y="8227"/>
                  <a:pt x="10019" y="8365"/>
                  <a:pt x="10120" y="8434"/>
                </a:cubicBezTo>
              </a:path>
              <a:path w="11610" h="919">
                <a:moveTo>
                  <a:pt x="10939" y="8210"/>
                </a:moveTo>
                <a:cubicBezTo>
                  <a:pt x="11043" y="8159"/>
                  <a:pt x="11081" y="8141"/>
                  <a:pt x="11162" y="8136"/>
                </a:cubicBezTo>
              </a:path>
              <a:path w="11610" h="919">
                <a:moveTo>
                  <a:pt x="10939" y="8359"/>
                </a:moveTo>
                <a:cubicBezTo>
                  <a:pt x="10997" y="8334"/>
                  <a:pt x="11054" y="8310"/>
                  <a:pt x="11112" y="8285"/>
                </a:cubicBezTo>
              </a:path>
              <a:path w="11610" h="919">
                <a:moveTo>
                  <a:pt x="11112" y="8285"/>
                </a:moveTo>
                <a:lnTo>
                  <a:pt x="11112" y="8285"/>
                </a:lnTo>
              </a:path>
              <a:path w="11610" h="919">
                <a:moveTo>
                  <a:pt x="19447" y="7516"/>
                </a:moveTo>
                <a:cubicBezTo>
                  <a:pt x="19470" y="7691"/>
                  <a:pt x="19489" y="7861"/>
                  <a:pt x="19496" y="8037"/>
                </a:cubicBezTo>
              </a:path>
              <a:path w="11610" h="919">
                <a:moveTo>
                  <a:pt x="21258" y="7640"/>
                </a:moveTo>
                <a:cubicBezTo>
                  <a:pt x="21350" y="7618"/>
                  <a:pt x="21391" y="7613"/>
                  <a:pt x="21481" y="7640"/>
                </a:cubicBezTo>
              </a:path>
              <a:path w="11610" h="919">
                <a:moveTo>
                  <a:pt x="21183" y="7863"/>
                </a:moveTo>
                <a:cubicBezTo>
                  <a:pt x="21288" y="7828"/>
                  <a:pt x="21345" y="7815"/>
                  <a:pt x="21431" y="7813"/>
                </a:cubicBezTo>
              </a:path>
              <a:path w="11610" h="919">
                <a:moveTo>
                  <a:pt x="21431" y="7813"/>
                </a:moveTo>
                <a:lnTo>
                  <a:pt x="21431" y="78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84720" y="2911320"/>
            <a:ext cx="231480" cy="169920"/>
          </a:xfrm>
          <a:custGeom>
            <a:avLst/>
            <a:gdLst/>
            <a:ahLst/>
            <a:rect l="l" t="t" r="r" b="b"/>
            <a:pathLst>
              <a:path w="646" h="473">
                <a:moveTo>
                  <a:pt x="9723" y="8210"/>
                </a:moveTo>
                <a:cubicBezTo>
                  <a:pt x="9712" y="8130"/>
                  <a:pt x="9658" y="8044"/>
                  <a:pt x="9550" y="8086"/>
                </a:cubicBezTo>
                <a:cubicBezTo>
                  <a:pt x="9442" y="8168"/>
                  <a:pt x="9406" y="8203"/>
                  <a:pt x="9401" y="8310"/>
                </a:cubicBezTo>
                <a:cubicBezTo>
                  <a:pt x="9418" y="8335"/>
                  <a:pt x="9434" y="8359"/>
                  <a:pt x="9451" y="8384"/>
                </a:cubicBezTo>
                <a:cubicBezTo>
                  <a:pt x="9622" y="8332"/>
                  <a:pt x="9652" y="8282"/>
                  <a:pt x="9748" y="8186"/>
                </a:cubicBezTo>
                <a:cubicBezTo>
                  <a:pt x="9748" y="8268"/>
                  <a:pt x="9815" y="8505"/>
                  <a:pt x="9773" y="8558"/>
                </a:cubicBezTo>
                <a:cubicBezTo>
                  <a:pt x="9765" y="8541"/>
                  <a:pt x="9756" y="8525"/>
                  <a:pt x="9748" y="8508"/>
                </a:cubicBezTo>
              </a:path>
              <a:path w="646" h="473">
                <a:moveTo>
                  <a:pt x="10046" y="8210"/>
                </a:moveTo>
                <a:cubicBezTo>
                  <a:pt x="9993" y="8367"/>
                  <a:pt x="9921" y="8409"/>
                  <a:pt x="10046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51200" y="284796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0666" y="8012"/>
                </a:moveTo>
                <a:cubicBezTo>
                  <a:pt x="10658" y="7987"/>
                  <a:pt x="10649" y="7963"/>
                  <a:pt x="10641" y="7938"/>
                </a:cubicBezTo>
                <a:cubicBezTo>
                  <a:pt x="10523" y="7926"/>
                  <a:pt x="10335" y="8049"/>
                  <a:pt x="10418" y="8210"/>
                </a:cubicBezTo>
                <a:cubicBezTo>
                  <a:pt x="10495" y="8359"/>
                  <a:pt x="10645" y="8053"/>
                  <a:pt x="10666" y="8012"/>
                </a:cubicBezTo>
                <a:cubicBezTo>
                  <a:pt x="10669" y="8059"/>
                  <a:pt x="10688" y="8438"/>
                  <a:pt x="10716" y="8434"/>
                </a:cubicBezTo>
                <a:cubicBezTo>
                  <a:pt x="10724" y="8417"/>
                  <a:pt x="10732" y="8401"/>
                  <a:pt x="10740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99040" y="2795760"/>
            <a:ext cx="125280" cy="17748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4213" y="7863"/>
                </a:moveTo>
                <a:cubicBezTo>
                  <a:pt x="14263" y="7763"/>
                  <a:pt x="14276" y="7780"/>
                  <a:pt x="14387" y="7789"/>
                </a:cubicBezTo>
                <a:cubicBezTo>
                  <a:pt x="14360" y="7905"/>
                  <a:pt x="14332" y="7933"/>
                  <a:pt x="14238" y="8012"/>
                </a:cubicBezTo>
                <a:cubicBezTo>
                  <a:pt x="14324" y="7995"/>
                  <a:pt x="14527" y="7981"/>
                  <a:pt x="14511" y="8136"/>
                </a:cubicBezTo>
                <a:cubicBezTo>
                  <a:pt x="14490" y="8338"/>
                  <a:pt x="14219" y="8230"/>
                  <a:pt x="14163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62680" y="2751120"/>
            <a:ext cx="947520" cy="1820880"/>
          </a:xfrm>
          <a:custGeom>
            <a:avLst/>
            <a:gdLst/>
            <a:ahLst/>
            <a:rect l="l" t="t" r="r" b="b"/>
            <a:pathLst>
              <a:path w="2631" h="5061">
                <a:moveTo>
                  <a:pt x="14660" y="7863"/>
                </a:moveTo>
                <a:cubicBezTo>
                  <a:pt x="14715" y="7956"/>
                  <a:pt x="14769" y="8050"/>
                  <a:pt x="14833" y="8136"/>
                </a:cubicBezTo>
              </a:path>
              <a:path w="2631" h="5061">
                <a:moveTo>
                  <a:pt x="14784" y="7813"/>
                </a:moveTo>
                <a:cubicBezTo>
                  <a:pt x="14759" y="7906"/>
                  <a:pt x="14710" y="8051"/>
                  <a:pt x="14734" y="8111"/>
                </a:cubicBezTo>
              </a:path>
              <a:path w="2631" h="5061">
                <a:moveTo>
                  <a:pt x="15701" y="8062"/>
                </a:moveTo>
                <a:cubicBezTo>
                  <a:pt x="15834" y="8029"/>
                  <a:pt x="15900" y="8012"/>
                  <a:pt x="15999" y="7987"/>
                </a:cubicBezTo>
              </a:path>
              <a:path w="2631" h="5061">
                <a:moveTo>
                  <a:pt x="15999" y="7987"/>
                </a:moveTo>
                <a:lnTo>
                  <a:pt x="15999" y="7987"/>
                </a:lnTo>
              </a:path>
              <a:path w="2631" h="5061">
                <a:moveTo>
                  <a:pt x="16619" y="7665"/>
                </a:moveTo>
                <a:cubicBezTo>
                  <a:pt x="16444" y="7665"/>
                  <a:pt x="16412" y="7696"/>
                  <a:pt x="16272" y="7813"/>
                </a:cubicBezTo>
                <a:cubicBezTo>
                  <a:pt x="16428" y="7935"/>
                  <a:pt x="16471" y="7832"/>
                  <a:pt x="16619" y="7813"/>
                </a:cubicBezTo>
                <a:cubicBezTo>
                  <a:pt x="16627" y="7821"/>
                  <a:pt x="16636" y="7830"/>
                  <a:pt x="16644" y="7838"/>
                </a:cubicBezTo>
                <a:cubicBezTo>
                  <a:pt x="16654" y="7955"/>
                  <a:pt x="16679" y="8070"/>
                  <a:pt x="16694" y="8186"/>
                </a:cubicBezTo>
              </a:path>
              <a:path w="2631" h="5061">
                <a:moveTo>
                  <a:pt x="14163" y="12303"/>
                </a:moveTo>
                <a:cubicBezTo>
                  <a:pt x="14204" y="12443"/>
                  <a:pt x="14230" y="12555"/>
                  <a:pt x="14238" y="12700"/>
                </a:cubicBezTo>
              </a:path>
              <a:path w="2631" h="5061">
                <a:moveTo>
                  <a:pt x="14064" y="12551"/>
                </a:moveTo>
                <a:cubicBezTo>
                  <a:pt x="14206" y="12542"/>
                  <a:pt x="14348" y="12531"/>
                  <a:pt x="14486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43680" y="3537000"/>
            <a:ext cx="598320" cy="695160"/>
          </a:xfrm>
          <a:custGeom>
            <a:avLst/>
            <a:gdLst/>
            <a:ahLst/>
            <a:rect l="l" t="t" r="r" b="b"/>
            <a:pathLst>
              <a:path w="1662" h="1935">
                <a:moveTo>
                  <a:pt x="15528" y="9847"/>
                </a:moveTo>
                <a:cubicBezTo>
                  <a:pt x="15662" y="9824"/>
                  <a:pt x="15788" y="9823"/>
                  <a:pt x="15925" y="9823"/>
                </a:cubicBezTo>
                <a:cubicBezTo>
                  <a:pt x="15933" y="9823"/>
                  <a:pt x="15941" y="9823"/>
                  <a:pt x="15949" y="9823"/>
                </a:cubicBezTo>
                <a:cubicBezTo>
                  <a:pt x="15929" y="9946"/>
                  <a:pt x="15894" y="10070"/>
                  <a:pt x="15875" y="10195"/>
                </a:cubicBezTo>
                <a:cubicBezTo>
                  <a:pt x="15868" y="10243"/>
                  <a:pt x="15875" y="10296"/>
                  <a:pt x="15875" y="10344"/>
                </a:cubicBezTo>
              </a:path>
              <a:path w="1662" h="1935">
                <a:moveTo>
                  <a:pt x="14436" y="10567"/>
                </a:moveTo>
                <a:cubicBezTo>
                  <a:pt x="14413" y="10663"/>
                  <a:pt x="14360" y="10785"/>
                  <a:pt x="14387" y="10864"/>
                </a:cubicBezTo>
                <a:cubicBezTo>
                  <a:pt x="14652" y="10835"/>
                  <a:pt x="14912" y="10763"/>
                  <a:pt x="15180" y="10740"/>
                </a:cubicBezTo>
                <a:cubicBezTo>
                  <a:pt x="15253" y="10734"/>
                  <a:pt x="15308" y="10765"/>
                  <a:pt x="15329" y="10691"/>
                </a:cubicBezTo>
                <a:cubicBezTo>
                  <a:pt x="15353" y="10572"/>
                  <a:pt x="15359" y="10535"/>
                  <a:pt x="15404" y="10468"/>
                </a:cubicBezTo>
              </a:path>
              <a:path w="1662" h="1935">
                <a:moveTo>
                  <a:pt x="14982" y="11013"/>
                </a:moveTo>
                <a:cubicBezTo>
                  <a:pt x="14923" y="11003"/>
                  <a:pt x="14780" y="10978"/>
                  <a:pt x="14759" y="11038"/>
                </a:cubicBezTo>
                <a:cubicBezTo>
                  <a:pt x="14734" y="11111"/>
                  <a:pt x="14717" y="11186"/>
                  <a:pt x="14709" y="11261"/>
                </a:cubicBezTo>
                <a:cubicBezTo>
                  <a:pt x="14810" y="11261"/>
                  <a:pt x="14876" y="11217"/>
                  <a:pt x="14982" y="11261"/>
                </a:cubicBezTo>
                <a:cubicBezTo>
                  <a:pt x="15120" y="11318"/>
                  <a:pt x="15008" y="11522"/>
                  <a:pt x="14883" y="11509"/>
                </a:cubicBezTo>
                <a:cubicBezTo>
                  <a:pt x="14842" y="11493"/>
                  <a:pt x="14800" y="11476"/>
                  <a:pt x="14759" y="11460"/>
                </a:cubicBezTo>
              </a:path>
              <a:path w="1662" h="1935">
                <a:moveTo>
                  <a:pt x="14436" y="11708"/>
                </a:moveTo>
                <a:cubicBezTo>
                  <a:pt x="14796" y="11775"/>
                  <a:pt x="15291" y="11802"/>
                  <a:pt x="15429" y="11361"/>
                </a:cubicBezTo>
                <a:cubicBezTo>
                  <a:pt x="15530" y="11038"/>
                  <a:pt x="15083" y="10829"/>
                  <a:pt x="14833" y="10840"/>
                </a:cubicBezTo>
                <a:cubicBezTo>
                  <a:pt x="14547" y="10853"/>
                  <a:pt x="14024" y="11398"/>
                  <a:pt x="14412" y="11633"/>
                </a:cubicBezTo>
                <a:cubicBezTo>
                  <a:pt x="14519" y="11650"/>
                  <a:pt x="14627" y="11666"/>
                  <a:pt x="14734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95920" y="440208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3643" y="12229"/>
                </a:moveTo>
                <a:cubicBezTo>
                  <a:pt x="13580" y="12240"/>
                  <a:pt x="13465" y="12256"/>
                  <a:pt x="13444" y="12303"/>
                </a:cubicBezTo>
                <a:cubicBezTo>
                  <a:pt x="13399" y="12401"/>
                  <a:pt x="13382" y="12471"/>
                  <a:pt x="13370" y="12576"/>
                </a:cubicBezTo>
                <a:cubicBezTo>
                  <a:pt x="13471" y="12561"/>
                  <a:pt x="13584" y="12507"/>
                  <a:pt x="13667" y="12601"/>
                </a:cubicBezTo>
                <a:cubicBezTo>
                  <a:pt x="13807" y="12759"/>
                  <a:pt x="13506" y="12949"/>
                  <a:pt x="13370" y="12874"/>
                </a:cubicBezTo>
                <a:cubicBezTo>
                  <a:pt x="13353" y="12841"/>
                  <a:pt x="13337" y="12807"/>
                  <a:pt x="1332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03800" y="2840040"/>
            <a:ext cx="1081080" cy="874800"/>
          </a:xfrm>
          <a:custGeom>
            <a:avLst/>
            <a:gdLst/>
            <a:ahLst/>
            <a:rect l="l" t="t" r="r" b="b"/>
            <a:pathLst>
              <a:path w="3002" h="2432">
                <a:moveTo>
                  <a:pt x="11956" y="7888"/>
                </a:moveTo>
                <a:cubicBezTo>
                  <a:pt x="11999" y="8039"/>
                  <a:pt x="12017" y="8186"/>
                  <a:pt x="12080" y="8334"/>
                </a:cubicBezTo>
              </a:path>
              <a:path w="3002" h="2432">
                <a:moveTo>
                  <a:pt x="14957" y="10319"/>
                </a:moveTo>
                <a:cubicBezTo>
                  <a:pt x="14949" y="10319"/>
                  <a:pt x="14940" y="10319"/>
                  <a:pt x="1493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6240" y="2830680"/>
            <a:ext cx="115920" cy="214200"/>
          </a:xfrm>
          <a:custGeom>
            <a:avLst/>
            <a:gdLst/>
            <a:ahLst/>
            <a:rect l="l" t="t" r="r" b="b"/>
            <a:pathLst>
              <a:path w="323" h="596">
                <a:moveTo>
                  <a:pt x="11584" y="7863"/>
                </a:moveTo>
                <a:cubicBezTo>
                  <a:pt x="11494" y="7931"/>
                  <a:pt x="11468" y="7946"/>
                  <a:pt x="11435" y="8012"/>
                </a:cubicBezTo>
                <a:cubicBezTo>
                  <a:pt x="11489" y="8175"/>
                  <a:pt x="11628" y="8219"/>
                  <a:pt x="11757" y="8359"/>
                </a:cubicBezTo>
                <a:cubicBezTo>
                  <a:pt x="11595" y="8476"/>
                  <a:pt x="11438" y="8463"/>
                  <a:pt x="11584" y="8210"/>
                </a:cubicBezTo>
                <a:cubicBezTo>
                  <a:pt x="11636" y="8120"/>
                  <a:pt x="11712" y="8094"/>
                  <a:pt x="11733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880" y="4375080"/>
            <a:ext cx="561960" cy="492120"/>
          </a:xfrm>
          <a:custGeom>
            <a:avLst/>
            <a:gdLst/>
            <a:ahLst/>
            <a:rect l="l" t="t" r="r" b="b"/>
            <a:pathLst>
              <a:path w="1563" h="1366">
                <a:moveTo>
                  <a:pt x="15404" y="12154"/>
                </a:moveTo>
                <a:cubicBezTo>
                  <a:pt x="15330" y="12199"/>
                  <a:pt x="15295" y="12204"/>
                  <a:pt x="15205" y="12204"/>
                </a:cubicBezTo>
                <a:cubicBezTo>
                  <a:pt x="15164" y="12204"/>
                  <a:pt x="15097" y="12378"/>
                  <a:pt x="15081" y="12427"/>
                </a:cubicBezTo>
                <a:cubicBezTo>
                  <a:pt x="15081" y="12452"/>
                  <a:pt x="15081" y="12460"/>
                  <a:pt x="15081" y="12477"/>
                </a:cubicBezTo>
                <a:cubicBezTo>
                  <a:pt x="15190" y="12471"/>
                  <a:pt x="15295" y="12458"/>
                  <a:pt x="15404" y="12452"/>
                </a:cubicBezTo>
                <a:cubicBezTo>
                  <a:pt x="15425" y="12589"/>
                  <a:pt x="15389" y="12771"/>
                  <a:pt x="15180" y="12725"/>
                </a:cubicBezTo>
                <a:cubicBezTo>
                  <a:pt x="15080" y="12650"/>
                  <a:pt x="15048" y="12624"/>
                  <a:pt x="15106" y="12526"/>
                </a:cubicBezTo>
              </a:path>
              <a:path w="1563" h="1366">
                <a:moveTo>
                  <a:pt x="15701" y="12204"/>
                </a:moveTo>
                <a:cubicBezTo>
                  <a:pt x="15701" y="12363"/>
                  <a:pt x="15688" y="12525"/>
                  <a:pt x="15726" y="12675"/>
                </a:cubicBezTo>
              </a:path>
              <a:path w="1563" h="1366">
                <a:moveTo>
                  <a:pt x="16123" y="12154"/>
                </a:moveTo>
                <a:cubicBezTo>
                  <a:pt x="16222" y="12254"/>
                  <a:pt x="16454" y="12471"/>
                  <a:pt x="16272" y="12626"/>
                </a:cubicBezTo>
                <a:cubicBezTo>
                  <a:pt x="16161" y="12720"/>
                  <a:pt x="16074" y="12614"/>
                  <a:pt x="16024" y="12551"/>
                </a:cubicBezTo>
                <a:cubicBezTo>
                  <a:pt x="16182" y="12450"/>
                  <a:pt x="16254" y="12456"/>
                  <a:pt x="16371" y="12626"/>
                </a:cubicBezTo>
                <a:cubicBezTo>
                  <a:pt x="16379" y="12642"/>
                  <a:pt x="16388" y="12659"/>
                  <a:pt x="16396" y="12675"/>
                </a:cubicBezTo>
              </a:path>
              <a:path w="1563" h="1366">
                <a:moveTo>
                  <a:pt x="15032" y="12849"/>
                </a:moveTo>
                <a:cubicBezTo>
                  <a:pt x="15374" y="12742"/>
                  <a:pt x="15783" y="12756"/>
                  <a:pt x="16148" y="12750"/>
                </a:cubicBezTo>
                <a:cubicBezTo>
                  <a:pt x="16396" y="12750"/>
                  <a:pt x="16445" y="12750"/>
                  <a:pt x="16594" y="12750"/>
                </a:cubicBezTo>
              </a:path>
              <a:path w="1563" h="1366">
                <a:moveTo>
                  <a:pt x="15255" y="13022"/>
                </a:moveTo>
                <a:cubicBezTo>
                  <a:pt x="15255" y="12929"/>
                  <a:pt x="15227" y="13155"/>
                  <a:pt x="15205" y="13246"/>
                </a:cubicBezTo>
                <a:cubicBezTo>
                  <a:pt x="15163" y="13421"/>
                  <a:pt x="15186" y="13558"/>
                  <a:pt x="15404" y="13519"/>
                </a:cubicBezTo>
                <a:cubicBezTo>
                  <a:pt x="15568" y="13490"/>
                  <a:pt x="15645" y="13368"/>
                  <a:pt x="15577" y="13246"/>
                </a:cubicBezTo>
                <a:cubicBezTo>
                  <a:pt x="15540" y="13255"/>
                  <a:pt x="15261" y="13400"/>
                  <a:pt x="15404" y="13469"/>
                </a:cubicBezTo>
                <a:cubicBezTo>
                  <a:pt x="15437" y="13469"/>
                  <a:pt x="15470" y="13469"/>
                  <a:pt x="15503" y="13469"/>
                </a:cubicBezTo>
              </a:path>
              <a:path w="1563" h="1366">
                <a:moveTo>
                  <a:pt x="15825" y="13022"/>
                </a:moveTo>
                <a:cubicBezTo>
                  <a:pt x="15816" y="13086"/>
                  <a:pt x="15799" y="13137"/>
                  <a:pt x="15776" y="13196"/>
                </a:cubicBezTo>
                <a:cubicBezTo>
                  <a:pt x="15925" y="13196"/>
                  <a:pt x="16034" y="13192"/>
                  <a:pt x="16173" y="13146"/>
                </a:cubicBezTo>
              </a:path>
              <a:path w="1563" h="1366">
                <a:moveTo>
                  <a:pt x="16049" y="12849"/>
                </a:moveTo>
                <a:cubicBezTo>
                  <a:pt x="16033" y="13039"/>
                  <a:pt x="16049" y="13225"/>
                  <a:pt x="16049" y="13419"/>
                </a:cubicBezTo>
                <a:cubicBezTo>
                  <a:pt x="16049" y="13427"/>
                  <a:pt x="16049" y="13436"/>
                  <a:pt x="1604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3527280"/>
            <a:ext cx="63504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3543" y="10120"/>
                </a:moveTo>
                <a:cubicBezTo>
                  <a:pt x="13577" y="10087"/>
                  <a:pt x="13815" y="9872"/>
                  <a:pt x="13866" y="9971"/>
                </a:cubicBezTo>
                <a:cubicBezTo>
                  <a:pt x="13841" y="10095"/>
                  <a:pt x="13834" y="10136"/>
                  <a:pt x="13742" y="10170"/>
                </a:cubicBezTo>
                <a:cubicBezTo>
                  <a:pt x="13725" y="10170"/>
                  <a:pt x="13709" y="10170"/>
                  <a:pt x="13692" y="10170"/>
                </a:cubicBezTo>
                <a:cubicBezTo>
                  <a:pt x="13772" y="10170"/>
                  <a:pt x="13953" y="10199"/>
                  <a:pt x="13866" y="10344"/>
                </a:cubicBezTo>
                <a:cubicBezTo>
                  <a:pt x="13767" y="10509"/>
                  <a:pt x="13569" y="10450"/>
                  <a:pt x="13494" y="10344"/>
                </a:cubicBezTo>
              </a:path>
              <a:path w="1762" h="646">
                <a:moveTo>
                  <a:pt x="14312" y="9947"/>
                </a:moveTo>
                <a:cubicBezTo>
                  <a:pt x="14209" y="9947"/>
                  <a:pt x="14135" y="9911"/>
                  <a:pt x="14089" y="10021"/>
                </a:cubicBezTo>
                <a:cubicBezTo>
                  <a:pt x="14081" y="10054"/>
                  <a:pt x="14072" y="10087"/>
                  <a:pt x="14064" y="10120"/>
                </a:cubicBezTo>
                <a:cubicBezTo>
                  <a:pt x="14136" y="10134"/>
                  <a:pt x="14277" y="10126"/>
                  <a:pt x="14337" y="10170"/>
                </a:cubicBezTo>
                <a:cubicBezTo>
                  <a:pt x="14402" y="10256"/>
                  <a:pt x="14427" y="10273"/>
                  <a:pt x="14412" y="10344"/>
                </a:cubicBezTo>
                <a:cubicBezTo>
                  <a:pt x="14266" y="10416"/>
                  <a:pt x="14186" y="10466"/>
                  <a:pt x="14139" y="10294"/>
                </a:cubicBezTo>
              </a:path>
              <a:path w="1762" h="646">
                <a:moveTo>
                  <a:pt x="14759" y="10145"/>
                </a:moveTo>
                <a:cubicBezTo>
                  <a:pt x="14928" y="10110"/>
                  <a:pt x="15083" y="10096"/>
                  <a:pt x="15255" y="10096"/>
                </a:cubicBezTo>
              </a:path>
              <a:path w="1762" h="646">
                <a:moveTo>
                  <a:pt x="14908" y="9823"/>
                </a:moveTo>
                <a:cubicBezTo>
                  <a:pt x="14908" y="9798"/>
                  <a:pt x="14908" y="9790"/>
                  <a:pt x="14908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4040" y="4224240"/>
            <a:ext cx="946080" cy="384120"/>
          </a:xfrm>
          <a:custGeom>
            <a:avLst/>
            <a:gdLst/>
            <a:ahLst/>
            <a:rect l="l" t="t" r="r" b="b"/>
            <a:pathLst>
              <a:path w="2630" h="1067">
                <a:moveTo>
                  <a:pt x="8037" y="11832"/>
                </a:moveTo>
                <a:cubicBezTo>
                  <a:pt x="8102" y="11915"/>
                  <a:pt x="8167" y="12000"/>
                  <a:pt x="8235" y="12080"/>
                </a:cubicBezTo>
              </a:path>
              <a:path w="2630" h="1067">
                <a:moveTo>
                  <a:pt x="8161" y="11931"/>
                </a:moveTo>
                <a:cubicBezTo>
                  <a:pt x="8143" y="12022"/>
                  <a:pt x="8134" y="12029"/>
                  <a:pt x="8136" y="12080"/>
                </a:cubicBezTo>
              </a:path>
              <a:path w="2630" h="1067">
                <a:moveTo>
                  <a:pt x="9079" y="11733"/>
                </a:moveTo>
                <a:cubicBezTo>
                  <a:pt x="9048" y="11817"/>
                  <a:pt x="9004" y="11921"/>
                  <a:pt x="8979" y="12005"/>
                </a:cubicBezTo>
              </a:path>
              <a:path w="2630" h="1067">
                <a:moveTo>
                  <a:pt x="10592" y="12477"/>
                </a:moveTo>
                <a:cubicBezTo>
                  <a:pt x="10620" y="12583"/>
                  <a:pt x="10648" y="12692"/>
                  <a:pt x="10666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20960" y="4170240"/>
            <a:ext cx="1189080" cy="490680"/>
          </a:xfrm>
          <a:custGeom>
            <a:avLst/>
            <a:gdLst/>
            <a:ahLst/>
            <a:rect l="l" t="t" r="r" b="b"/>
            <a:pathLst>
              <a:path w="3300" h="1365">
                <a:moveTo>
                  <a:pt x="9426" y="11584"/>
                </a:moveTo>
                <a:cubicBezTo>
                  <a:pt x="9345" y="11644"/>
                  <a:pt x="9322" y="11649"/>
                  <a:pt x="9302" y="11708"/>
                </a:cubicBezTo>
                <a:cubicBezTo>
                  <a:pt x="9384" y="11783"/>
                  <a:pt x="9656" y="11848"/>
                  <a:pt x="9599" y="12005"/>
                </a:cubicBezTo>
                <a:cubicBezTo>
                  <a:pt x="9574" y="12030"/>
                  <a:pt x="9550" y="12055"/>
                  <a:pt x="9525" y="12080"/>
                </a:cubicBezTo>
                <a:cubicBezTo>
                  <a:pt x="9419" y="11940"/>
                  <a:pt x="9641" y="11778"/>
                  <a:pt x="9575" y="11683"/>
                </a:cubicBezTo>
                <a:cubicBezTo>
                  <a:pt x="9550" y="11691"/>
                  <a:pt x="9525" y="11700"/>
                  <a:pt x="9500" y="11708"/>
                </a:cubicBezTo>
              </a:path>
              <a:path w="3300" h="1365">
                <a:moveTo>
                  <a:pt x="8012" y="12278"/>
                </a:moveTo>
                <a:cubicBezTo>
                  <a:pt x="7973" y="12346"/>
                  <a:pt x="7944" y="12406"/>
                  <a:pt x="7913" y="12477"/>
                </a:cubicBezTo>
                <a:cubicBezTo>
                  <a:pt x="8086" y="12433"/>
                  <a:pt x="8250" y="12394"/>
                  <a:pt x="8434" y="12378"/>
                </a:cubicBezTo>
                <a:cubicBezTo>
                  <a:pt x="8573" y="12366"/>
                  <a:pt x="8533" y="12368"/>
                  <a:pt x="8533" y="12204"/>
                </a:cubicBezTo>
                <a:cubicBezTo>
                  <a:pt x="8533" y="12196"/>
                  <a:pt x="8533" y="12187"/>
                  <a:pt x="8533" y="12179"/>
                </a:cubicBezTo>
              </a:path>
              <a:path w="3300" h="1365">
                <a:moveTo>
                  <a:pt x="7888" y="12626"/>
                </a:moveTo>
                <a:cubicBezTo>
                  <a:pt x="7873" y="12717"/>
                  <a:pt x="7847" y="12805"/>
                  <a:pt x="7838" y="12898"/>
                </a:cubicBezTo>
                <a:cubicBezTo>
                  <a:pt x="7922" y="12888"/>
                  <a:pt x="8183" y="12874"/>
                  <a:pt x="8161" y="12725"/>
                </a:cubicBezTo>
                <a:cubicBezTo>
                  <a:pt x="8154" y="12678"/>
                  <a:pt x="8070" y="12826"/>
                  <a:pt x="8062" y="12849"/>
                </a:cubicBezTo>
              </a:path>
              <a:path w="3300" h="1365">
                <a:moveTo>
                  <a:pt x="8260" y="12576"/>
                </a:moveTo>
                <a:cubicBezTo>
                  <a:pt x="8266" y="12606"/>
                  <a:pt x="8277" y="12716"/>
                  <a:pt x="8310" y="12725"/>
                </a:cubicBezTo>
                <a:cubicBezTo>
                  <a:pt x="8427" y="12758"/>
                  <a:pt x="8461" y="12715"/>
                  <a:pt x="8533" y="12650"/>
                </a:cubicBezTo>
              </a:path>
              <a:path w="3300" h="1365">
                <a:moveTo>
                  <a:pt x="8508" y="12477"/>
                </a:moveTo>
                <a:cubicBezTo>
                  <a:pt x="8508" y="12591"/>
                  <a:pt x="8513" y="12688"/>
                  <a:pt x="8533" y="12799"/>
                </a:cubicBezTo>
              </a:path>
              <a:path w="3300" h="1365">
                <a:moveTo>
                  <a:pt x="8806" y="12774"/>
                </a:moveTo>
                <a:cubicBezTo>
                  <a:pt x="9031" y="12763"/>
                  <a:pt x="9251" y="12723"/>
                  <a:pt x="9475" y="12700"/>
                </a:cubicBezTo>
                <a:cubicBezTo>
                  <a:pt x="9492" y="12700"/>
                  <a:pt x="9508" y="12700"/>
                  <a:pt x="9525" y="12700"/>
                </a:cubicBezTo>
                <a:cubicBezTo>
                  <a:pt x="9512" y="12588"/>
                  <a:pt x="9461" y="12489"/>
                  <a:pt x="9451" y="12378"/>
                </a:cubicBezTo>
                <a:cubicBezTo>
                  <a:pt x="9451" y="12370"/>
                  <a:pt x="9451" y="12361"/>
                  <a:pt x="9451" y="12353"/>
                </a:cubicBezTo>
              </a:path>
              <a:path w="3300" h="1365">
                <a:moveTo>
                  <a:pt x="10244" y="12502"/>
                </a:moveTo>
                <a:cubicBezTo>
                  <a:pt x="10237" y="12503"/>
                  <a:pt x="10123" y="12520"/>
                  <a:pt x="10120" y="12526"/>
                </a:cubicBezTo>
                <a:cubicBezTo>
                  <a:pt x="10099" y="12592"/>
                  <a:pt x="10091" y="12607"/>
                  <a:pt x="10096" y="12650"/>
                </a:cubicBezTo>
                <a:cubicBezTo>
                  <a:pt x="10174" y="12650"/>
                  <a:pt x="10213" y="12620"/>
                  <a:pt x="10294" y="12650"/>
                </a:cubicBezTo>
                <a:cubicBezTo>
                  <a:pt x="10481" y="12720"/>
                  <a:pt x="10422" y="12855"/>
                  <a:pt x="10269" y="12923"/>
                </a:cubicBezTo>
                <a:cubicBezTo>
                  <a:pt x="10154" y="12974"/>
                  <a:pt x="10146" y="12969"/>
                  <a:pt x="10170" y="12898"/>
                </a:cubicBezTo>
              </a:path>
              <a:path w="3300" h="1365">
                <a:moveTo>
                  <a:pt x="10889" y="12353"/>
                </a:moveTo>
                <a:cubicBezTo>
                  <a:pt x="11052" y="12394"/>
                  <a:pt x="11214" y="12529"/>
                  <a:pt x="11063" y="12725"/>
                </a:cubicBezTo>
                <a:cubicBezTo>
                  <a:pt x="11012" y="12792"/>
                  <a:pt x="10931" y="12728"/>
                  <a:pt x="10889" y="12700"/>
                </a:cubicBezTo>
                <a:cubicBezTo>
                  <a:pt x="10980" y="12687"/>
                  <a:pt x="11091" y="12656"/>
                  <a:pt x="1113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75080" y="3867120"/>
            <a:ext cx="590760" cy="223920"/>
          </a:xfrm>
          <a:custGeom>
            <a:avLst/>
            <a:gdLst/>
            <a:ahLst/>
            <a:rect l="l" t="t" r="r" b="b"/>
            <a:pathLst>
              <a:path w="1638" h="622">
                <a:moveTo>
                  <a:pt x="12154" y="10740"/>
                </a:moveTo>
                <a:cubicBezTo>
                  <a:pt x="12302" y="10814"/>
                  <a:pt x="12453" y="10906"/>
                  <a:pt x="12601" y="10988"/>
                </a:cubicBezTo>
                <a:cubicBezTo>
                  <a:pt x="12811" y="11105"/>
                  <a:pt x="13014" y="11089"/>
                  <a:pt x="13246" y="11063"/>
                </a:cubicBezTo>
                <a:cubicBezTo>
                  <a:pt x="13364" y="11050"/>
                  <a:pt x="13482" y="11037"/>
                  <a:pt x="13593" y="11013"/>
                </a:cubicBezTo>
              </a:path>
              <a:path w="1638" h="622">
                <a:moveTo>
                  <a:pt x="13320" y="10840"/>
                </a:moveTo>
                <a:cubicBezTo>
                  <a:pt x="13464" y="10901"/>
                  <a:pt x="13616" y="11009"/>
                  <a:pt x="13742" y="11112"/>
                </a:cubicBezTo>
                <a:cubicBezTo>
                  <a:pt x="13758" y="11129"/>
                  <a:pt x="13775" y="11145"/>
                  <a:pt x="13791" y="11162"/>
                </a:cubicBezTo>
                <a:cubicBezTo>
                  <a:pt x="13645" y="11204"/>
                  <a:pt x="13455" y="11263"/>
                  <a:pt x="13320" y="11336"/>
                </a:cubicBezTo>
                <a:cubicBezTo>
                  <a:pt x="13320" y="11344"/>
                  <a:pt x="13320" y="11353"/>
                  <a:pt x="13320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05040" y="421488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7813" y="11733"/>
                </a:moveTo>
                <a:cubicBezTo>
                  <a:pt x="7705" y="11715"/>
                  <a:pt x="7629" y="11719"/>
                  <a:pt x="7541" y="11807"/>
                </a:cubicBezTo>
                <a:cubicBezTo>
                  <a:pt x="7533" y="11824"/>
                  <a:pt x="7524" y="11840"/>
                  <a:pt x="7516" y="11857"/>
                </a:cubicBezTo>
                <a:cubicBezTo>
                  <a:pt x="7580" y="11905"/>
                  <a:pt x="7880" y="12032"/>
                  <a:pt x="7838" y="12154"/>
                </a:cubicBezTo>
                <a:cubicBezTo>
                  <a:pt x="7813" y="12171"/>
                  <a:pt x="7789" y="12187"/>
                  <a:pt x="7764" y="12204"/>
                </a:cubicBezTo>
                <a:cubicBezTo>
                  <a:pt x="7651" y="12091"/>
                  <a:pt x="7700" y="11999"/>
                  <a:pt x="7764" y="11857"/>
                </a:cubicBezTo>
                <a:cubicBezTo>
                  <a:pt x="7772" y="11840"/>
                  <a:pt x="7781" y="11824"/>
                  <a:pt x="7789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4880" y="4224240"/>
            <a:ext cx="241200" cy="13356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8582" y="11733"/>
                </a:moveTo>
                <a:cubicBezTo>
                  <a:pt x="8505" y="11771"/>
                  <a:pt x="8490" y="11770"/>
                  <a:pt x="8458" y="11807"/>
                </a:cubicBezTo>
                <a:cubicBezTo>
                  <a:pt x="8520" y="11878"/>
                  <a:pt x="8708" y="11948"/>
                  <a:pt x="8682" y="12080"/>
                </a:cubicBezTo>
                <a:cubicBezTo>
                  <a:pt x="8665" y="12088"/>
                  <a:pt x="8649" y="12097"/>
                  <a:pt x="8632" y="12105"/>
                </a:cubicBezTo>
                <a:cubicBezTo>
                  <a:pt x="8524" y="12033"/>
                  <a:pt x="8612" y="11928"/>
                  <a:pt x="8657" y="11807"/>
                </a:cubicBezTo>
                <a:cubicBezTo>
                  <a:pt x="8657" y="11799"/>
                  <a:pt x="8657" y="11790"/>
                  <a:pt x="8657" y="11782"/>
                </a:cubicBezTo>
              </a:path>
              <a:path w="671" h="373">
                <a:moveTo>
                  <a:pt x="8905" y="11733"/>
                </a:moveTo>
                <a:cubicBezTo>
                  <a:pt x="8979" y="11815"/>
                  <a:pt x="9045" y="11931"/>
                  <a:pt x="912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26040" y="5249880"/>
            <a:ext cx="803160" cy="179280"/>
          </a:xfrm>
          <a:custGeom>
            <a:avLst/>
            <a:gdLst/>
            <a:ahLst/>
            <a:rect l="l" t="t" r="r" b="b"/>
            <a:pathLst>
              <a:path w="2233" h="497">
                <a:moveTo>
                  <a:pt x="14536" y="14858"/>
                </a:moveTo>
                <a:cubicBezTo>
                  <a:pt x="14733" y="14833"/>
                  <a:pt x="14799" y="14825"/>
                  <a:pt x="14932" y="14833"/>
                </a:cubicBezTo>
              </a:path>
              <a:path w="2233" h="497">
                <a:moveTo>
                  <a:pt x="14238" y="14932"/>
                </a:moveTo>
                <a:cubicBezTo>
                  <a:pt x="14354" y="14924"/>
                  <a:pt x="14468" y="14913"/>
                  <a:pt x="14585" y="14908"/>
                </a:cubicBezTo>
              </a:path>
              <a:path w="2233" h="497">
                <a:moveTo>
                  <a:pt x="15825" y="14932"/>
                </a:moveTo>
                <a:cubicBezTo>
                  <a:pt x="16002" y="14911"/>
                  <a:pt x="16048" y="14911"/>
                  <a:pt x="16148" y="14858"/>
                </a:cubicBezTo>
              </a:path>
              <a:path w="2233" h="497">
                <a:moveTo>
                  <a:pt x="16371" y="14585"/>
                </a:moveTo>
                <a:cubicBezTo>
                  <a:pt x="16404" y="14751"/>
                  <a:pt x="16432" y="14918"/>
                  <a:pt x="16470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02000" y="5062680"/>
            <a:ext cx="2948040" cy="661680"/>
          </a:xfrm>
          <a:custGeom>
            <a:avLst/>
            <a:gdLst/>
            <a:ahLst/>
            <a:rect l="l" t="t" r="r" b="b"/>
            <a:pathLst>
              <a:path w="8186" h="1837">
                <a:moveTo>
                  <a:pt x="13990" y="14585"/>
                </a:moveTo>
                <a:cubicBezTo>
                  <a:pt x="13846" y="14684"/>
                  <a:pt x="13808" y="14713"/>
                  <a:pt x="13643" y="14684"/>
                </a:cubicBezTo>
                <a:cubicBezTo>
                  <a:pt x="13584" y="14674"/>
                  <a:pt x="13571" y="14840"/>
                  <a:pt x="13568" y="14883"/>
                </a:cubicBezTo>
                <a:cubicBezTo>
                  <a:pt x="13568" y="14891"/>
                  <a:pt x="13568" y="14900"/>
                  <a:pt x="13568" y="14908"/>
                </a:cubicBezTo>
                <a:cubicBezTo>
                  <a:pt x="13703" y="14973"/>
                  <a:pt x="13861" y="14871"/>
                  <a:pt x="14015" y="14932"/>
                </a:cubicBezTo>
                <a:cubicBezTo>
                  <a:pt x="14292" y="15042"/>
                  <a:pt x="13892" y="15316"/>
                  <a:pt x="13767" y="15329"/>
                </a:cubicBezTo>
                <a:cubicBezTo>
                  <a:pt x="13619" y="15304"/>
                  <a:pt x="13569" y="15297"/>
                  <a:pt x="13618" y="15156"/>
                </a:cubicBezTo>
              </a:path>
              <a:path w="8186" h="1837">
                <a:moveTo>
                  <a:pt x="14560" y="14660"/>
                </a:moveTo>
                <a:cubicBezTo>
                  <a:pt x="14546" y="14803"/>
                  <a:pt x="14536" y="14937"/>
                  <a:pt x="14536" y="15081"/>
                </a:cubicBezTo>
              </a:path>
              <a:path w="8186" h="1837">
                <a:moveTo>
                  <a:pt x="15205" y="14585"/>
                </a:moveTo>
                <a:cubicBezTo>
                  <a:pt x="14914" y="14790"/>
                  <a:pt x="15055" y="14797"/>
                  <a:pt x="15230" y="15056"/>
                </a:cubicBezTo>
                <a:cubicBezTo>
                  <a:pt x="15277" y="15149"/>
                  <a:pt x="15300" y="15179"/>
                  <a:pt x="15205" y="15205"/>
                </a:cubicBezTo>
                <a:cubicBezTo>
                  <a:pt x="15180" y="15197"/>
                  <a:pt x="15156" y="15188"/>
                  <a:pt x="15131" y="15180"/>
                </a:cubicBezTo>
                <a:cubicBezTo>
                  <a:pt x="15111" y="14956"/>
                  <a:pt x="15265" y="14853"/>
                  <a:pt x="15280" y="14635"/>
                </a:cubicBezTo>
                <a:cubicBezTo>
                  <a:pt x="15237" y="14635"/>
                  <a:pt x="15212" y="14641"/>
                  <a:pt x="15180" y="14660"/>
                </a:cubicBezTo>
              </a:path>
              <a:path w="8186" h="1837">
                <a:moveTo>
                  <a:pt x="15677" y="14808"/>
                </a:moveTo>
                <a:cubicBezTo>
                  <a:pt x="15788" y="14792"/>
                  <a:pt x="15886" y="14784"/>
                  <a:pt x="15999" y="14784"/>
                </a:cubicBezTo>
              </a:path>
              <a:path w="8186" h="1837">
                <a:moveTo>
                  <a:pt x="16669" y="14461"/>
                </a:moveTo>
                <a:cubicBezTo>
                  <a:pt x="16786" y="14494"/>
                  <a:pt x="17149" y="14621"/>
                  <a:pt x="16818" y="14734"/>
                </a:cubicBezTo>
                <a:cubicBezTo>
                  <a:pt x="16785" y="14734"/>
                  <a:pt x="16751" y="14734"/>
                  <a:pt x="16718" y="14734"/>
                </a:cubicBezTo>
                <a:cubicBezTo>
                  <a:pt x="16894" y="14734"/>
                  <a:pt x="17101" y="14739"/>
                  <a:pt x="17090" y="14982"/>
                </a:cubicBezTo>
                <a:cubicBezTo>
                  <a:pt x="17079" y="15226"/>
                  <a:pt x="16721" y="15072"/>
                  <a:pt x="16644" y="15056"/>
                </a:cubicBezTo>
              </a:path>
              <a:path w="8186" h="1837">
                <a:moveTo>
                  <a:pt x="16098" y="15304"/>
                </a:moveTo>
                <a:cubicBezTo>
                  <a:pt x="16452" y="15412"/>
                  <a:pt x="16852" y="15481"/>
                  <a:pt x="17214" y="15329"/>
                </a:cubicBezTo>
                <a:cubicBezTo>
                  <a:pt x="17653" y="15145"/>
                  <a:pt x="17812" y="14664"/>
                  <a:pt x="17438" y="14312"/>
                </a:cubicBezTo>
                <a:cubicBezTo>
                  <a:pt x="16973" y="13875"/>
                  <a:pt x="16099" y="13996"/>
                  <a:pt x="15900" y="14660"/>
                </a:cubicBezTo>
                <a:cubicBezTo>
                  <a:pt x="15748" y="15168"/>
                  <a:pt x="16274" y="15235"/>
                  <a:pt x="16570" y="15329"/>
                </a:cubicBezTo>
              </a:path>
              <a:path w="8186" h="1837">
                <a:moveTo>
                  <a:pt x="16173" y="15156"/>
                </a:moveTo>
                <a:cubicBezTo>
                  <a:pt x="16083" y="15301"/>
                  <a:pt x="15999" y="15480"/>
                  <a:pt x="15850" y="15577"/>
                </a:cubicBezTo>
                <a:cubicBezTo>
                  <a:pt x="15515" y="15795"/>
                  <a:pt x="15065" y="15791"/>
                  <a:pt x="14684" y="15801"/>
                </a:cubicBezTo>
                <a:cubicBezTo>
                  <a:pt x="14262" y="15812"/>
                  <a:pt x="13841" y="15825"/>
                  <a:pt x="13419" y="15825"/>
                </a:cubicBezTo>
                <a:cubicBezTo>
                  <a:pt x="13142" y="15825"/>
                  <a:pt x="12876" y="15862"/>
                  <a:pt x="12601" y="15875"/>
                </a:cubicBezTo>
                <a:cubicBezTo>
                  <a:pt x="12250" y="15891"/>
                  <a:pt x="11910" y="15887"/>
                  <a:pt x="11559" y="15875"/>
                </a:cubicBezTo>
                <a:cubicBezTo>
                  <a:pt x="11301" y="15866"/>
                  <a:pt x="11050" y="15819"/>
                  <a:pt x="10840" y="15652"/>
                </a:cubicBezTo>
                <a:cubicBezTo>
                  <a:pt x="10646" y="15498"/>
                  <a:pt x="10520" y="15271"/>
                  <a:pt x="10368" y="15081"/>
                </a:cubicBezTo>
                <a:cubicBezTo>
                  <a:pt x="10209" y="14881"/>
                  <a:pt x="10033" y="14703"/>
                  <a:pt x="9823" y="14560"/>
                </a:cubicBezTo>
                <a:cubicBezTo>
                  <a:pt x="9706" y="14480"/>
                  <a:pt x="9606" y="14403"/>
                  <a:pt x="9500" y="14312"/>
                </a:cubicBezTo>
                <a:cubicBezTo>
                  <a:pt x="9489" y="14303"/>
                  <a:pt x="9459" y="14270"/>
                  <a:pt x="9451" y="14263"/>
                </a:cubicBezTo>
                <a:cubicBezTo>
                  <a:pt x="9516" y="14443"/>
                  <a:pt x="9555" y="14615"/>
                  <a:pt x="9674" y="14784"/>
                </a:cubicBezTo>
                <a:cubicBezTo>
                  <a:pt x="9698" y="14831"/>
                  <a:pt x="9706" y="14850"/>
                  <a:pt x="9699" y="14784"/>
                </a:cubicBezTo>
                <a:cubicBezTo>
                  <a:pt x="9631" y="14614"/>
                  <a:pt x="9565" y="14428"/>
                  <a:pt x="9500" y="14263"/>
                </a:cubicBezTo>
                <a:cubicBezTo>
                  <a:pt x="9692" y="14278"/>
                  <a:pt x="9878" y="14284"/>
                  <a:pt x="10071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9800" y="2768760"/>
            <a:ext cx="125280" cy="160200"/>
          </a:xfrm>
          <a:custGeom>
            <a:avLst/>
            <a:gdLst/>
            <a:ahLst/>
            <a:rect l="l" t="t" r="r" b="b"/>
            <a:pathLst>
              <a:path w="349" h="448">
                <a:moveTo>
                  <a:pt x="15056" y="7739"/>
                </a:moveTo>
                <a:cubicBezTo>
                  <a:pt x="15126" y="7714"/>
                  <a:pt x="15405" y="7607"/>
                  <a:pt x="15280" y="7813"/>
                </a:cubicBezTo>
                <a:cubicBezTo>
                  <a:pt x="15255" y="7838"/>
                  <a:pt x="15230" y="7863"/>
                  <a:pt x="15205" y="7888"/>
                </a:cubicBezTo>
                <a:cubicBezTo>
                  <a:pt x="15197" y="7896"/>
                  <a:pt x="15188" y="7905"/>
                  <a:pt x="15180" y="7913"/>
                </a:cubicBezTo>
                <a:cubicBezTo>
                  <a:pt x="15242" y="7913"/>
                  <a:pt x="15364" y="7906"/>
                  <a:pt x="15404" y="7962"/>
                </a:cubicBezTo>
                <a:cubicBezTo>
                  <a:pt x="15466" y="8048"/>
                  <a:pt x="15208" y="8188"/>
                  <a:pt x="15131" y="8111"/>
                </a:cubicBezTo>
                <a:cubicBezTo>
                  <a:pt x="15123" y="8078"/>
                  <a:pt x="15114" y="8045"/>
                  <a:pt x="1510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61000" y="2813040"/>
            <a:ext cx="108000" cy="936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5726" y="7838"/>
                </a:moveTo>
                <a:cubicBezTo>
                  <a:pt x="15839" y="7827"/>
                  <a:pt x="15911" y="7828"/>
                  <a:pt x="1602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32080" y="3384720"/>
            <a:ext cx="216000" cy="196560"/>
          </a:xfrm>
          <a:custGeom>
            <a:avLst/>
            <a:gdLst/>
            <a:ahLst/>
            <a:rect l="l" t="t" r="r" b="b"/>
            <a:pathLst>
              <a:path w="597" h="547">
                <a:moveTo>
                  <a:pt x="9004" y="9426"/>
                </a:moveTo>
                <a:cubicBezTo>
                  <a:pt x="9004" y="9571"/>
                  <a:pt x="8998" y="9703"/>
                  <a:pt x="9004" y="9847"/>
                </a:cubicBezTo>
                <a:cubicBezTo>
                  <a:pt x="9004" y="9880"/>
                  <a:pt x="9004" y="9914"/>
                  <a:pt x="9004" y="9947"/>
                </a:cubicBezTo>
              </a:path>
              <a:path w="597" h="547">
                <a:moveTo>
                  <a:pt x="9252" y="9401"/>
                </a:moveTo>
                <a:cubicBezTo>
                  <a:pt x="9294" y="9484"/>
                  <a:pt x="9290" y="9624"/>
                  <a:pt x="9277" y="9723"/>
                </a:cubicBezTo>
                <a:cubicBezTo>
                  <a:pt x="9258" y="9866"/>
                  <a:pt x="9255" y="9786"/>
                  <a:pt x="9277" y="9872"/>
                </a:cubicBezTo>
                <a:cubicBezTo>
                  <a:pt x="9359" y="9897"/>
                  <a:pt x="9458" y="9926"/>
                  <a:pt x="9525" y="9847"/>
                </a:cubicBezTo>
                <a:cubicBezTo>
                  <a:pt x="9568" y="9784"/>
                  <a:pt x="9584" y="9772"/>
                  <a:pt x="9575" y="9723"/>
                </a:cubicBezTo>
                <a:cubicBezTo>
                  <a:pt x="9540" y="9703"/>
                  <a:pt x="9457" y="9668"/>
                  <a:pt x="9426" y="9723"/>
                </a:cubicBezTo>
                <a:cubicBezTo>
                  <a:pt x="9391" y="9786"/>
                  <a:pt x="9401" y="9854"/>
                  <a:pt x="9401" y="9922"/>
                </a:cubicBezTo>
                <a:cubicBezTo>
                  <a:pt x="9401" y="9930"/>
                  <a:pt x="9401" y="9939"/>
                  <a:pt x="940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00880" y="3751200"/>
            <a:ext cx="955440" cy="633600"/>
          </a:xfrm>
          <a:custGeom>
            <a:avLst/>
            <a:gdLst/>
            <a:ahLst/>
            <a:rect l="l" t="t" r="r" b="b"/>
            <a:pathLst>
              <a:path w="2655" h="1762">
                <a:moveTo>
                  <a:pt x="19496" y="11460"/>
                </a:moveTo>
                <a:cubicBezTo>
                  <a:pt x="19367" y="11460"/>
                  <a:pt x="19269" y="11437"/>
                  <a:pt x="19199" y="11559"/>
                </a:cubicBezTo>
                <a:cubicBezTo>
                  <a:pt x="19148" y="11647"/>
                  <a:pt x="19149" y="11674"/>
                  <a:pt x="19149" y="11757"/>
                </a:cubicBezTo>
                <a:cubicBezTo>
                  <a:pt x="19324" y="11711"/>
                  <a:pt x="19410" y="11703"/>
                  <a:pt x="19571" y="11782"/>
                </a:cubicBezTo>
                <a:cubicBezTo>
                  <a:pt x="19543" y="11886"/>
                  <a:pt x="19357" y="12138"/>
                  <a:pt x="19199" y="11981"/>
                </a:cubicBezTo>
                <a:cubicBezTo>
                  <a:pt x="19191" y="11940"/>
                  <a:pt x="19182" y="11898"/>
                  <a:pt x="19174" y="11857"/>
                </a:cubicBezTo>
              </a:path>
              <a:path w="2655" h="1762">
                <a:moveTo>
                  <a:pt x="20290" y="11435"/>
                </a:moveTo>
                <a:cubicBezTo>
                  <a:pt x="20366" y="11533"/>
                  <a:pt x="20621" y="11835"/>
                  <a:pt x="20414" y="11956"/>
                </a:cubicBezTo>
                <a:cubicBezTo>
                  <a:pt x="20306" y="11978"/>
                  <a:pt x="20269" y="12001"/>
                  <a:pt x="20265" y="11906"/>
                </a:cubicBezTo>
                <a:cubicBezTo>
                  <a:pt x="20387" y="11785"/>
                  <a:pt x="20443" y="11783"/>
                  <a:pt x="20538" y="11931"/>
                </a:cubicBezTo>
              </a:path>
              <a:path w="2655" h="1762">
                <a:moveTo>
                  <a:pt x="19050" y="12179"/>
                </a:moveTo>
                <a:cubicBezTo>
                  <a:pt x="19050" y="11992"/>
                  <a:pt x="19032" y="11818"/>
                  <a:pt x="19000" y="11633"/>
                </a:cubicBezTo>
                <a:cubicBezTo>
                  <a:pt x="18988" y="11564"/>
                  <a:pt x="18932" y="11396"/>
                  <a:pt x="19000" y="11336"/>
                </a:cubicBezTo>
                <a:cubicBezTo>
                  <a:pt x="19204" y="11155"/>
                  <a:pt x="19840" y="11283"/>
                  <a:pt x="20067" y="11286"/>
                </a:cubicBezTo>
                <a:cubicBezTo>
                  <a:pt x="20286" y="11289"/>
                  <a:pt x="20880" y="11354"/>
                  <a:pt x="20662" y="11336"/>
                </a:cubicBezTo>
                <a:cubicBezTo>
                  <a:pt x="20629" y="11328"/>
                  <a:pt x="20596" y="11319"/>
                  <a:pt x="20563" y="11311"/>
                </a:cubicBezTo>
              </a:path>
              <a:path w="2655" h="1762">
                <a:moveTo>
                  <a:pt x="18157" y="11509"/>
                </a:moveTo>
                <a:cubicBezTo>
                  <a:pt x="18120" y="11629"/>
                  <a:pt x="17989" y="11889"/>
                  <a:pt x="18083" y="12005"/>
                </a:cubicBezTo>
                <a:cubicBezTo>
                  <a:pt x="18212" y="12165"/>
                  <a:pt x="18341" y="11878"/>
                  <a:pt x="18355" y="11807"/>
                </a:cubicBezTo>
                <a:cubicBezTo>
                  <a:pt x="18347" y="11807"/>
                  <a:pt x="18339" y="11807"/>
                  <a:pt x="18331" y="11807"/>
                </a:cubicBezTo>
                <a:cubicBezTo>
                  <a:pt x="18238" y="11853"/>
                  <a:pt x="18079" y="11942"/>
                  <a:pt x="18231" y="11981"/>
                </a:cubicBezTo>
              </a:path>
              <a:path w="2655" h="1762">
                <a:moveTo>
                  <a:pt x="18479" y="11509"/>
                </a:moveTo>
                <a:cubicBezTo>
                  <a:pt x="18479" y="11584"/>
                  <a:pt x="18479" y="11658"/>
                  <a:pt x="18479" y="11733"/>
                </a:cubicBezTo>
                <a:cubicBezTo>
                  <a:pt x="18613" y="11757"/>
                  <a:pt x="18634" y="11728"/>
                  <a:pt x="18752" y="11658"/>
                </a:cubicBezTo>
              </a:path>
              <a:path w="2655" h="1762">
                <a:moveTo>
                  <a:pt x="18728" y="11311"/>
                </a:moveTo>
                <a:cubicBezTo>
                  <a:pt x="18715" y="11464"/>
                  <a:pt x="18660" y="11744"/>
                  <a:pt x="18728" y="11857"/>
                </a:cubicBezTo>
              </a:path>
              <a:path w="2655" h="1762">
                <a:moveTo>
                  <a:pt x="20513" y="10616"/>
                </a:moveTo>
                <a:cubicBezTo>
                  <a:pt x="20406" y="10588"/>
                  <a:pt x="20193" y="10567"/>
                  <a:pt x="20141" y="10716"/>
                </a:cubicBezTo>
                <a:cubicBezTo>
                  <a:pt x="20108" y="10810"/>
                  <a:pt x="20313" y="10922"/>
                  <a:pt x="20365" y="10964"/>
                </a:cubicBezTo>
                <a:cubicBezTo>
                  <a:pt x="20344" y="11045"/>
                  <a:pt x="20302" y="11048"/>
                  <a:pt x="20191" y="11088"/>
                </a:cubicBezTo>
                <a:cubicBezTo>
                  <a:pt x="20220" y="10944"/>
                  <a:pt x="20322" y="10869"/>
                  <a:pt x="20389" y="10740"/>
                </a:cubicBezTo>
                <a:cubicBezTo>
                  <a:pt x="20389" y="10732"/>
                  <a:pt x="20389" y="10724"/>
                  <a:pt x="20389" y="10716"/>
                </a:cubicBezTo>
              </a:path>
              <a:path w="2655" h="1762">
                <a:moveTo>
                  <a:pt x="19869" y="11038"/>
                </a:moveTo>
                <a:cubicBezTo>
                  <a:pt x="19968" y="11247"/>
                  <a:pt x="20060" y="11445"/>
                  <a:pt x="20340" y="11336"/>
                </a:cubicBezTo>
                <a:cubicBezTo>
                  <a:pt x="20520" y="11266"/>
                  <a:pt x="20647" y="11109"/>
                  <a:pt x="20712" y="10939"/>
                </a:cubicBezTo>
                <a:cubicBezTo>
                  <a:pt x="20748" y="10843"/>
                  <a:pt x="20562" y="10614"/>
                  <a:pt x="20513" y="10542"/>
                </a:cubicBezTo>
                <a:cubicBezTo>
                  <a:pt x="20333" y="10276"/>
                  <a:pt x="19966" y="10521"/>
                  <a:pt x="19844" y="10740"/>
                </a:cubicBezTo>
                <a:cubicBezTo>
                  <a:pt x="19611" y="11157"/>
                  <a:pt x="20075" y="11173"/>
                  <a:pt x="20315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34120" y="4160880"/>
            <a:ext cx="27000" cy="117360"/>
          </a:xfrm>
          <a:custGeom>
            <a:avLst/>
            <a:gdLst/>
            <a:ahLst/>
            <a:rect l="l" t="t" r="r" b="b"/>
            <a:pathLst>
              <a:path w="75" h="323">
                <a:moveTo>
                  <a:pt x="19819" y="11559"/>
                </a:moveTo>
                <a:cubicBezTo>
                  <a:pt x="19837" y="11675"/>
                  <a:pt x="19843" y="11781"/>
                  <a:pt x="19893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(PW) page 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8:41:45Z</dcterms:created>
  <dc:creator>ccps</dc:creator>
  <dc:description/>
  <dc:language>en-US</dc:language>
  <cp:lastModifiedBy>deanne mcgrath</cp:lastModifiedBy>
  <dcterms:modified xsi:type="dcterms:W3CDTF">2011-09-13T17:23:31Z</dcterms:modified>
  <cp:revision>13</cp:revision>
  <dc:subject/>
  <dc:title>Exponents</dc:title>
</cp:coreProperties>
</file>